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DD809-6101-4CC3-A68B-2A05A2806B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441F6-2AEC-4B40-8683-0B96783A56B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9EB03-85EE-4ED3-A6B6-BE64927F7A4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D17EB-A25E-4AF6-830E-0510516368A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99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3705B-4B7A-403A-9AE3-73AEC2C60A8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99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9D28F-9C3A-49EA-A0BC-E9585484FD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13DF8-D881-49E5-9839-57CC55A4DFF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99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06B6E-8203-438A-A49A-939C11AD9C6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D2071-A01F-4497-9008-889A03E03C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9933cc"/>
              </a:solidFill>
              <a:latin typeface="Arial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D2E-2AF0-4D3A-9D7C-C3AA1A79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730-5439-4B23-BCE8-E4B512AC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AF1-A846-4CA4-B434-AC39D193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F04-B445-4912-B751-95B6C455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519-D065-4656-9B67-179CDADC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EBA-575A-4BA7-9B39-35ACEFEE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9C4-9B36-44C6-A11D-DAD12F09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926-B6D6-42B5-8190-A911BA78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73A-D36D-4BB0-B01C-D1992273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4DE-1FBD-48E1-9AE8-709DF659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730-EAF1-4183-B723-9F451E1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B91-5CE4-4166-B8F7-99835F0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2E3CE-8DED-4375-9994-B5BBAA868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fld id="{90763F35-AD57-4DFF-A85A-EC36546E52CC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財務管理及預算</a:t>
            </a:r>
            <a:endParaRPr b="0" lang="en-US" sz="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Text Box 1027"/>
          <p:cNvSpPr/>
          <p:nvPr/>
        </p:nvSpPr>
        <p:spPr>
          <a:xfrm>
            <a:off x="152388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財務管理及策劃 – 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028"/>
          <p:cNvSpPr/>
          <p:nvPr/>
        </p:nvSpPr>
        <p:spPr>
          <a:xfrm>
            <a:off x="3124080" y="2133720"/>
            <a:ext cx="495324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029"/>
          <p:cNvGrpSpPr/>
          <p:nvPr/>
        </p:nvGrpSpPr>
        <p:grpSpPr>
          <a:xfrm>
            <a:off x="2187360" y="1716120"/>
            <a:ext cx="586080" cy="1026720"/>
            <a:chOff x="2187360" y="1716120"/>
            <a:chExt cx="586080" cy="1026720"/>
          </a:xfrm>
        </p:grpSpPr>
        <p:sp>
          <p:nvSpPr>
            <p:cNvPr id="55" name="Text Box 1030"/>
            <p:cNvSpPr/>
            <p:nvPr/>
          </p:nvSpPr>
          <p:spPr>
            <a:xfrm>
              <a:off x="2187360" y="171612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會計文員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1031"/>
            <p:cNvGrpSpPr/>
            <p:nvPr/>
          </p:nvGrpSpPr>
          <p:grpSpPr>
            <a:xfrm>
              <a:off x="2352960" y="2148120"/>
              <a:ext cx="237960" cy="594720"/>
              <a:chOff x="2352960" y="2148120"/>
              <a:chExt cx="237960" cy="594720"/>
            </a:xfrm>
          </p:grpSpPr>
          <p:sp>
            <p:nvSpPr>
              <p:cNvPr id="57" name="Oval 1032"/>
              <p:cNvSpPr/>
              <p:nvPr/>
            </p:nvSpPr>
            <p:spPr>
              <a:xfrm>
                <a:off x="2352960" y="214812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Line 1033"/>
              <p:cNvSpPr/>
              <p:nvPr/>
            </p:nvSpPr>
            <p:spPr>
              <a:xfrm flipH="1">
                <a:off x="2352960" y="23857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Line 1034"/>
              <p:cNvSpPr/>
              <p:nvPr/>
            </p:nvSpPr>
            <p:spPr>
              <a:xfrm flipH="1">
                <a:off x="2352960" y="262404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Line 1035"/>
              <p:cNvSpPr/>
              <p:nvPr/>
            </p:nvSpPr>
            <p:spPr>
              <a:xfrm>
                <a:off x="2471760" y="238572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Line 1036"/>
              <p:cNvSpPr/>
              <p:nvPr/>
            </p:nvSpPr>
            <p:spPr>
              <a:xfrm>
                <a:off x="2471760" y="23857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Line 1037"/>
              <p:cNvSpPr/>
              <p:nvPr/>
            </p:nvSpPr>
            <p:spPr>
              <a:xfrm>
                <a:off x="2471760" y="262404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Group 1038"/>
          <p:cNvGrpSpPr/>
          <p:nvPr/>
        </p:nvGrpSpPr>
        <p:grpSpPr>
          <a:xfrm>
            <a:off x="2032560" y="2997360"/>
            <a:ext cx="1081800" cy="1560600"/>
            <a:chOff x="2032560" y="2997360"/>
            <a:chExt cx="1081800" cy="1560600"/>
          </a:xfrm>
        </p:grpSpPr>
        <p:grpSp>
          <p:nvGrpSpPr>
            <p:cNvPr id="64" name="Group 1039"/>
            <p:cNvGrpSpPr/>
            <p:nvPr/>
          </p:nvGrpSpPr>
          <p:grpSpPr>
            <a:xfrm>
              <a:off x="2032560" y="2997360"/>
              <a:ext cx="363600" cy="1017720"/>
              <a:chOff x="2032560" y="2997360"/>
              <a:chExt cx="363600" cy="1017720"/>
            </a:xfrm>
          </p:grpSpPr>
          <p:sp>
            <p:nvSpPr>
              <p:cNvPr id="65" name="Text Box 1040"/>
              <p:cNvSpPr/>
              <p:nvPr/>
            </p:nvSpPr>
            <p:spPr>
              <a:xfrm>
                <a:off x="2032560" y="35560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校長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Group 1041"/>
              <p:cNvGrpSpPr/>
              <p:nvPr/>
            </p:nvGrpSpPr>
            <p:grpSpPr>
              <a:xfrm>
                <a:off x="2089080" y="2997360"/>
                <a:ext cx="237960" cy="595440"/>
                <a:chOff x="2089080" y="2997360"/>
                <a:chExt cx="237960" cy="595440"/>
              </a:xfrm>
            </p:grpSpPr>
            <p:sp>
              <p:nvSpPr>
                <p:cNvPr id="67" name="Oval 1042"/>
                <p:cNvSpPr/>
                <p:nvPr/>
              </p:nvSpPr>
              <p:spPr>
                <a:xfrm>
                  <a:off x="2089080" y="2997360"/>
                  <a:ext cx="237960" cy="23796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Line 1043"/>
                <p:cNvSpPr/>
                <p:nvPr/>
              </p:nvSpPr>
              <p:spPr>
                <a:xfrm flipH="1">
                  <a:off x="2089080" y="323532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Line 1044"/>
                <p:cNvSpPr/>
                <p:nvPr/>
              </p:nvSpPr>
              <p:spPr>
                <a:xfrm flipH="1">
                  <a:off x="2089080" y="347364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Line 1045"/>
                <p:cNvSpPr/>
                <p:nvPr/>
              </p:nvSpPr>
              <p:spPr>
                <a:xfrm>
                  <a:off x="2207880" y="3235320"/>
                  <a:ext cx="0" cy="23832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Line 1046"/>
                <p:cNvSpPr/>
                <p:nvPr/>
              </p:nvSpPr>
              <p:spPr>
                <a:xfrm>
                  <a:off x="2207880" y="323532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Line 1047"/>
                <p:cNvSpPr/>
                <p:nvPr/>
              </p:nvSpPr>
              <p:spPr>
                <a:xfrm>
                  <a:off x="2207880" y="347364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3" name="Group 1048"/>
            <p:cNvGrpSpPr/>
            <p:nvPr/>
          </p:nvGrpSpPr>
          <p:grpSpPr>
            <a:xfrm>
              <a:off x="2293560" y="3357720"/>
              <a:ext cx="820800" cy="1200240"/>
              <a:chOff x="2293560" y="3357720"/>
              <a:chExt cx="820800" cy="1200240"/>
            </a:xfrm>
          </p:grpSpPr>
          <p:sp>
            <p:nvSpPr>
              <p:cNvPr id="74" name="Text Box 1049"/>
              <p:cNvSpPr/>
              <p:nvPr/>
            </p:nvSpPr>
            <p:spPr>
              <a:xfrm>
                <a:off x="2293560" y="3916440"/>
                <a:ext cx="8208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學校管理委員會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5" name="Group 1050"/>
              <p:cNvGrpSpPr/>
              <p:nvPr/>
            </p:nvGrpSpPr>
            <p:grpSpPr>
              <a:xfrm>
                <a:off x="2576520" y="3357720"/>
                <a:ext cx="237960" cy="595440"/>
                <a:chOff x="2576520" y="3357720"/>
                <a:chExt cx="237960" cy="595440"/>
              </a:xfrm>
            </p:grpSpPr>
            <p:sp>
              <p:nvSpPr>
                <p:cNvPr id="76" name="Oval 1051"/>
                <p:cNvSpPr/>
                <p:nvPr/>
              </p:nvSpPr>
              <p:spPr>
                <a:xfrm>
                  <a:off x="2576520" y="3357720"/>
                  <a:ext cx="237960" cy="23796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1052"/>
                <p:cNvSpPr/>
                <p:nvPr/>
              </p:nvSpPr>
              <p:spPr>
                <a:xfrm flipH="1">
                  <a:off x="2576520" y="359568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Line 1053"/>
                <p:cNvSpPr/>
                <p:nvPr/>
              </p:nvSpPr>
              <p:spPr>
                <a:xfrm flipH="1">
                  <a:off x="2576520" y="383400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1054"/>
                <p:cNvSpPr/>
                <p:nvPr/>
              </p:nvSpPr>
              <p:spPr>
                <a:xfrm>
                  <a:off x="2695320" y="3595680"/>
                  <a:ext cx="0" cy="23832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1055"/>
                <p:cNvSpPr/>
                <p:nvPr/>
              </p:nvSpPr>
              <p:spPr>
                <a:xfrm>
                  <a:off x="2695320" y="359568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1056"/>
                <p:cNvSpPr/>
                <p:nvPr/>
              </p:nvSpPr>
              <p:spPr>
                <a:xfrm>
                  <a:off x="2695320" y="383400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2" name="Rectangle 1057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財務管理及策劃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1058"/>
          <p:cNvGrpSpPr/>
          <p:nvPr/>
        </p:nvGrpSpPr>
        <p:grpSpPr>
          <a:xfrm>
            <a:off x="5156280" y="907920"/>
            <a:ext cx="4792320" cy="5313600"/>
            <a:chOff x="5156280" y="907920"/>
            <a:chExt cx="4792320" cy="5313600"/>
          </a:xfrm>
        </p:grpSpPr>
        <p:sp>
          <p:nvSpPr>
            <p:cNvPr id="84" name="Text Box 1059"/>
            <p:cNvSpPr/>
            <p:nvPr/>
          </p:nvSpPr>
          <p:spPr>
            <a:xfrm>
              <a:off x="9435240" y="32781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簿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1060"/>
            <p:cNvGrpSpPr/>
            <p:nvPr/>
          </p:nvGrpSpPr>
          <p:grpSpPr>
            <a:xfrm>
              <a:off x="7708320" y="907920"/>
              <a:ext cx="609840" cy="1076760"/>
              <a:chOff x="7708320" y="907920"/>
              <a:chExt cx="609840" cy="1076760"/>
            </a:xfrm>
          </p:grpSpPr>
          <p:grpSp>
            <p:nvGrpSpPr>
              <p:cNvPr id="86" name="Group 1061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7" name="Line 1062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Line 1063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Line 1064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Line 1065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Line 1066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 Box 1067"/>
              <p:cNvSpPr/>
              <p:nvPr/>
            </p:nvSpPr>
            <p:spPr>
              <a:xfrm>
                <a:off x="783180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 Box 1068"/>
            <p:cNvSpPr/>
            <p:nvPr/>
          </p:nvSpPr>
          <p:spPr>
            <a:xfrm>
              <a:off x="8552520" y="23637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預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1069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1070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Group 1071"/>
            <p:cNvGrpSpPr/>
            <p:nvPr/>
          </p:nvGrpSpPr>
          <p:grpSpPr>
            <a:xfrm>
              <a:off x="8762400" y="3733920"/>
              <a:ext cx="995760" cy="1144800"/>
              <a:chOff x="8762400" y="3733920"/>
              <a:chExt cx="995760" cy="1144800"/>
            </a:xfrm>
          </p:grpSpPr>
          <p:sp>
            <p:nvSpPr>
              <p:cNvPr id="97" name="Text Box 1072"/>
              <p:cNvSpPr/>
              <p:nvPr/>
            </p:nvSpPr>
            <p:spPr>
              <a:xfrm>
                <a:off x="8838720" y="4419720"/>
                <a:ext cx="919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教職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成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Group 1073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99" name="Group 1074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100" name="Oval 1075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Line 1076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1077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Line 1078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Line 1079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Line 1080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6" name="Group 1081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7" name="Oval 1082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Line 1083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Line 1084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1085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1086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1087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3" name="Group 1088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4" name="Oval 1089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Line 1090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Line 1091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Line 1092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Line 1093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Line 1094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0" name="Group 1095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21" name="Oval 1096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Line 1097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Line 1098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Line 1099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Line 1100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Line 1101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127" name="Text Box 1102"/>
            <p:cNvSpPr/>
            <p:nvPr/>
          </p:nvSpPr>
          <p:spPr>
            <a:xfrm>
              <a:off x="8039520" y="54118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固定資產登記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1103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1104"/>
            <p:cNvSpPr/>
            <p:nvPr/>
          </p:nvSpPr>
          <p:spPr>
            <a:xfrm>
              <a:off x="6756480" y="59450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銷售及存貨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1105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1106"/>
            <p:cNvSpPr/>
            <p:nvPr/>
          </p:nvSpPr>
          <p:spPr>
            <a:xfrm>
              <a:off x="5156280" y="579276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其他登記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1107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Line 1108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109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110"/>
          <p:cNvSpPr/>
          <p:nvPr/>
        </p:nvSpPr>
        <p:spPr>
          <a:xfrm>
            <a:off x="5791320" y="2895480"/>
            <a:ext cx="297180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教育局津貼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收入草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支出草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審查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核定</a:t>
            </a: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還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修改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查詢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111"/>
          <p:cNvSpPr/>
          <p:nvPr/>
        </p:nvSpPr>
        <p:spPr>
          <a:xfrm>
            <a:off x="5606280" y="4419720"/>
            <a:ext cx="1734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6.   </a:t>
            </a: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修改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1112"/>
          <p:cNvGrpSpPr/>
          <p:nvPr/>
        </p:nvGrpSpPr>
        <p:grpSpPr>
          <a:xfrm>
            <a:off x="2870640" y="915840"/>
            <a:ext cx="729360" cy="1024920"/>
            <a:chOff x="2870640" y="915840"/>
            <a:chExt cx="729360" cy="1024920"/>
          </a:xfrm>
        </p:grpSpPr>
        <p:sp>
          <p:nvSpPr>
            <p:cNvPr id="138" name="Text Box 1113"/>
            <p:cNvSpPr/>
            <p:nvPr/>
          </p:nvSpPr>
          <p:spPr>
            <a:xfrm>
              <a:off x="2870640" y="915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工作計劃組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1114"/>
            <p:cNvGrpSpPr/>
            <p:nvPr/>
          </p:nvGrpSpPr>
          <p:grpSpPr>
            <a:xfrm>
              <a:off x="3105360" y="1346040"/>
              <a:ext cx="237960" cy="594720"/>
              <a:chOff x="3105360" y="1346040"/>
              <a:chExt cx="237960" cy="594720"/>
            </a:xfrm>
          </p:grpSpPr>
          <p:sp>
            <p:nvSpPr>
              <p:cNvPr id="140" name="Oval 1115"/>
              <p:cNvSpPr/>
              <p:nvPr/>
            </p:nvSpPr>
            <p:spPr>
              <a:xfrm>
                <a:off x="3105360" y="134604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116"/>
              <p:cNvSpPr/>
              <p:nvPr/>
            </p:nvSpPr>
            <p:spPr>
              <a:xfrm flipH="1">
                <a:off x="3105360" y="158364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117"/>
              <p:cNvSpPr/>
              <p:nvPr/>
            </p:nvSpPr>
            <p:spPr>
              <a:xfrm flipH="1">
                <a:off x="3105360" y="182196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118"/>
              <p:cNvSpPr/>
              <p:nvPr/>
            </p:nvSpPr>
            <p:spPr>
              <a:xfrm>
                <a:off x="3224160" y="158364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119"/>
              <p:cNvSpPr/>
              <p:nvPr/>
            </p:nvSpPr>
            <p:spPr>
              <a:xfrm>
                <a:off x="3224160" y="158364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120"/>
              <p:cNvSpPr/>
              <p:nvPr/>
            </p:nvSpPr>
            <p:spPr>
              <a:xfrm>
                <a:off x="3224160" y="182196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Line 1121"/>
          <p:cNvSpPr/>
          <p:nvPr/>
        </p:nvSpPr>
        <p:spPr>
          <a:xfrm>
            <a:off x="3505320" y="1676520"/>
            <a:ext cx="449568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修改預算</a:t>
            </a:r>
            <a:r>
              <a:rPr b="0" lang="zh-CN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438280" y="10666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預算 — 修改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438280" y="2057400"/>
            <a:ext cx="73915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目的：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以修改已核定的收入預算。用戶可編輯現有的預算行或新增預算行，而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「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收入及支出預算修改紀錄」報告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BG011-C)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會記錄所有修改過的紀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對於擁有多個學校級別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授課制的學校，用戶應分別為各學校級別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授課制進行修改預算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修改收入預算</a:t>
            </a:r>
            <a:r>
              <a:rPr b="1" lang="zh-CN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0" y="1371600"/>
            <a:ext cx="7824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01520" algn="just"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用戶必須接獲法團校董會（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IMC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）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的批准後，才可修改預算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101520" algn="just"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在修改預算功能下，是不允許刪除資料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101520" algn="just"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預算修改後，剛修改的預算金額，將會設定為最後修改預算金額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101520" algn="just"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101520" algn="just"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零金額可以在預算輸入版面中顯示，但該金額在查詢版面及所有的預算報告中會被剔除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101520" algn="just"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imSun"/>
                <a:ea typeface="新細明體"/>
              </a:rPr>
              <a:t>收入</a:t>
            </a:r>
            <a:r>
              <a:rPr b="0" lang="zh-CN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3" name="Group 39"/>
          <p:cNvGrpSpPr/>
          <p:nvPr/>
        </p:nvGrpSpPr>
        <p:grpSpPr>
          <a:xfrm>
            <a:off x="5808600" y="3352680"/>
            <a:ext cx="4630680" cy="2572200"/>
            <a:chOff x="5808600" y="3352680"/>
            <a:chExt cx="4630680" cy="2572200"/>
          </a:xfrm>
        </p:grpSpPr>
        <p:sp>
          <p:nvSpPr>
            <p:cNvPr id="154" name="AutoShape 40"/>
            <p:cNvSpPr/>
            <p:nvPr/>
          </p:nvSpPr>
          <p:spPr>
            <a:xfrm>
              <a:off x="5808600" y="3352680"/>
              <a:ext cx="4630680" cy="25722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41"/>
            <p:cNvSpPr/>
            <p:nvPr/>
          </p:nvSpPr>
          <p:spPr>
            <a:xfrm>
              <a:off x="5808600" y="3352680"/>
              <a:ext cx="463068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在左邊項目選單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修改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收入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標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依預設，系統會顯示 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收入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版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學校級別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授課制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157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Rectangle 43"/>
          <p:cNvSpPr/>
          <p:nvPr/>
        </p:nvSpPr>
        <p:spPr>
          <a:xfrm>
            <a:off x="0" y="-64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修改收入預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1919160" y="547560"/>
            <a:ext cx="68580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6600960" y="1106640"/>
            <a:ext cx="3838320" cy="3776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2"/>
          <p:cNvSpPr/>
          <p:nvPr/>
        </p:nvSpPr>
        <p:spPr>
          <a:xfrm>
            <a:off x="3359160" y="1106640"/>
            <a:ext cx="1847880" cy="3776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imSun"/>
                <a:ea typeface="新細明體"/>
              </a:rPr>
              <a:t>收入</a:t>
            </a:r>
            <a:r>
              <a:rPr b="0" lang="zh-CN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7608960" y="527040"/>
            <a:ext cx="4419360" cy="1877760"/>
            <a:chOff x="7608960" y="527040"/>
            <a:chExt cx="4419360" cy="1877760"/>
          </a:xfrm>
        </p:grpSpPr>
        <p:sp>
          <p:nvSpPr>
            <p:cNvPr id="165" name="AutoShape 10"/>
            <p:cNvSpPr/>
            <p:nvPr/>
          </p:nvSpPr>
          <p:spPr>
            <a:xfrm>
              <a:off x="7608960" y="527040"/>
              <a:ext cx="4419360" cy="1877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7608960" y="527040"/>
              <a:ext cx="4419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輸入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現行修改預算金額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對於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新增行數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帳目代碼表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，詳情請參考「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收入草案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6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Oval 12"/>
          <p:cNvSpPr/>
          <p:nvPr/>
        </p:nvSpPr>
        <p:spPr>
          <a:xfrm>
            <a:off x="2066760" y="798480"/>
            <a:ext cx="83844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924520" y="2895480"/>
            <a:ext cx="1684440" cy="36975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170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 43"/>
          <p:cNvSpPr/>
          <p:nvPr/>
        </p:nvSpPr>
        <p:spPr>
          <a:xfrm>
            <a:off x="0" y="-64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修改收入預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修改支出預算</a:t>
            </a:r>
            <a:r>
              <a:rPr b="1" lang="zh-CN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0" y="1295280"/>
            <a:ext cx="7824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必須接獲法團校董會（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IMC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）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的批准後，才可修改預算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在修改預算功能下，是不允許刪除工作計劃和預算行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預算修改後，剛修改的預算金額，將會設定為最後修改預算金額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.</a:t>
            </a:r>
            <a:r>
              <a:rPr b="0" lang="zh-CN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支出</a:t>
            </a:r>
            <a:r>
              <a:rPr b="0" lang="zh-CN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5664240" y="3124080"/>
            <a:ext cx="4774680" cy="2896920"/>
            <a:chOff x="5664240" y="3124080"/>
            <a:chExt cx="4774680" cy="2896920"/>
          </a:xfrm>
        </p:grpSpPr>
        <p:sp>
          <p:nvSpPr>
            <p:cNvPr id="177" name="AutoShape 19"/>
            <p:cNvSpPr/>
            <p:nvPr/>
          </p:nvSpPr>
          <p:spPr>
            <a:xfrm>
              <a:off x="5664240" y="3124080"/>
              <a:ext cx="4774680" cy="28969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5664240" y="3124080"/>
              <a:ext cx="477468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在左邊項目選單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修改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支出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標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依預設，系統會顯示  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收入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版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學校級別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授課制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]</a:t>
              </a:r>
              <a:r>
                <a:rPr b="0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180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22"/>
          <p:cNvSpPr/>
          <p:nvPr/>
        </p:nvSpPr>
        <p:spPr>
          <a:xfrm>
            <a:off x="0" y="4680"/>
            <a:ext cx="3505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修改支出預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30"/>
          <p:cNvSpPr/>
          <p:nvPr/>
        </p:nvSpPr>
        <p:spPr>
          <a:xfrm>
            <a:off x="2424240" y="566640"/>
            <a:ext cx="68580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2"/>
          <p:cNvSpPr/>
          <p:nvPr/>
        </p:nvSpPr>
        <p:spPr>
          <a:xfrm>
            <a:off x="6600960" y="1106640"/>
            <a:ext cx="3838320" cy="3776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3487680" y="1106640"/>
            <a:ext cx="1168560" cy="3776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支出</a:t>
            </a:r>
            <a:r>
              <a:rPr b="0" lang="zh-CN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6095880" y="5105520"/>
            <a:ext cx="4419720" cy="1182600"/>
            <a:chOff x="6095880" y="5105520"/>
            <a:chExt cx="4419720" cy="1182600"/>
          </a:xfrm>
        </p:grpSpPr>
        <p:sp>
          <p:nvSpPr>
            <p:cNvPr id="188" name="AutoShape 13"/>
            <p:cNvSpPr/>
            <p:nvPr/>
          </p:nvSpPr>
          <p:spPr>
            <a:xfrm>
              <a:off x="6095880" y="5105520"/>
              <a:ext cx="4419720" cy="1182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095880" y="5105520"/>
              <a:ext cx="4419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工作計劃代碼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超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連結</a:t>
              </a:r>
              <a:r>
                <a:rPr b="1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Rectangle 16"/>
          <p:cNvSpPr/>
          <p:nvPr/>
        </p:nvSpPr>
        <p:spPr>
          <a:xfrm>
            <a:off x="1919160" y="3276720"/>
            <a:ext cx="685800" cy="3045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192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Rectangle 17"/>
          <p:cNvSpPr/>
          <p:nvPr/>
        </p:nvSpPr>
        <p:spPr>
          <a:xfrm>
            <a:off x="0" y="-1440"/>
            <a:ext cx="3505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修改支出預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支出</a:t>
            </a:r>
            <a:r>
              <a:rPr b="0" lang="zh-CN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96" name="Group 13"/>
          <p:cNvGrpSpPr/>
          <p:nvPr/>
        </p:nvGrpSpPr>
        <p:grpSpPr>
          <a:xfrm>
            <a:off x="7464600" y="1916280"/>
            <a:ext cx="4419360" cy="1855440"/>
            <a:chOff x="7464600" y="1916280"/>
            <a:chExt cx="4419360" cy="1855440"/>
          </a:xfrm>
        </p:grpSpPr>
        <p:sp>
          <p:nvSpPr>
            <p:cNvPr id="197" name="AutoShape 14"/>
            <p:cNvSpPr/>
            <p:nvPr/>
          </p:nvSpPr>
          <p:spPr>
            <a:xfrm>
              <a:off x="7464600" y="1916280"/>
              <a:ext cx="4419360" cy="18554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 Box 15"/>
            <p:cNvSpPr/>
            <p:nvPr/>
          </p:nvSpPr>
          <p:spPr>
            <a:xfrm>
              <a:off x="7464600" y="1916280"/>
              <a:ext cx="4419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輸入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現行修改預算金額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6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對於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新增行數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帳目代碼表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，詳情請參考「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收入草案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7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Oval 16"/>
          <p:cNvSpPr/>
          <p:nvPr/>
        </p:nvSpPr>
        <p:spPr>
          <a:xfrm>
            <a:off x="2208240" y="820800"/>
            <a:ext cx="60948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7175520" y="4365720"/>
            <a:ext cx="1297080" cy="20160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202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Rectangle 18"/>
          <p:cNvSpPr/>
          <p:nvPr/>
        </p:nvSpPr>
        <p:spPr>
          <a:xfrm>
            <a:off x="0" y="0"/>
            <a:ext cx="3505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修改支出預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FUNG, Kam-kong Samuel</cp:lastModifiedBy>
  <dcterms:modified xsi:type="dcterms:W3CDTF">2024-10-28T06:19:17Z</dcterms:modified>
  <cp:revision>279</cp:revision>
  <dc:subject/>
  <dc:title>School Management</dc:title>
</cp:coreProperties>
</file>