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000000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F9315-AF4F-4B04-9B31-0EA48D2A3B89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1249C-03FE-4FF0-8A0C-7B6C778C5FA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5B1A6-5D1B-40A2-88BC-AECD69A6299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19F91-F461-4161-9423-9D279B72BB4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1C8-1BE7-433C-9FDB-76BFB9C4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11C-3767-4626-9915-DAC77000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702-BAA4-4B30-AED6-C53EEA4F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C6A-C7B9-491C-AE28-FEE958C7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067-E1EF-42EF-8AFA-6454727C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073-4F63-478C-AA4F-CDF08964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092-FF84-4427-9912-467388B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589-4899-4428-8571-D2DCB1F1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116-94EA-4375-B26F-8C9D295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A45-D4BD-4806-BA94-D19FC3D3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347-9A4F-449F-97BA-AFFF159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489-64EC-4E25-A8DE-0D8EAF5D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F00C3-CE9C-4D6C-B301-8CDD34F38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fld id="{47A6B39B-F7E3-4FFB-8CA7-D9A5FAC362A7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53120" y="5946480"/>
            <a:ext cx="83844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財務管理及預算</a:t>
            </a:r>
            <a:r>
              <a:rPr b="0" lang="zh-CN" sz="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209680" y="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財務管理及策劃 – 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4"/>
          <p:cNvSpPr/>
          <p:nvPr/>
        </p:nvSpPr>
        <p:spPr>
          <a:xfrm>
            <a:off x="2743200" y="2133720"/>
            <a:ext cx="53341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2045880" y="1601640"/>
            <a:ext cx="546480" cy="1024920"/>
            <a:chOff x="2045880" y="1601640"/>
            <a:chExt cx="546480" cy="1024920"/>
          </a:xfrm>
        </p:grpSpPr>
        <p:sp>
          <p:nvSpPr>
            <p:cNvPr id="55" name="Text Box 6"/>
            <p:cNvSpPr/>
            <p:nvPr/>
          </p:nvSpPr>
          <p:spPr>
            <a:xfrm>
              <a:off x="2045880" y="1601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會計文員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7"/>
            <p:cNvGrpSpPr/>
            <p:nvPr/>
          </p:nvGrpSpPr>
          <p:grpSpPr>
            <a:xfrm>
              <a:off x="2190960" y="2031840"/>
              <a:ext cx="237960" cy="594720"/>
              <a:chOff x="2190960" y="2031840"/>
              <a:chExt cx="237960" cy="594720"/>
            </a:xfrm>
          </p:grpSpPr>
          <p:sp>
            <p:nvSpPr>
              <p:cNvPr id="57" name="Oval 8"/>
              <p:cNvSpPr/>
              <p:nvPr/>
            </p:nvSpPr>
            <p:spPr>
              <a:xfrm>
                <a:off x="2190960" y="203184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Line 9"/>
              <p:cNvSpPr/>
              <p:nvPr/>
            </p:nvSpPr>
            <p:spPr>
              <a:xfrm flipH="1">
                <a:off x="2190960" y="226944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Line 10"/>
              <p:cNvSpPr/>
              <p:nvPr/>
            </p:nvSpPr>
            <p:spPr>
              <a:xfrm flipH="1">
                <a:off x="2190960" y="250776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Line 11"/>
              <p:cNvSpPr/>
              <p:nvPr/>
            </p:nvSpPr>
            <p:spPr>
              <a:xfrm>
                <a:off x="2309760" y="226944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Line 12"/>
              <p:cNvSpPr/>
              <p:nvPr/>
            </p:nvSpPr>
            <p:spPr>
              <a:xfrm>
                <a:off x="2309760" y="226944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Line 13"/>
              <p:cNvSpPr/>
              <p:nvPr/>
            </p:nvSpPr>
            <p:spPr>
              <a:xfrm>
                <a:off x="2309760" y="250776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Group 14"/>
          <p:cNvGrpSpPr/>
          <p:nvPr/>
        </p:nvGrpSpPr>
        <p:grpSpPr>
          <a:xfrm>
            <a:off x="2032560" y="2997360"/>
            <a:ext cx="1081080" cy="1378080"/>
            <a:chOff x="2032560" y="2997360"/>
            <a:chExt cx="1081080" cy="1378080"/>
          </a:xfrm>
        </p:grpSpPr>
        <p:grpSp>
          <p:nvGrpSpPr>
            <p:cNvPr id="64" name="Group 15"/>
            <p:cNvGrpSpPr/>
            <p:nvPr/>
          </p:nvGrpSpPr>
          <p:grpSpPr>
            <a:xfrm>
              <a:off x="2032560" y="2997360"/>
              <a:ext cx="363600" cy="1200240"/>
              <a:chOff x="2032560" y="2997360"/>
              <a:chExt cx="363600" cy="1200240"/>
            </a:xfrm>
          </p:grpSpPr>
          <p:sp>
            <p:nvSpPr>
              <p:cNvPr id="65" name="Text Box 16"/>
              <p:cNvSpPr/>
              <p:nvPr/>
            </p:nvSpPr>
            <p:spPr>
              <a:xfrm>
                <a:off x="2032560" y="3556080"/>
                <a:ext cx="363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校長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2089440" y="2997360"/>
                <a:ext cx="237960" cy="595440"/>
                <a:chOff x="2089440" y="2997360"/>
                <a:chExt cx="237960" cy="595440"/>
              </a:xfrm>
            </p:grpSpPr>
            <p:sp>
              <p:nvSpPr>
                <p:cNvPr id="67" name="Oval 18"/>
                <p:cNvSpPr/>
                <p:nvPr/>
              </p:nvSpPr>
              <p:spPr>
                <a:xfrm>
                  <a:off x="2089440" y="2997360"/>
                  <a:ext cx="237960" cy="23796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 flipH="1">
                  <a:off x="2089440" y="323532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 flipH="1">
                  <a:off x="2089440" y="347364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Line 21"/>
                <p:cNvSpPr/>
                <p:nvPr/>
              </p:nvSpPr>
              <p:spPr>
                <a:xfrm>
                  <a:off x="2208240" y="3235320"/>
                  <a:ext cx="0" cy="23832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Line 22"/>
                <p:cNvSpPr/>
                <p:nvPr/>
              </p:nvSpPr>
              <p:spPr>
                <a:xfrm>
                  <a:off x="2208240" y="323532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Line 23"/>
                <p:cNvSpPr/>
                <p:nvPr/>
              </p:nvSpPr>
              <p:spPr>
                <a:xfrm>
                  <a:off x="2208240" y="347364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3" name="Group 24"/>
            <p:cNvGrpSpPr/>
            <p:nvPr/>
          </p:nvGrpSpPr>
          <p:grpSpPr>
            <a:xfrm>
              <a:off x="2292840" y="3357720"/>
              <a:ext cx="820800" cy="1017720"/>
              <a:chOff x="2292840" y="3357720"/>
              <a:chExt cx="820800" cy="1017720"/>
            </a:xfrm>
          </p:grpSpPr>
          <p:sp>
            <p:nvSpPr>
              <p:cNvPr id="74" name="Text Box 25"/>
              <p:cNvSpPr/>
              <p:nvPr/>
            </p:nvSpPr>
            <p:spPr>
              <a:xfrm>
                <a:off x="2292840" y="3916440"/>
                <a:ext cx="820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學校管理委員會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5" name="Group 26"/>
              <p:cNvGrpSpPr/>
              <p:nvPr/>
            </p:nvGrpSpPr>
            <p:grpSpPr>
              <a:xfrm>
                <a:off x="2576520" y="3357720"/>
                <a:ext cx="237960" cy="595440"/>
                <a:chOff x="2576520" y="3357720"/>
                <a:chExt cx="237960" cy="595440"/>
              </a:xfrm>
            </p:grpSpPr>
            <p:sp>
              <p:nvSpPr>
                <p:cNvPr id="76" name="Oval 27"/>
                <p:cNvSpPr/>
                <p:nvPr/>
              </p:nvSpPr>
              <p:spPr>
                <a:xfrm>
                  <a:off x="2576520" y="3357720"/>
                  <a:ext cx="237960" cy="23796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28"/>
                <p:cNvSpPr/>
                <p:nvPr/>
              </p:nvSpPr>
              <p:spPr>
                <a:xfrm flipH="1">
                  <a:off x="2576520" y="359568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Line 29"/>
                <p:cNvSpPr/>
                <p:nvPr/>
              </p:nvSpPr>
              <p:spPr>
                <a:xfrm flipH="1">
                  <a:off x="2576520" y="383400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30"/>
                <p:cNvSpPr/>
                <p:nvPr/>
              </p:nvSpPr>
              <p:spPr>
                <a:xfrm>
                  <a:off x="2695320" y="3595680"/>
                  <a:ext cx="0" cy="23832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31"/>
                <p:cNvSpPr/>
                <p:nvPr/>
              </p:nvSpPr>
              <p:spPr>
                <a:xfrm>
                  <a:off x="2695320" y="359568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32"/>
                <p:cNvSpPr/>
                <p:nvPr/>
              </p:nvSpPr>
              <p:spPr>
                <a:xfrm>
                  <a:off x="2695320" y="383400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2" name="Rectangle 33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財務管理及策劃</a:t>
            </a:r>
            <a:r>
              <a:rPr b="0" lang="zh-CN" sz="1200" spc="-1" strike="noStrike">
                <a:solidFill>
                  <a:srgbClr val="ed7d31"/>
                </a:solidFill>
                <a:latin typeface="Trebuchet MS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4"/>
          <p:cNvGrpSpPr/>
          <p:nvPr/>
        </p:nvGrpSpPr>
        <p:grpSpPr>
          <a:xfrm>
            <a:off x="5156280" y="907920"/>
            <a:ext cx="4792320" cy="5312160"/>
            <a:chOff x="5156280" y="907920"/>
            <a:chExt cx="4792320" cy="5312160"/>
          </a:xfrm>
        </p:grpSpPr>
        <p:sp>
          <p:nvSpPr>
            <p:cNvPr id="84" name="Text Box 35"/>
            <p:cNvSpPr/>
            <p:nvPr/>
          </p:nvSpPr>
          <p:spPr>
            <a:xfrm>
              <a:off x="9435240" y="3274920"/>
              <a:ext cx="3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簿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36"/>
            <p:cNvGrpSpPr/>
            <p:nvPr/>
          </p:nvGrpSpPr>
          <p:grpSpPr>
            <a:xfrm>
              <a:off x="7708320" y="907920"/>
              <a:ext cx="609840" cy="1076760"/>
              <a:chOff x="7708320" y="907920"/>
              <a:chExt cx="609840" cy="1076760"/>
            </a:xfrm>
          </p:grpSpPr>
          <p:grpSp>
            <p:nvGrpSpPr>
              <p:cNvPr id="86" name="Group 37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7" name="Line 38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Line 39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Line 40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Line 41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Line 42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 Box 43"/>
              <p:cNvSpPr/>
              <p:nvPr/>
            </p:nvSpPr>
            <p:spPr>
              <a:xfrm>
                <a:off x="783180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 Box 44"/>
            <p:cNvSpPr/>
            <p:nvPr/>
          </p:nvSpPr>
          <p:spPr>
            <a:xfrm>
              <a:off x="8552520" y="23637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預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45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46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Group 47"/>
            <p:cNvGrpSpPr/>
            <p:nvPr/>
          </p:nvGrpSpPr>
          <p:grpSpPr>
            <a:xfrm>
              <a:off x="8762400" y="3733920"/>
              <a:ext cx="995760" cy="1144800"/>
              <a:chOff x="8762400" y="3733920"/>
              <a:chExt cx="995760" cy="1144800"/>
            </a:xfrm>
          </p:grpSpPr>
          <p:sp>
            <p:nvSpPr>
              <p:cNvPr id="97" name="Text Box 48"/>
              <p:cNvSpPr/>
              <p:nvPr/>
            </p:nvSpPr>
            <p:spPr>
              <a:xfrm>
                <a:off x="8838720" y="4419720"/>
                <a:ext cx="919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教職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成本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Group 49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99" name="Group 50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100" name="Oval 51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Line 52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53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Line 54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Line 55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Line 56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6" name="Group 57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7" name="Oval 58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Line 59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Line 60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61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62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63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3" name="Group 64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4" name="Oval 65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Line 66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Line 67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Line 68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Line 69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Line 70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0" name="Group 71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21" name="Oval 72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Line 73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Line 74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Line 75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Line 76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Line 77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127" name="Text Box 78"/>
            <p:cNvSpPr/>
            <p:nvPr/>
          </p:nvSpPr>
          <p:spPr>
            <a:xfrm>
              <a:off x="8020440" y="541008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固定資產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79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80"/>
            <p:cNvSpPr/>
            <p:nvPr/>
          </p:nvSpPr>
          <p:spPr>
            <a:xfrm>
              <a:off x="6735960" y="594360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銷售及存貨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81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82"/>
            <p:cNvSpPr/>
            <p:nvPr/>
          </p:nvSpPr>
          <p:spPr>
            <a:xfrm>
              <a:off x="5156280" y="579276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其他登記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83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Line 84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85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86"/>
          <p:cNvSpPr/>
          <p:nvPr/>
        </p:nvSpPr>
        <p:spPr>
          <a:xfrm>
            <a:off x="5791320" y="289548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教統局津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收入草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支出草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審查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核定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還原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修改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查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7"/>
          <p:cNvSpPr/>
          <p:nvPr/>
        </p:nvSpPr>
        <p:spPr>
          <a:xfrm>
            <a:off x="6000480" y="2971800"/>
            <a:ext cx="11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教育局津貼</a:t>
            </a:r>
            <a:r>
              <a:rPr b="0" lang="zh-CN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8"/>
          <p:cNvGrpSpPr/>
          <p:nvPr/>
        </p:nvGrpSpPr>
        <p:grpSpPr>
          <a:xfrm>
            <a:off x="2870640" y="915840"/>
            <a:ext cx="729360" cy="1024920"/>
            <a:chOff x="2870640" y="915840"/>
            <a:chExt cx="729360" cy="1024920"/>
          </a:xfrm>
        </p:grpSpPr>
        <p:sp>
          <p:nvSpPr>
            <p:cNvPr id="138" name="Text Box 89"/>
            <p:cNvSpPr/>
            <p:nvPr/>
          </p:nvSpPr>
          <p:spPr>
            <a:xfrm>
              <a:off x="2870640" y="915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工作計劃組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90"/>
            <p:cNvGrpSpPr/>
            <p:nvPr/>
          </p:nvGrpSpPr>
          <p:grpSpPr>
            <a:xfrm>
              <a:off x="3105360" y="1346040"/>
              <a:ext cx="237960" cy="594720"/>
              <a:chOff x="3105360" y="1346040"/>
              <a:chExt cx="237960" cy="594720"/>
            </a:xfrm>
          </p:grpSpPr>
          <p:sp>
            <p:nvSpPr>
              <p:cNvPr id="140" name="Oval 91"/>
              <p:cNvSpPr/>
              <p:nvPr/>
            </p:nvSpPr>
            <p:spPr>
              <a:xfrm>
                <a:off x="3105360" y="134604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92"/>
              <p:cNvSpPr/>
              <p:nvPr/>
            </p:nvSpPr>
            <p:spPr>
              <a:xfrm flipH="1">
                <a:off x="3105360" y="158364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93"/>
              <p:cNvSpPr/>
              <p:nvPr/>
            </p:nvSpPr>
            <p:spPr>
              <a:xfrm flipH="1">
                <a:off x="3105360" y="182196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94"/>
              <p:cNvSpPr/>
              <p:nvPr/>
            </p:nvSpPr>
            <p:spPr>
              <a:xfrm>
                <a:off x="3224160" y="158364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95"/>
              <p:cNvSpPr/>
              <p:nvPr/>
            </p:nvSpPr>
            <p:spPr>
              <a:xfrm>
                <a:off x="3224160" y="158364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96"/>
              <p:cNvSpPr/>
              <p:nvPr/>
            </p:nvSpPr>
            <p:spPr>
              <a:xfrm>
                <a:off x="3224160" y="182196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Line 97"/>
          <p:cNvSpPr/>
          <p:nvPr/>
        </p:nvSpPr>
        <p:spPr>
          <a:xfrm>
            <a:off x="3886200" y="1676520"/>
            <a:ext cx="411480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教育局津貼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438280" y="10666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預算 — 教育局津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362320" y="1752480"/>
            <a:ext cx="76197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用戶可跟據教育局撥款通知單把教育局津貼金額輸入系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如製作預算時，系統會啟動教育局津貼的自動核對功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每當增新新的會計年度時，各學校級別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授課制的教育局津貼金額會預設為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當教育局津貼的金額大於零，系統會啟動核對功能。預算金額會與教育局金額作比較，此外，在製作預算時，教育局津貼金額會與預算金額之間進行核對工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此功能為選擇性項目。若不使用此功能，即教育局津貼的金額為零，系統將不會核對預算金額與教育局津貼金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教育局津貼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6172200" y="4648320"/>
            <a:ext cx="4267080" cy="1673280"/>
            <a:chOff x="6172200" y="4648320"/>
            <a:chExt cx="4267080" cy="1673280"/>
          </a:xfrm>
        </p:grpSpPr>
        <p:sp>
          <p:nvSpPr>
            <p:cNvPr id="152" name="AutoShape 27"/>
            <p:cNvSpPr/>
            <p:nvPr/>
          </p:nvSpPr>
          <p:spPr>
            <a:xfrm>
              <a:off x="6172200" y="4648320"/>
              <a:ext cx="4267080" cy="1673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6172200" y="4648320"/>
              <a:ext cx="426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按下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左邊項目選單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的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教育局津貼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Rectangle 17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0" y="1844640"/>
            <a:ext cx="1847880" cy="474192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0" y="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編修教育局津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教育局津貼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6383160" y="3429000"/>
            <a:ext cx="4267440" cy="1797480"/>
            <a:chOff x="6383160" y="3429000"/>
            <a:chExt cx="4267440" cy="1797480"/>
          </a:xfrm>
        </p:grpSpPr>
        <p:sp>
          <p:nvSpPr>
            <p:cNvPr id="159" name="AutoShape 9"/>
            <p:cNvSpPr/>
            <p:nvPr/>
          </p:nvSpPr>
          <p:spPr>
            <a:xfrm>
              <a:off x="6383160" y="3429000"/>
              <a:ext cx="4267440" cy="17114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6383160" y="3429000"/>
              <a:ext cx="4267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步：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學校級別</a:t>
              </a:r>
              <a:r>
                <a:rPr b="1" lang="en-US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授課制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及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輸入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教育局津貼金額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Rectangle 14"/>
          <p:cNvSpPr/>
          <p:nvPr/>
        </p:nvSpPr>
        <p:spPr>
          <a:xfrm>
            <a:off x="7967520" y="907920"/>
            <a:ext cx="2400480" cy="16574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20"/>
          <p:cNvSpPr/>
          <p:nvPr/>
        </p:nvSpPr>
        <p:spPr>
          <a:xfrm>
            <a:off x="2135160" y="54936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0" y="1844640"/>
            <a:ext cx="1847880" cy="474192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0" y="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編修教育局津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3586320" y="903240"/>
            <a:ext cx="236520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3586320" y="1284120"/>
            <a:ext cx="2365200" cy="3812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教育局津貼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8915400" y="5114880"/>
            <a:ext cx="1447560" cy="1285560"/>
            <a:chOff x="8915400" y="5114880"/>
            <a:chExt cx="1447560" cy="1285560"/>
          </a:xfrm>
        </p:grpSpPr>
        <p:sp>
          <p:nvSpPr>
            <p:cNvPr id="170" name="AutoShape 8"/>
            <p:cNvSpPr/>
            <p:nvPr/>
          </p:nvSpPr>
          <p:spPr>
            <a:xfrm flipV="1">
              <a:off x="8997840" y="5771880"/>
              <a:ext cx="1295280" cy="62064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8915400" y="5114880"/>
              <a:ext cx="144756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按退出按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返回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10"/>
          <p:cNvGrpSpPr/>
          <p:nvPr/>
        </p:nvGrpSpPr>
        <p:grpSpPr>
          <a:xfrm>
            <a:off x="4419720" y="2209680"/>
            <a:ext cx="4038480" cy="1219320"/>
            <a:chOff x="4419720" y="2209680"/>
            <a:chExt cx="4038480" cy="1219320"/>
          </a:xfrm>
        </p:grpSpPr>
        <p:sp>
          <p:nvSpPr>
            <p:cNvPr id="173" name="AutoShape 11"/>
            <p:cNvSpPr/>
            <p:nvPr/>
          </p:nvSpPr>
          <p:spPr>
            <a:xfrm>
              <a:off x="4419720" y="2209680"/>
              <a:ext cx="4038480" cy="1219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4419720" y="2209680"/>
              <a:ext cx="40384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   </a:t>
              </a:r>
              <a:r>
                <a:rPr b="0" lang="zh-TW" sz="1600" spc="-1" strike="noStrike">
                  <a:solidFill>
                    <a:srgbClr val="ffffff"/>
                  </a:solidFill>
                  <a:latin typeface="SimSun"/>
                  <a:ea typeface="新細明體"/>
                </a:rPr>
                <a:t>紀錄成功更新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Rectangle 17"/>
          <p:cNvSpPr/>
          <p:nvPr/>
        </p:nvSpPr>
        <p:spPr>
          <a:xfrm>
            <a:off x="0" y="0"/>
            <a:ext cx="1847880" cy="141300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0" y="1844640"/>
            <a:ext cx="1847880" cy="474192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0" y="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編修教育局津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2171880" y="78264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FUNG, Kam-kong Samuel</cp:lastModifiedBy>
  <dcterms:modified xsi:type="dcterms:W3CDTF">2024-10-28T04:07:26Z</dcterms:modified>
  <cp:revision>238</cp:revision>
  <dc:subject/>
  <dc:title>School Management</dc:title>
</cp:coreProperties>
</file>