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6F881-A6E2-49D6-9981-163EAB43E95E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DFCDB-A394-4AEF-B389-97BED55C6D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2DE81-E01F-4DDB-8D4E-60B2F06CC14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E1C77-7253-4ADF-BAF4-5B77EBCF5C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9933cc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93D65-5BD6-4DB8-9BA5-E0D562F6FD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6F0-07D1-44F6-83C4-8576FD95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F8F-98B5-43E5-B8F5-4243937A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1E0-9BAC-475F-B6F9-9C5C92E8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0DE-BA75-4124-98CB-409E20C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681-B7E3-409A-AA0D-4120AE4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FBA-2881-40A7-992D-086573A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013-5C25-402C-95BF-94348B84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D57-FD4F-4386-890C-DA645AD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7CB-CC5E-410A-A91A-D8763684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8F3-CFA1-4E1E-88D3-2FB4BB19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2D0-F628-43E9-802B-9CE913B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95E-9CA2-408C-8615-307F229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AF0FA-9C3B-4C38-8562-12C17AC3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604955C3-2126-4958-8E7E-CFD77EF96825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財務管理及策劃</a:t>
            </a:r>
            <a:r>
              <a:rPr b="0" lang="zh-CN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/</a:t>
            </a:r>
            <a:r>
              <a:rPr b="0" lang="zh-TW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預算</a:t>
            </a:r>
            <a:r>
              <a:rPr b="0" lang="zh-CN" sz="200" spc="-1" strike="noStrike">
                <a:solidFill>
                  <a:srgbClr val="b2b2b2"/>
                </a:solidFill>
                <a:latin typeface="新細明體"/>
                <a:ea typeface="新細明體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 – 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2012040" y="1268280"/>
            <a:ext cx="1122120" cy="2922840"/>
            <a:chOff x="2012040" y="1268280"/>
            <a:chExt cx="1122120" cy="2922840"/>
          </a:xfrm>
        </p:grpSpPr>
        <p:grpSp>
          <p:nvGrpSpPr>
            <p:cNvPr id="55" name="Group 6"/>
            <p:cNvGrpSpPr/>
            <p:nvPr/>
          </p:nvGrpSpPr>
          <p:grpSpPr>
            <a:xfrm>
              <a:off x="2371320" y="1268280"/>
              <a:ext cx="586080" cy="1026720"/>
              <a:chOff x="2371320" y="1268280"/>
              <a:chExt cx="586080" cy="1026720"/>
            </a:xfrm>
          </p:grpSpPr>
          <p:sp>
            <p:nvSpPr>
              <p:cNvPr id="56" name="Text Box 7"/>
              <p:cNvSpPr/>
              <p:nvPr/>
            </p:nvSpPr>
            <p:spPr>
              <a:xfrm>
                <a:off x="2371320" y="1268280"/>
                <a:ext cx="58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會計文員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" name="Group 8"/>
              <p:cNvGrpSpPr/>
              <p:nvPr/>
            </p:nvGrpSpPr>
            <p:grpSpPr>
              <a:xfrm>
                <a:off x="2536920" y="1700280"/>
                <a:ext cx="237960" cy="594720"/>
                <a:chOff x="2536920" y="1700280"/>
                <a:chExt cx="237960" cy="594720"/>
              </a:xfrm>
            </p:grpSpPr>
            <p:sp>
              <p:nvSpPr>
                <p:cNvPr id="58" name="Oval 9"/>
                <p:cNvSpPr/>
                <p:nvPr/>
              </p:nvSpPr>
              <p:spPr>
                <a:xfrm>
                  <a:off x="2536920" y="170028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" name="Line 10"/>
                <p:cNvSpPr/>
                <p:nvPr/>
              </p:nvSpPr>
              <p:spPr>
                <a:xfrm flipH="1">
                  <a:off x="2536920" y="19378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" name="Line 11"/>
                <p:cNvSpPr/>
                <p:nvPr/>
              </p:nvSpPr>
              <p:spPr>
                <a:xfrm flipH="1">
                  <a:off x="2536920" y="217620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Line 12"/>
                <p:cNvSpPr/>
                <p:nvPr/>
              </p:nvSpPr>
              <p:spPr>
                <a:xfrm>
                  <a:off x="2655720" y="193788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2655720" y="19378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655720" y="217620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" name="Group 15"/>
            <p:cNvGrpSpPr/>
            <p:nvPr/>
          </p:nvGrpSpPr>
          <p:grpSpPr>
            <a:xfrm>
              <a:off x="2012040" y="2997360"/>
              <a:ext cx="1122120" cy="1193760"/>
              <a:chOff x="2012040" y="2997360"/>
              <a:chExt cx="1122120" cy="1193760"/>
            </a:xfrm>
          </p:grpSpPr>
          <p:grpSp>
            <p:nvGrpSpPr>
              <p:cNvPr id="65" name="Group 16"/>
              <p:cNvGrpSpPr/>
              <p:nvPr/>
            </p:nvGrpSpPr>
            <p:grpSpPr>
              <a:xfrm>
                <a:off x="2012040" y="2997360"/>
                <a:ext cx="403200" cy="833400"/>
                <a:chOff x="2012040" y="2997360"/>
                <a:chExt cx="403200" cy="833400"/>
              </a:xfrm>
            </p:grpSpPr>
            <p:sp>
              <p:nvSpPr>
                <p:cNvPr id="66" name="Text Box 17"/>
                <p:cNvSpPr/>
                <p:nvPr/>
              </p:nvSpPr>
              <p:spPr>
                <a:xfrm>
                  <a:off x="2012040" y="3554280"/>
                  <a:ext cx="403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zh-TW" sz="1200" spc="-1" strike="noStrike">
                      <a:solidFill>
                        <a:srgbClr val="008000"/>
                      </a:solidFill>
                      <a:latin typeface="Trebuchet MS"/>
                      <a:ea typeface="新細明體"/>
                    </a:rPr>
                    <a:t>校長</a:t>
                  </a:r>
                  <a:r>
                    <a:rPr b="0" lang="zh-CN" sz="1200" spc="-1" strike="noStrike">
                      <a:solidFill>
                        <a:srgbClr val="008000"/>
                      </a:solidFill>
                      <a:latin typeface="Trebuchet MS"/>
                      <a:ea typeface="新細明體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7" name="Group 18"/>
                <p:cNvGrpSpPr/>
                <p:nvPr/>
              </p:nvGrpSpPr>
              <p:grpSpPr>
                <a:xfrm>
                  <a:off x="2089080" y="2997360"/>
                  <a:ext cx="237960" cy="594720"/>
                  <a:chOff x="2089080" y="2997360"/>
                  <a:chExt cx="237960" cy="594720"/>
                </a:xfrm>
              </p:grpSpPr>
              <p:sp>
                <p:nvSpPr>
                  <p:cNvPr id="68" name="Oval 19"/>
                  <p:cNvSpPr/>
                  <p:nvPr/>
                </p:nvSpPr>
                <p:spPr>
                  <a:xfrm>
                    <a:off x="2089080" y="2997360"/>
                    <a:ext cx="237960" cy="237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Line 20"/>
                  <p:cNvSpPr/>
                  <p:nvPr/>
                </p:nvSpPr>
                <p:spPr>
                  <a:xfrm flipH="1">
                    <a:off x="2089080" y="3234960"/>
                    <a:ext cx="11880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" name="Line 21"/>
                  <p:cNvSpPr/>
                  <p:nvPr/>
                </p:nvSpPr>
                <p:spPr>
                  <a:xfrm flipH="1">
                    <a:off x="2089080" y="3473280"/>
                    <a:ext cx="11880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Line 22"/>
                  <p:cNvSpPr/>
                  <p:nvPr/>
                </p:nvSpPr>
                <p:spPr>
                  <a:xfrm>
                    <a:off x="2207880" y="323496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" name="Line 23"/>
                  <p:cNvSpPr/>
                  <p:nvPr/>
                </p:nvSpPr>
                <p:spPr>
                  <a:xfrm>
                    <a:off x="2207880" y="3234960"/>
                    <a:ext cx="11916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" name="Line 24"/>
                  <p:cNvSpPr/>
                  <p:nvPr/>
                </p:nvSpPr>
                <p:spPr>
                  <a:xfrm>
                    <a:off x="2207880" y="3473280"/>
                    <a:ext cx="11916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4" name="Group 25"/>
              <p:cNvGrpSpPr/>
              <p:nvPr/>
            </p:nvGrpSpPr>
            <p:grpSpPr>
              <a:xfrm>
                <a:off x="2273760" y="3357720"/>
                <a:ext cx="860400" cy="833400"/>
                <a:chOff x="2273760" y="3357720"/>
                <a:chExt cx="860400" cy="833400"/>
              </a:xfrm>
            </p:grpSpPr>
            <p:sp>
              <p:nvSpPr>
                <p:cNvPr id="75" name="Text Box 26"/>
                <p:cNvSpPr/>
                <p:nvPr/>
              </p:nvSpPr>
              <p:spPr>
                <a:xfrm>
                  <a:off x="2273760" y="3914640"/>
                  <a:ext cx="86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zh-TW" sz="1200" spc="-1" strike="noStrike">
                      <a:solidFill>
                        <a:srgbClr val="008000"/>
                      </a:solidFill>
                      <a:latin typeface="Trebuchet MS"/>
                      <a:ea typeface="新細明體"/>
                    </a:rPr>
                    <a:t>學校管理委員會</a:t>
                  </a:r>
                  <a:r>
                    <a:rPr b="0" lang="zh-CN" sz="1200" spc="-1" strike="noStrike">
                      <a:solidFill>
                        <a:srgbClr val="008000"/>
                      </a:solidFill>
                      <a:latin typeface="Trebuchet MS"/>
                      <a:ea typeface="新細明體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" name="Group 27"/>
                <p:cNvGrpSpPr/>
                <p:nvPr/>
              </p:nvGrpSpPr>
              <p:grpSpPr>
                <a:xfrm>
                  <a:off x="2576520" y="3357720"/>
                  <a:ext cx="237960" cy="594720"/>
                  <a:chOff x="2576520" y="3357720"/>
                  <a:chExt cx="237960" cy="594720"/>
                </a:xfrm>
              </p:grpSpPr>
              <p:sp>
                <p:nvSpPr>
                  <p:cNvPr id="77" name="Oval 28"/>
                  <p:cNvSpPr/>
                  <p:nvPr/>
                </p:nvSpPr>
                <p:spPr>
                  <a:xfrm>
                    <a:off x="2576520" y="3357720"/>
                    <a:ext cx="237960" cy="237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Line 29"/>
                  <p:cNvSpPr/>
                  <p:nvPr/>
                </p:nvSpPr>
                <p:spPr>
                  <a:xfrm flipH="1">
                    <a:off x="2576520" y="3595320"/>
                    <a:ext cx="11880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Line 30"/>
                  <p:cNvSpPr/>
                  <p:nvPr/>
                </p:nvSpPr>
                <p:spPr>
                  <a:xfrm flipH="1">
                    <a:off x="2576520" y="3833640"/>
                    <a:ext cx="11880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Line 31"/>
                  <p:cNvSpPr/>
                  <p:nvPr/>
                </p:nvSpPr>
                <p:spPr>
                  <a:xfrm>
                    <a:off x="2695320" y="359532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" name="Line 32"/>
                  <p:cNvSpPr/>
                  <p:nvPr/>
                </p:nvSpPr>
                <p:spPr>
                  <a:xfrm>
                    <a:off x="2695320" y="3595320"/>
                    <a:ext cx="11916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Line 33"/>
                  <p:cNvSpPr/>
                  <p:nvPr/>
                </p:nvSpPr>
                <p:spPr>
                  <a:xfrm>
                    <a:off x="2695320" y="3833640"/>
                    <a:ext cx="119160" cy="11880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83" name="Rectangle 34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財務管理及策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5137200" y="907920"/>
            <a:ext cx="4811400" cy="5312160"/>
            <a:chOff x="5137200" y="907920"/>
            <a:chExt cx="4811400" cy="5312160"/>
          </a:xfrm>
        </p:grpSpPr>
        <p:sp>
          <p:nvSpPr>
            <p:cNvPr id="85" name="Text Box 36"/>
            <p:cNvSpPr/>
            <p:nvPr/>
          </p:nvSpPr>
          <p:spPr>
            <a:xfrm>
              <a:off x="9435240" y="32781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" name="Group 37"/>
            <p:cNvGrpSpPr/>
            <p:nvPr/>
          </p:nvGrpSpPr>
          <p:grpSpPr>
            <a:xfrm>
              <a:off x="7708320" y="907920"/>
              <a:ext cx="609840" cy="1076760"/>
              <a:chOff x="7708320" y="907920"/>
              <a:chExt cx="609840" cy="1076760"/>
            </a:xfrm>
          </p:grpSpPr>
          <p:grpSp>
            <p:nvGrpSpPr>
              <p:cNvPr id="87" name="Group 38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8" name="Line 39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40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41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42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Line 43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" name="Text Box 44"/>
              <p:cNvSpPr/>
              <p:nvPr/>
            </p:nvSpPr>
            <p:spPr>
              <a:xfrm>
                <a:off x="783180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Text Box 45"/>
            <p:cNvSpPr/>
            <p:nvPr/>
          </p:nvSpPr>
          <p:spPr>
            <a:xfrm>
              <a:off x="8532000" y="23623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47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7" name="Group 48"/>
            <p:cNvGrpSpPr/>
            <p:nvPr/>
          </p:nvGrpSpPr>
          <p:grpSpPr>
            <a:xfrm>
              <a:off x="8762400" y="3733920"/>
              <a:ext cx="995760" cy="962280"/>
              <a:chOff x="8762400" y="3733920"/>
              <a:chExt cx="995760" cy="962280"/>
            </a:xfrm>
          </p:grpSpPr>
          <p:sp>
            <p:nvSpPr>
              <p:cNvPr id="98" name="Text Box 49"/>
              <p:cNvSpPr/>
              <p:nvPr/>
            </p:nvSpPr>
            <p:spPr>
              <a:xfrm>
                <a:off x="883872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職員成本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0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100" name="Group 51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1" name="Oval 52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53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54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55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56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Line 57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7" name="Group 58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8" name="Oval 59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60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61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62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63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Line 64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4" name="Group 65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5" name="Oval 66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67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68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69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70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" name="Line 71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1" name="Group 72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2" name="Oval 73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74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75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76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77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" name="Line 78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8" name="Text Box 79"/>
            <p:cNvSpPr/>
            <p:nvPr/>
          </p:nvSpPr>
          <p:spPr>
            <a:xfrm>
              <a:off x="8020440" y="541008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AutoShape 80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81"/>
            <p:cNvSpPr/>
            <p:nvPr/>
          </p:nvSpPr>
          <p:spPr>
            <a:xfrm>
              <a:off x="6735960" y="594360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82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 Box 83"/>
            <p:cNvSpPr/>
            <p:nvPr/>
          </p:nvSpPr>
          <p:spPr>
            <a:xfrm>
              <a:off x="5137200" y="579132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AutoShape 84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Line 85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86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教育局津貼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收入草案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支出草案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審查預算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核定及還原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修改預算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查詢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9"/>
          <p:cNvGrpSpPr/>
          <p:nvPr/>
        </p:nvGrpSpPr>
        <p:grpSpPr>
          <a:xfrm>
            <a:off x="2850120" y="914400"/>
            <a:ext cx="768960" cy="1026720"/>
            <a:chOff x="2850120" y="914400"/>
            <a:chExt cx="768960" cy="1026720"/>
          </a:xfrm>
        </p:grpSpPr>
        <p:sp>
          <p:nvSpPr>
            <p:cNvPr id="138" name="Text Box 90"/>
            <p:cNvSpPr/>
            <p:nvPr/>
          </p:nvSpPr>
          <p:spPr>
            <a:xfrm>
              <a:off x="2850120" y="91440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工作計劃組長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91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40" name="Oval 92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93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94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95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6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97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98"/>
          <p:cNvSpPr/>
          <p:nvPr/>
        </p:nvSpPr>
        <p:spPr>
          <a:xfrm>
            <a:off x="3581280" y="1676520"/>
            <a:ext cx="449604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核定及還原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1027"/>
          <p:cNvSpPr/>
          <p:nvPr/>
        </p:nvSpPr>
        <p:spPr>
          <a:xfrm>
            <a:off x="2362320" y="45720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預算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-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核定及還原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028"/>
          <p:cNvSpPr/>
          <p:nvPr/>
        </p:nvSpPr>
        <p:spPr>
          <a:xfrm>
            <a:off x="2286000" y="1143000"/>
            <a:ext cx="74674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目的：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用戶可在收到法團校董會的通知後，把預算核定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預算經過核定後，預算狀況會由「凍結」改為「核定」。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用戶可透過核定預算功能修改已核定的預算。該核定預算金額會在修改預算版面、查詢及報告中出現。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還原核定預算功能允許校長自收到法團校董會的批准後，把預算還原。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核定預算經還原後，預算狀況會由「核定」改為「凍結」。</a:t>
            </a:r>
            <a:r>
              <a:rPr b="0" lang="zh-CN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核定預算</a:t>
            </a:r>
            <a:r>
              <a:rPr b="1" lang="zh-CN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0" y="1295280"/>
            <a:ext cx="78249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核定前，會計年度之預算收入及支出（所有工作計劃）必須已凍結（即預算已處於「凍結」狀況）。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預算一經核定，將不能解除凍結或編修，只可在修改預算版面才可作出修改。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預算核定後，當儲存未過帳傳票時，系統會在簿記及職員成本組件中進行核對預算。</a:t>
            </a: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擁有多個學校級別及授課制之學校，用戶應分別為各學校級別及授課制進行核定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569960" y="657468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核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核定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3505320" y="3693960"/>
            <a:ext cx="6857640" cy="2858760"/>
            <a:chOff x="3505320" y="3693960"/>
            <a:chExt cx="6857640" cy="2858760"/>
          </a:xfrm>
        </p:grpSpPr>
        <p:sp>
          <p:nvSpPr>
            <p:cNvPr id="155" name="AutoShape 35"/>
            <p:cNvSpPr/>
            <p:nvPr/>
          </p:nvSpPr>
          <p:spPr>
            <a:xfrm>
              <a:off x="3505320" y="3693960"/>
              <a:ext cx="6857640" cy="2858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 Box 36"/>
            <p:cNvSpPr/>
            <p:nvPr/>
          </p:nvSpPr>
          <p:spPr>
            <a:xfrm>
              <a:off x="3505320" y="3693960"/>
              <a:ext cx="68576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從左邊項目選單上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核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還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依預設，系統會顯示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核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版面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按下以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及授課制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核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Oval 7"/>
          <p:cNvSpPr/>
          <p:nvPr/>
        </p:nvSpPr>
        <p:spPr>
          <a:xfrm>
            <a:off x="2133720" y="843120"/>
            <a:ext cx="685800" cy="2743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0" y="322200"/>
            <a:ext cx="1919160" cy="109080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0" y="2781360"/>
            <a:ext cx="1919160" cy="38131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2063880" y="533520"/>
            <a:ext cx="68580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4343400" y="1368360"/>
            <a:ext cx="2257560" cy="331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rebuchet MS"/>
                <a:ea typeface="新細明體"/>
              </a:rPr>
              <a:t>核定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核定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2036880" y="561960"/>
            <a:ext cx="110628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16"/>
          <p:cNvGrpSpPr/>
          <p:nvPr/>
        </p:nvGrpSpPr>
        <p:grpSpPr>
          <a:xfrm>
            <a:off x="6248520" y="4114800"/>
            <a:ext cx="4190760" cy="1600200"/>
            <a:chOff x="6248520" y="4114800"/>
            <a:chExt cx="4190760" cy="1600200"/>
          </a:xfrm>
        </p:grpSpPr>
        <p:sp>
          <p:nvSpPr>
            <p:cNvPr id="166" name="AutoShape 17"/>
            <p:cNvSpPr/>
            <p:nvPr/>
          </p:nvSpPr>
          <p:spPr>
            <a:xfrm>
              <a:off x="6248520" y="4114800"/>
              <a:ext cx="419076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6248520" y="4114800"/>
              <a:ext cx="419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經核定後，在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欄位上將不會再顯示該會計年度。然而，校長可透過還原功能將預算還原到「凍結」狀況。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ectangle 19"/>
          <p:cNvSpPr/>
          <p:nvPr/>
        </p:nvSpPr>
        <p:spPr>
          <a:xfrm>
            <a:off x="0" y="322200"/>
            <a:ext cx="1919160" cy="109080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0" y="2781360"/>
            <a:ext cx="1919160" cy="38131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rebuchet MS"/>
                <a:ea typeface="新細明體"/>
              </a:rPr>
              <a:t>核定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286000" y="720720"/>
            <a:ext cx="78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600" spc="-1" strike="noStrike">
                <a:solidFill>
                  <a:srgbClr val="ff3300"/>
                </a:solidFill>
                <a:latin typeface="新細明體"/>
                <a:ea typeface="新細明體"/>
              </a:rPr>
              <a:t>還原預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286000" y="1295280"/>
            <a:ext cx="7824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336600"/>
              </a:buClr>
              <a:buFont typeface="新細明體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還原核定預算的準則如下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440">
              <a:lnSpc>
                <a:spcPct val="100000"/>
              </a:lnSpc>
              <a:buClr>
                <a:srgbClr val="336600"/>
              </a:buClr>
              <a:buFont typeface="新細明體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核定預算須未經修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440">
              <a:lnSpc>
                <a:spcPct val="100000"/>
              </a:lnSpc>
              <a:buClr>
                <a:srgbClr val="336600"/>
              </a:buClr>
              <a:buFont typeface="新細明體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沒有在簿記、職員成本模組上製作未過帳傳票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336600"/>
              </a:buClr>
              <a:buFont typeface="新細明體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336600"/>
              </a:buClr>
              <a:buFont typeface="新細明體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擁有多個學校級別及授課制之學校，用戶應分別為各學校級別及授課制進行還原預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569960" y="657468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還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75" name="Group 30"/>
          <p:cNvGrpSpPr/>
          <p:nvPr/>
        </p:nvGrpSpPr>
        <p:grpSpPr>
          <a:xfrm>
            <a:off x="2819520" y="3505320"/>
            <a:ext cx="6324120" cy="2818800"/>
            <a:chOff x="2819520" y="3505320"/>
            <a:chExt cx="6324120" cy="2818800"/>
          </a:xfrm>
        </p:grpSpPr>
        <p:sp>
          <p:nvSpPr>
            <p:cNvPr id="176" name="AutoShape 31"/>
            <p:cNvSpPr/>
            <p:nvPr/>
          </p:nvSpPr>
          <p:spPr>
            <a:xfrm>
              <a:off x="2819520" y="3505320"/>
              <a:ext cx="6324120" cy="28188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 Box 32"/>
            <p:cNvSpPr/>
            <p:nvPr/>
          </p:nvSpPr>
          <p:spPr>
            <a:xfrm>
              <a:off x="2819520" y="3505320"/>
              <a:ext cx="63241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從左邊項目選單上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算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1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核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還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還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標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按下以選擇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學校級別及授課制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按下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還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35"/>
          <p:cNvGrpSpPr/>
          <p:nvPr/>
        </p:nvGrpSpPr>
        <p:grpSpPr>
          <a:xfrm>
            <a:off x="9220320" y="5084640"/>
            <a:ext cx="1447560" cy="969480"/>
            <a:chOff x="9220320" y="5084640"/>
            <a:chExt cx="1447560" cy="969480"/>
          </a:xfrm>
        </p:grpSpPr>
        <p:sp>
          <p:nvSpPr>
            <p:cNvPr id="179" name="AutoShape 36"/>
            <p:cNvSpPr/>
            <p:nvPr/>
          </p:nvSpPr>
          <p:spPr>
            <a:xfrm flipV="1">
              <a:off x="9302760" y="5443920"/>
              <a:ext cx="1295280" cy="5979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 Box 37"/>
            <p:cNvSpPr/>
            <p:nvPr/>
          </p:nvSpPr>
          <p:spPr>
            <a:xfrm>
              <a:off x="9220320" y="508464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Rectangle 19"/>
          <p:cNvSpPr/>
          <p:nvPr/>
        </p:nvSpPr>
        <p:spPr>
          <a:xfrm>
            <a:off x="0" y="322200"/>
            <a:ext cx="1919160" cy="109080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0" y="2781360"/>
            <a:ext cx="1919160" cy="381312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0" y="-324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還原預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063880" y="822240"/>
            <a:ext cx="83808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1"/>
          <p:cNvSpPr/>
          <p:nvPr/>
        </p:nvSpPr>
        <p:spPr>
          <a:xfrm>
            <a:off x="2424240" y="530280"/>
            <a:ext cx="68580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3"/>
          <p:cNvSpPr/>
          <p:nvPr/>
        </p:nvSpPr>
        <p:spPr>
          <a:xfrm>
            <a:off x="4316400" y="1332000"/>
            <a:ext cx="2328840" cy="3682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6:17:02Z</dcterms:modified>
  <cp:revision>256</cp:revision>
  <dc:subject/>
  <dc:title>School Management</dc:title>
</cp:coreProperties>
</file>