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73080" y="761760"/>
            <a:ext cx="663552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TW" sz="1200" spc="-1" strike="noStrike">
                <a:solidFill>
                  <a:srgbClr val="000000"/>
                </a:solidFill>
                <a:latin typeface="Calibri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064A0-585C-4B22-A86E-58F8F56178F9}" type="slidenum"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96789-802E-4C5C-8EDB-5793F2F2763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0E7427-D528-48D8-A040-B8580CE893F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50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4470EA-92B2-4F0A-893F-F2CF022FE19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33cc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D22E76-E131-4B04-B32B-643C87CF76F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9933cc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93675A-9B5A-4428-ACD3-711BA1959DB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E3B988-8787-4DE4-8A92-7636B5B14C2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50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E76D89-2DB5-4CD6-953E-7CC42DC6267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B7990-FC81-4201-8341-F7E4A14A77D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50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4C4250-D2FE-44E3-8B8F-AE8B8AA55B2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AEF64B-93A0-49A2-A77F-339CDC27FDB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33cc"/>
              </a:solidFill>
              <a:latin typeface="Arial"/>
              <a:ea typeface="SimSu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44AD0-0ABB-454C-BA63-ECD346F0B23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33cc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67F02-8730-489F-83A5-33641747BC7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F565F7-198C-4E6E-AC84-26D7384D6EC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3FBA22-FE08-4FFE-AD8B-B04BCE3CC3F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50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685B68-21F2-4CFD-B601-914740058D9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33cc"/>
              </a:solidFill>
              <a:latin typeface="Arial"/>
              <a:ea typeface="SimSu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151-271F-4B9C-8303-50CAB20D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22BE-80A4-46FD-A201-9BEEABE6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7083-049F-4638-BEB4-823DC548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C6D0-94D8-4334-876A-ECDD30CF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DAB-EFE5-4E20-8AC7-B7F1725A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41DF-F7D6-4CE6-B694-65D2B1AB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7694-D730-4924-96D2-22865875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13B9-F15A-4748-A766-88BF4496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B5B8-F292-4230-96FE-519442FB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31BB-455D-4DA8-A912-33D38774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0DA9-56BA-47DD-927B-A7C63946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DF2E-93E5-4B7E-A6EA-932054A4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CFA60D-3571-478F-9A3A-43F560FE1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5"/>
          <p:cNvSpPr/>
          <p:nvPr/>
        </p:nvSpPr>
        <p:spPr>
          <a:xfrm>
            <a:off x="0" y="6597720"/>
            <a:ext cx="12192120" cy="260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7346880" y="6593760"/>
            <a:ext cx="31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版本：</a:t>
            </a:r>
            <a:r>
              <a:rPr b="0" lang="zh-CN" sz="1200" spc="-1" strike="noStrike">
                <a:solidFill>
                  <a:srgbClr val="ffffff"/>
                </a:solidFill>
                <a:latin typeface="Trebuchet MS"/>
                <a:ea typeface="SimSu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0704600" y="6581160"/>
            <a:ext cx="1441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頁碼：</a:t>
            </a:r>
            <a:r>
              <a:rPr b="0" lang="zh-CN" sz="1200" spc="-1" strike="noStrike">
                <a:solidFill>
                  <a:srgbClr val="ffffff"/>
                </a:solidFill>
                <a:latin typeface="Trebuchet MS"/>
                <a:ea typeface="SimSu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 </a:t>
            </a:r>
            <a:fld id="{F5E0E0D4-A860-4AF5-A807-3280739EF2AC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6327360"/>
            <a:ext cx="914400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財務管理及預算</a:t>
            </a:r>
            <a:r>
              <a:rPr b="0" lang="zh-CN" sz="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52388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rebuchet MS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cc"/>
                </a:solidFill>
                <a:latin typeface="Trebuchet MS"/>
                <a:ea typeface="新細明體"/>
              </a:rPr>
              <a:t>財務管理及策劃 – 預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4"/>
          <p:cNvSpPr/>
          <p:nvPr/>
        </p:nvSpPr>
        <p:spPr>
          <a:xfrm>
            <a:off x="3124080" y="2133720"/>
            <a:ext cx="495324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5"/>
          <p:cNvGrpSpPr/>
          <p:nvPr/>
        </p:nvGrpSpPr>
        <p:grpSpPr>
          <a:xfrm>
            <a:off x="2177640" y="1639800"/>
            <a:ext cx="586080" cy="1026720"/>
            <a:chOff x="2177640" y="1639800"/>
            <a:chExt cx="586080" cy="1026720"/>
          </a:xfrm>
        </p:grpSpPr>
        <p:sp>
          <p:nvSpPr>
            <p:cNvPr id="55" name="Text Box 6"/>
            <p:cNvSpPr/>
            <p:nvPr/>
          </p:nvSpPr>
          <p:spPr>
            <a:xfrm>
              <a:off x="2177640" y="163980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會計文員</a:t>
              </a:r>
              <a:r>
                <a:rPr b="0" lang="zh-CN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" name="Group 7"/>
            <p:cNvGrpSpPr/>
            <p:nvPr/>
          </p:nvGrpSpPr>
          <p:grpSpPr>
            <a:xfrm>
              <a:off x="2343240" y="2071800"/>
              <a:ext cx="237960" cy="594720"/>
              <a:chOff x="2343240" y="2071800"/>
              <a:chExt cx="237960" cy="594720"/>
            </a:xfrm>
          </p:grpSpPr>
          <p:sp>
            <p:nvSpPr>
              <p:cNvPr id="57" name="Oval 8"/>
              <p:cNvSpPr/>
              <p:nvPr/>
            </p:nvSpPr>
            <p:spPr>
              <a:xfrm>
                <a:off x="2343240" y="2071800"/>
                <a:ext cx="237960" cy="23760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Line 9"/>
              <p:cNvSpPr/>
              <p:nvPr/>
            </p:nvSpPr>
            <p:spPr>
              <a:xfrm flipH="1">
                <a:off x="2343240" y="230940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Line 10"/>
              <p:cNvSpPr/>
              <p:nvPr/>
            </p:nvSpPr>
            <p:spPr>
              <a:xfrm flipH="1">
                <a:off x="2343240" y="254772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Line 11"/>
              <p:cNvSpPr/>
              <p:nvPr/>
            </p:nvSpPr>
            <p:spPr>
              <a:xfrm>
                <a:off x="2462040" y="2309400"/>
                <a:ext cx="0" cy="2379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Line 12"/>
              <p:cNvSpPr/>
              <p:nvPr/>
            </p:nvSpPr>
            <p:spPr>
              <a:xfrm>
                <a:off x="2462040" y="230940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Line 13"/>
              <p:cNvSpPr/>
              <p:nvPr/>
            </p:nvSpPr>
            <p:spPr>
              <a:xfrm>
                <a:off x="2462040" y="254772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" name="Group 14"/>
          <p:cNvGrpSpPr/>
          <p:nvPr/>
        </p:nvGrpSpPr>
        <p:grpSpPr>
          <a:xfrm>
            <a:off x="2032560" y="2997360"/>
            <a:ext cx="1081080" cy="1374840"/>
            <a:chOff x="2032560" y="2997360"/>
            <a:chExt cx="1081080" cy="1374840"/>
          </a:xfrm>
        </p:grpSpPr>
        <p:grpSp>
          <p:nvGrpSpPr>
            <p:cNvPr id="64" name="Group 15"/>
            <p:cNvGrpSpPr/>
            <p:nvPr/>
          </p:nvGrpSpPr>
          <p:grpSpPr>
            <a:xfrm>
              <a:off x="2032560" y="2997360"/>
              <a:ext cx="363600" cy="835200"/>
              <a:chOff x="2032560" y="2997360"/>
              <a:chExt cx="363600" cy="835200"/>
            </a:xfrm>
          </p:grpSpPr>
          <p:sp>
            <p:nvSpPr>
              <p:cNvPr id="65" name="Text Box 16"/>
              <p:cNvSpPr/>
              <p:nvPr/>
            </p:nvSpPr>
            <p:spPr>
              <a:xfrm>
                <a:off x="2032560" y="3556080"/>
                <a:ext cx="36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校長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" name="Group 17"/>
              <p:cNvGrpSpPr/>
              <p:nvPr/>
            </p:nvGrpSpPr>
            <p:grpSpPr>
              <a:xfrm>
                <a:off x="2089080" y="2997360"/>
                <a:ext cx="237960" cy="595440"/>
                <a:chOff x="2089080" y="2997360"/>
                <a:chExt cx="237960" cy="595440"/>
              </a:xfrm>
            </p:grpSpPr>
            <p:sp>
              <p:nvSpPr>
                <p:cNvPr id="67" name="Oval 18"/>
                <p:cNvSpPr/>
                <p:nvPr/>
              </p:nvSpPr>
              <p:spPr>
                <a:xfrm>
                  <a:off x="2089080" y="2997360"/>
                  <a:ext cx="237960" cy="23796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" name="Line 19"/>
                <p:cNvSpPr/>
                <p:nvPr/>
              </p:nvSpPr>
              <p:spPr>
                <a:xfrm flipH="1">
                  <a:off x="2089080" y="3235320"/>
                  <a:ext cx="11880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Line 20"/>
                <p:cNvSpPr/>
                <p:nvPr/>
              </p:nvSpPr>
              <p:spPr>
                <a:xfrm flipH="1">
                  <a:off x="2089080" y="3473640"/>
                  <a:ext cx="11880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" name="Line 21"/>
                <p:cNvSpPr/>
                <p:nvPr/>
              </p:nvSpPr>
              <p:spPr>
                <a:xfrm>
                  <a:off x="2207880" y="3235320"/>
                  <a:ext cx="0" cy="23832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" name="Line 22"/>
                <p:cNvSpPr/>
                <p:nvPr/>
              </p:nvSpPr>
              <p:spPr>
                <a:xfrm>
                  <a:off x="2207880" y="3235320"/>
                  <a:ext cx="11916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" name="Line 23"/>
                <p:cNvSpPr/>
                <p:nvPr/>
              </p:nvSpPr>
              <p:spPr>
                <a:xfrm>
                  <a:off x="2207880" y="3473640"/>
                  <a:ext cx="11916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3" name="Group 24"/>
            <p:cNvGrpSpPr/>
            <p:nvPr/>
          </p:nvGrpSpPr>
          <p:grpSpPr>
            <a:xfrm>
              <a:off x="2292840" y="3357720"/>
              <a:ext cx="820800" cy="1014480"/>
              <a:chOff x="2292840" y="3357720"/>
              <a:chExt cx="820800" cy="1014480"/>
            </a:xfrm>
          </p:grpSpPr>
          <p:sp>
            <p:nvSpPr>
              <p:cNvPr id="74" name="Text Box 25"/>
              <p:cNvSpPr/>
              <p:nvPr/>
            </p:nvSpPr>
            <p:spPr>
              <a:xfrm>
                <a:off x="2292840" y="3913200"/>
                <a:ext cx="820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學校管理委員會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5" name="Group 26"/>
              <p:cNvGrpSpPr/>
              <p:nvPr/>
            </p:nvGrpSpPr>
            <p:grpSpPr>
              <a:xfrm>
                <a:off x="2576520" y="3357720"/>
                <a:ext cx="237960" cy="595440"/>
                <a:chOff x="2576520" y="3357720"/>
                <a:chExt cx="237960" cy="595440"/>
              </a:xfrm>
            </p:grpSpPr>
            <p:sp>
              <p:nvSpPr>
                <p:cNvPr id="76" name="Oval 27"/>
                <p:cNvSpPr/>
                <p:nvPr/>
              </p:nvSpPr>
              <p:spPr>
                <a:xfrm>
                  <a:off x="2576520" y="3357720"/>
                  <a:ext cx="237960" cy="23796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" name="Line 28"/>
                <p:cNvSpPr/>
                <p:nvPr/>
              </p:nvSpPr>
              <p:spPr>
                <a:xfrm flipH="1">
                  <a:off x="2576520" y="3595680"/>
                  <a:ext cx="11880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Line 29"/>
                <p:cNvSpPr/>
                <p:nvPr/>
              </p:nvSpPr>
              <p:spPr>
                <a:xfrm flipH="1">
                  <a:off x="2576520" y="3834000"/>
                  <a:ext cx="11880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Line 30"/>
                <p:cNvSpPr/>
                <p:nvPr/>
              </p:nvSpPr>
              <p:spPr>
                <a:xfrm>
                  <a:off x="2695320" y="3595680"/>
                  <a:ext cx="0" cy="23832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" name="Line 31"/>
                <p:cNvSpPr/>
                <p:nvPr/>
              </p:nvSpPr>
              <p:spPr>
                <a:xfrm>
                  <a:off x="2695320" y="3595680"/>
                  <a:ext cx="11916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" name="Line 32"/>
                <p:cNvSpPr/>
                <p:nvPr/>
              </p:nvSpPr>
              <p:spPr>
                <a:xfrm>
                  <a:off x="2695320" y="3834000"/>
                  <a:ext cx="11916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82" name="Rectangle 33"/>
          <p:cNvSpPr/>
          <p:nvPr/>
        </p:nvSpPr>
        <p:spPr>
          <a:xfrm>
            <a:off x="1569960" y="6576120"/>
            <a:ext cx="43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財務管理及策劃</a:t>
            </a:r>
            <a:r>
              <a:rPr b="0" lang="zh-CN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Group 34"/>
          <p:cNvGrpSpPr/>
          <p:nvPr/>
        </p:nvGrpSpPr>
        <p:grpSpPr>
          <a:xfrm>
            <a:off x="5156280" y="907920"/>
            <a:ext cx="4792320" cy="5313600"/>
            <a:chOff x="5156280" y="907920"/>
            <a:chExt cx="4792320" cy="5313600"/>
          </a:xfrm>
        </p:grpSpPr>
        <p:sp>
          <p:nvSpPr>
            <p:cNvPr id="84" name="Text Box 35"/>
            <p:cNvSpPr/>
            <p:nvPr/>
          </p:nvSpPr>
          <p:spPr>
            <a:xfrm>
              <a:off x="9435240" y="327816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簿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5" name="Group 36"/>
            <p:cNvGrpSpPr/>
            <p:nvPr/>
          </p:nvGrpSpPr>
          <p:grpSpPr>
            <a:xfrm>
              <a:off x="7708320" y="907920"/>
              <a:ext cx="609840" cy="1076760"/>
              <a:chOff x="7708320" y="907920"/>
              <a:chExt cx="609840" cy="1076760"/>
            </a:xfrm>
          </p:grpSpPr>
          <p:grpSp>
            <p:nvGrpSpPr>
              <p:cNvPr id="86" name="Group 37"/>
              <p:cNvGrpSpPr/>
              <p:nvPr/>
            </p:nvGrpSpPr>
            <p:grpSpPr>
              <a:xfrm>
                <a:off x="7708320" y="907920"/>
                <a:ext cx="609840" cy="609480"/>
                <a:chOff x="7708320" y="907920"/>
                <a:chExt cx="609840" cy="609480"/>
              </a:xfrm>
            </p:grpSpPr>
            <p:sp>
              <p:nvSpPr>
                <p:cNvPr id="87" name="Line 38"/>
                <p:cNvSpPr/>
                <p:nvPr/>
              </p:nvSpPr>
              <p:spPr>
                <a:xfrm flipH="1">
                  <a:off x="7708320" y="907920"/>
                  <a:ext cx="30492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" name="Line 39"/>
                <p:cNvSpPr/>
                <p:nvPr/>
              </p:nvSpPr>
              <p:spPr>
                <a:xfrm>
                  <a:off x="7785000" y="1136520"/>
                  <a:ext cx="7596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Line 40"/>
                <p:cNvSpPr/>
                <p:nvPr/>
              </p:nvSpPr>
              <p:spPr>
                <a:xfrm flipH="1">
                  <a:off x="8165880" y="1136520"/>
                  <a:ext cx="7632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" name="Line 41"/>
                <p:cNvSpPr/>
                <p:nvPr/>
              </p:nvSpPr>
              <p:spPr>
                <a:xfrm>
                  <a:off x="7823160" y="1517400"/>
                  <a:ext cx="380880" cy="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" name="Line 42"/>
                <p:cNvSpPr/>
                <p:nvPr/>
              </p:nvSpPr>
              <p:spPr>
                <a:xfrm>
                  <a:off x="8013600" y="907920"/>
                  <a:ext cx="30456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2" name="Text Box 43"/>
              <p:cNvSpPr/>
              <p:nvPr/>
            </p:nvSpPr>
            <p:spPr>
              <a:xfrm>
                <a:off x="7833240" y="1525680"/>
                <a:ext cx="363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CN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財管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一般設定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3" name="Text Box 44"/>
            <p:cNvSpPr/>
            <p:nvPr/>
          </p:nvSpPr>
          <p:spPr>
            <a:xfrm>
              <a:off x="8552520" y="236376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預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AutoShape 45"/>
            <p:cNvSpPr/>
            <p:nvPr/>
          </p:nvSpPr>
          <p:spPr>
            <a:xfrm>
              <a:off x="8610480" y="160020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AutoShape 46"/>
            <p:cNvSpPr/>
            <p:nvPr/>
          </p:nvSpPr>
          <p:spPr>
            <a:xfrm>
              <a:off x="9372600" y="2514600"/>
              <a:ext cx="57600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6" name="Group 47"/>
            <p:cNvGrpSpPr/>
            <p:nvPr/>
          </p:nvGrpSpPr>
          <p:grpSpPr>
            <a:xfrm>
              <a:off x="8762400" y="3733920"/>
              <a:ext cx="995760" cy="1144800"/>
              <a:chOff x="8762400" y="3733920"/>
              <a:chExt cx="995760" cy="1144800"/>
            </a:xfrm>
          </p:grpSpPr>
          <p:sp>
            <p:nvSpPr>
              <p:cNvPr id="97" name="Text Box 48"/>
              <p:cNvSpPr/>
              <p:nvPr/>
            </p:nvSpPr>
            <p:spPr>
              <a:xfrm>
                <a:off x="8838720" y="4419720"/>
                <a:ext cx="9194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教職員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成本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8" name="Group 49"/>
              <p:cNvGrpSpPr/>
              <p:nvPr/>
            </p:nvGrpSpPr>
            <p:grpSpPr>
              <a:xfrm>
                <a:off x="8762400" y="3733920"/>
                <a:ext cx="952560" cy="685440"/>
                <a:chOff x="8762400" y="3733920"/>
                <a:chExt cx="952560" cy="685440"/>
              </a:xfrm>
            </p:grpSpPr>
            <p:grpSp>
              <p:nvGrpSpPr>
                <p:cNvPr id="99" name="Group 50"/>
                <p:cNvGrpSpPr/>
                <p:nvPr/>
              </p:nvGrpSpPr>
              <p:grpSpPr>
                <a:xfrm>
                  <a:off x="8762400" y="3810240"/>
                  <a:ext cx="247680" cy="482040"/>
                  <a:chOff x="8762400" y="3810240"/>
                  <a:chExt cx="247680" cy="482040"/>
                </a:xfrm>
              </p:grpSpPr>
              <p:sp>
                <p:nvSpPr>
                  <p:cNvPr id="100" name="Oval 51"/>
                  <p:cNvSpPr/>
                  <p:nvPr/>
                </p:nvSpPr>
                <p:spPr>
                  <a:xfrm>
                    <a:off x="8762760" y="38102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" name="Line 52"/>
                  <p:cNvSpPr/>
                  <p:nvPr/>
                </p:nvSpPr>
                <p:spPr>
                  <a:xfrm flipH="1">
                    <a:off x="8762400" y="4002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" name="Line 53"/>
                  <p:cNvSpPr/>
                  <p:nvPr/>
                </p:nvSpPr>
                <p:spPr>
                  <a:xfrm flipH="1">
                    <a:off x="8762400" y="41958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" name="Line 54"/>
                  <p:cNvSpPr/>
                  <p:nvPr/>
                </p:nvSpPr>
                <p:spPr>
                  <a:xfrm>
                    <a:off x="8886240" y="40028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4" name="Line 55"/>
                  <p:cNvSpPr/>
                  <p:nvPr/>
                </p:nvSpPr>
                <p:spPr>
                  <a:xfrm>
                    <a:off x="8886240" y="4002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5" name="Line 56"/>
                  <p:cNvSpPr/>
                  <p:nvPr/>
                </p:nvSpPr>
                <p:spPr>
                  <a:xfrm>
                    <a:off x="8886240" y="41958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6" name="Group 57"/>
                <p:cNvGrpSpPr/>
                <p:nvPr/>
              </p:nvGrpSpPr>
              <p:grpSpPr>
                <a:xfrm>
                  <a:off x="9238680" y="3733920"/>
                  <a:ext cx="247680" cy="482400"/>
                  <a:chOff x="9238680" y="3733920"/>
                  <a:chExt cx="247680" cy="482400"/>
                </a:xfrm>
              </p:grpSpPr>
              <p:sp>
                <p:nvSpPr>
                  <p:cNvPr id="107" name="Oval 58"/>
                  <p:cNvSpPr/>
                  <p:nvPr/>
                </p:nvSpPr>
                <p:spPr>
                  <a:xfrm>
                    <a:off x="9239040" y="373392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" name="Line 59"/>
                  <p:cNvSpPr/>
                  <p:nvPr/>
                </p:nvSpPr>
                <p:spPr>
                  <a:xfrm flipH="1">
                    <a:off x="9238680" y="392652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" name="Line 60"/>
                  <p:cNvSpPr/>
                  <p:nvPr/>
                </p:nvSpPr>
                <p:spPr>
                  <a:xfrm flipH="1">
                    <a:off x="9238680" y="4119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" name="Line 61"/>
                  <p:cNvSpPr/>
                  <p:nvPr/>
                </p:nvSpPr>
                <p:spPr>
                  <a:xfrm>
                    <a:off x="9362520" y="392652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" name="Line 62"/>
                  <p:cNvSpPr/>
                  <p:nvPr/>
                </p:nvSpPr>
                <p:spPr>
                  <a:xfrm>
                    <a:off x="9362520" y="392652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" name="Line 63"/>
                  <p:cNvSpPr/>
                  <p:nvPr/>
                </p:nvSpPr>
                <p:spPr>
                  <a:xfrm>
                    <a:off x="9362520" y="4119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13" name="Group 64"/>
                <p:cNvGrpSpPr/>
                <p:nvPr/>
              </p:nvGrpSpPr>
              <p:grpSpPr>
                <a:xfrm>
                  <a:off x="9467280" y="3810240"/>
                  <a:ext cx="247680" cy="482040"/>
                  <a:chOff x="9467280" y="3810240"/>
                  <a:chExt cx="247680" cy="482040"/>
                </a:xfrm>
              </p:grpSpPr>
              <p:sp>
                <p:nvSpPr>
                  <p:cNvPr id="114" name="Oval 65"/>
                  <p:cNvSpPr/>
                  <p:nvPr/>
                </p:nvSpPr>
                <p:spPr>
                  <a:xfrm>
                    <a:off x="9467640" y="38102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5" name="Line 66"/>
                  <p:cNvSpPr/>
                  <p:nvPr/>
                </p:nvSpPr>
                <p:spPr>
                  <a:xfrm flipH="1">
                    <a:off x="9467280" y="4002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6" name="Line 67"/>
                  <p:cNvSpPr/>
                  <p:nvPr/>
                </p:nvSpPr>
                <p:spPr>
                  <a:xfrm flipH="1">
                    <a:off x="9467280" y="41958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7" name="Line 68"/>
                  <p:cNvSpPr/>
                  <p:nvPr/>
                </p:nvSpPr>
                <p:spPr>
                  <a:xfrm>
                    <a:off x="9591120" y="40028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8" name="Line 69"/>
                  <p:cNvSpPr/>
                  <p:nvPr/>
                </p:nvSpPr>
                <p:spPr>
                  <a:xfrm>
                    <a:off x="9591120" y="4002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9" name="Line 70"/>
                  <p:cNvSpPr/>
                  <p:nvPr/>
                </p:nvSpPr>
                <p:spPr>
                  <a:xfrm>
                    <a:off x="9591120" y="41958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20" name="Group 71"/>
                <p:cNvGrpSpPr/>
                <p:nvPr/>
              </p:nvGrpSpPr>
              <p:grpSpPr>
                <a:xfrm>
                  <a:off x="8991000" y="3936960"/>
                  <a:ext cx="247680" cy="482400"/>
                  <a:chOff x="8991000" y="3936960"/>
                  <a:chExt cx="247680" cy="482400"/>
                </a:xfrm>
              </p:grpSpPr>
              <p:sp>
                <p:nvSpPr>
                  <p:cNvPr id="121" name="Oval 72"/>
                  <p:cNvSpPr/>
                  <p:nvPr/>
                </p:nvSpPr>
                <p:spPr>
                  <a:xfrm>
                    <a:off x="8991360" y="393696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2" name="Line 73"/>
                  <p:cNvSpPr/>
                  <p:nvPr/>
                </p:nvSpPr>
                <p:spPr>
                  <a:xfrm flipH="1">
                    <a:off x="8991000" y="412956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3" name="Line 74"/>
                  <p:cNvSpPr/>
                  <p:nvPr/>
                </p:nvSpPr>
                <p:spPr>
                  <a:xfrm flipH="1">
                    <a:off x="8991000" y="432288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4" name="Line 75"/>
                  <p:cNvSpPr/>
                  <p:nvPr/>
                </p:nvSpPr>
                <p:spPr>
                  <a:xfrm>
                    <a:off x="9114840" y="412956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5" name="Line 76"/>
                  <p:cNvSpPr/>
                  <p:nvPr/>
                </p:nvSpPr>
                <p:spPr>
                  <a:xfrm>
                    <a:off x="9114840" y="412956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6" name="Line 77"/>
                  <p:cNvSpPr/>
                  <p:nvPr/>
                </p:nvSpPr>
                <p:spPr>
                  <a:xfrm>
                    <a:off x="9114840" y="432288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sp>
          <p:nvSpPr>
            <p:cNvPr id="127" name="Text Box 78"/>
            <p:cNvSpPr/>
            <p:nvPr/>
          </p:nvSpPr>
          <p:spPr>
            <a:xfrm>
              <a:off x="8020440" y="541008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固定資產登記冊</a:t>
              </a:r>
              <a:r>
                <a:rPr b="0" lang="zh-CN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AutoShape 79"/>
            <p:cNvSpPr/>
            <p:nvPr/>
          </p:nvSpPr>
          <p:spPr>
            <a:xfrm>
              <a:off x="8199360" y="464832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Text Box 80"/>
            <p:cNvSpPr/>
            <p:nvPr/>
          </p:nvSpPr>
          <p:spPr>
            <a:xfrm>
              <a:off x="6756480" y="594504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銷售及存貨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AutoShape 81"/>
            <p:cNvSpPr/>
            <p:nvPr/>
          </p:nvSpPr>
          <p:spPr>
            <a:xfrm>
              <a:off x="6827760" y="5181480"/>
              <a:ext cx="576360" cy="79236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Text Box 82"/>
            <p:cNvSpPr/>
            <p:nvPr/>
          </p:nvSpPr>
          <p:spPr>
            <a:xfrm>
              <a:off x="5156280" y="579276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其他登記冊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AutoShape 83"/>
            <p:cNvSpPr/>
            <p:nvPr/>
          </p:nvSpPr>
          <p:spPr>
            <a:xfrm>
              <a:off x="5227560" y="502920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Line 84"/>
          <p:cNvSpPr/>
          <p:nvPr/>
        </p:nvSpPr>
        <p:spPr>
          <a:xfrm flipV="1">
            <a:off x="2819520" y="2285640"/>
            <a:ext cx="5257800" cy="60948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85"/>
          <p:cNvSpPr/>
          <p:nvPr/>
        </p:nvSpPr>
        <p:spPr>
          <a:xfrm flipV="1">
            <a:off x="3048120" y="2514600"/>
            <a:ext cx="5029200" cy="9144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86"/>
          <p:cNvSpPr/>
          <p:nvPr/>
        </p:nvSpPr>
        <p:spPr>
          <a:xfrm>
            <a:off x="5791320" y="2895480"/>
            <a:ext cx="297180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教育局津貼</a:t>
            </a:r>
            <a:r>
              <a:rPr b="0" lang="zh-CN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收入草案</a:t>
            </a:r>
            <a:r>
              <a:rPr b="0" lang="zh-CN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支出草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buClr>
                <a:srgbClr val="ff0000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ff0000"/>
                </a:solidFill>
                <a:latin typeface="Trebuchet MS"/>
                <a:ea typeface="新細明體"/>
              </a:rPr>
              <a:t>審查預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核定</a:t>
            </a:r>
            <a:r>
              <a:rPr b="0" lang="zh-TW" sz="1600" spc="-1" strike="noStrike">
                <a:solidFill>
                  <a:srgbClr val="6600ff"/>
                </a:solidFill>
                <a:latin typeface="Times New Roman"/>
                <a:ea typeface="新細明體"/>
              </a:rPr>
              <a:t>/</a:t>
            </a: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還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修改預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查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報告</a:t>
            </a:r>
            <a:r>
              <a:rPr b="0" lang="zh-CN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87"/>
          <p:cNvSpPr/>
          <p:nvPr/>
        </p:nvSpPr>
        <p:spPr>
          <a:xfrm>
            <a:off x="5606280" y="3809880"/>
            <a:ext cx="1734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ff0000"/>
                </a:solidFill>
                <a:latin typeface="Trebuchet MS"/>
                <a:ea typeface="新細明體"/>
              </a:rPr>
              <a:t>4.   </a:t>
            </a:r>
            <a:r>
              <a:rPr b="0" lang="zh-TW" sz="1600" spc="-1" strike="noStrike">
                <a:solidFill>
                  <a:srgbClr val="ff0000"/>
                </a:solidFill>
                <a:latin typeface="Trebuchet MS"/>
                <a:ea typeface="新細明體"/>
              </a:rPr>
              <a:t>審查預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Group 88"/>
          <p:cNvGrpSpPr/>
          <p:nvPr/>
        </p:nvGrpSpPr>
        <p:grpSpPr>
          <a:xfrm>
            <a:off x="2850120" y="914400"/>
            <a:ext cx="768960" cy="1026720"/>
            <a:chOff x="2850120" y="914400"/>
            <a:chExt cx="768960" cy="1026720"/>
          </a:xfrm>
        </p:grpSpPr>
        <p:sp>
          <p:nvSpPr>
            <p:cNvPr id="138" name="Text Box 89"/>
            <p:cNvSpPr/>
            <p:nvPr/>
          </p:nvSpPr>
          <p:spPr>
            <a:xfrm>
              <a:off x="2850120" y="914400"/>
              <a:ext cx="76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工作計劃組長</a:t>
              </a:r>
              <a:r>
                <a:rPr b="0" lang="zh-CN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9" name="Group 90"/>
            <p:cNvGrpSpPr/>
            <p:nvPr/>
          </p:nvGrpSpPr>
          <p:grpSpPr>
            <a:xfrm>
              <a:off x="3105360" y="1346400"/>
              <a:ext cx="237960" cy="594720"/>
              <a:chOff x="3105360" y="1346400"/>
              <a:chExt cx="237960" cy="594720"/>
            </a:xfrm>
          </p:grpSpPr>
          <p:sp>
            <p:nvSpPr>
              <p:cNvPr id="140" name="Oval 91"/>
              <p:cNvSpPr/>
              <p:nvPr/>
            </p:nvSpPr>
            <p:spPr>
              <a:xfrm>
                <a:off x="3105360" y="1346400"/>
                <a:ext cx="237960" cy="23760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Line 92"/>
              <p:cNvSpPr/>
              <p:nvPr/>
            </p:nvSpPr>
            <p:spPr>
              <a:xfrm flipH="1">
                <a:off x="3105360" y="158400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Line 93"/>
              <p:cNvSpPr/>
              <p:nvPr/>
            </p:nvSpPr>
            <p:spPr>
              <a:xfrm flipH="1">
                <a:off x="3105360" y="182232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Line 94"/>
              <p:cNvSpPr/>
              <p:nvPr/>
            </p:nvSpPr>
            <p:spPr>
              <a:xfrm>
                <a:off x="3224160" y="1584000"/>
                <a:ext cx="0" cy="2379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Line 95"/>
              <p:cNvSpPr/>
              <p:nvPr/>
            </p:nvSpPr>
            <p:spPr>
              <a:xfrm>
                <a:off x="3224160" y="158400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Line 96"/>
              <p:cNvSpPr/>
              <p:nvPr/>
            </p:nvSpPr>
            <p:spPr>
              <a:xfrm>
                <a:off x="3224160" y="182232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6" name="Line 97"/>
          <p:cNvSpPr/>
          <p:nvPr/>
        </p:nvSpPr>
        <p:spPr>
          <a:xfrm>
            <a:off x="3505320" y="1676520"/>
            <a:ext cx="4495680" cy="30456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修改收入預算</a:t>
            </a:r>
            <a:r>
              <a:rPr b="1" lang="zh-CN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5975280" y="3292560"/>
            <a:ext cx="24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7967520" y="1828800"/>
            <a:ext cx="990720" cy="30492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Group 14"/>
          <p:cNvGrpSpPr/>
          <p:nvPr/>
        </p:nvGrpSpPr>
        <p:grpSpPr>
          <a:xfrm>
            <a:off x="5867280" y="4876920"/>
            <a:ext cx="4572000" cy="1447560"/>
            <a:chOff x="5867280" y="4876920"/>
            <a:chExt cx="4572000" cy="1447560"/>
          </a:xfrm>
        </p:grpSpPr>
        <p:sp>
          <p:nvSpPr>
            <p:cNvPr id="205" name="AutoShape 15"/>
            <p:cNvSpPr/>
            <p:nvPr/>
          </p:nvSpPr>
          <p:spPr>
            <a:xfrm>
              <a:off x="5867280" y="4876920"/>
              <a:ext cx="4572000" cy="14475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Text Box 16"/>
            <p:cNvSpPr/>
            <p:nvPr/>
          </p:nvSpPr>
          <p:spPr>
            <a:xfrm>
              <a:off x="5867280" y="4876920"/>
              <a:ext cx="4572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預算狀況從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「凍結」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改為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「審查」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7" name="Rectangle 40"/>
          <p:cNvSpPr/>
          <p:nvPr/>
        </p:nvSpPr>
        <p:spPr>
          <a:xfrm>
            <a:off x="0" y="30240"/>
            <a:ext cx="1847880" cy="13827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41"/>
          <p:cNvSpPr/>
          <p:nvPr/>
        </p:nvSpPr>
        <p:spPr>
          <a:xfrm>
            <a:off x="0" y="2565360"/>
            <a:ext cx="1847880" cy="40276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0" y="-1440"/>
            <a:ext cx="312408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收入預算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-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解除凍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3"/>
          <p:cNvSpPr/>
          <p:nvPr/>
        </p:nvSpPr>
        <p:spPr>
          <a:xfrm>
            <a:off x="2286000" y="720720"/>
            <a:ext cx="78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rebuchet MS"/>
                <a:ea typeface="新細明體"/>
              </a:rPr>
              <a:t>收入預算 </a:t>
            </a:r>
            <a:r>
              <a:rPr b="1" lang="zh-TW" sz="1800" spc="-1" strike="noStrike">
                <a:solidFill>
                  <a:srgbClr val="ff0000"/>
                </a:solidFill>
                <a:latin typeface="Trebuchet MS"/>
                <a:ea typeface="新細明體"/>
              </a:rPr>
              <a:t>- </a:t>
            </a:r>
            <a:r>
              <a:rPr b="1" lang="zh-TW" sz="1800" spc="-1" strike="noStrike">
                <a:solidFill>
                  <a:srgbClr val="ff0000"/>
                </a:solidFill>
                <a:latin typeface="Trebuchet MS"/>
                <a:ea typeface="新細明體"/>
              </a:rPr>
              <a:t>解除凍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2286000" y="129528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36600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解除凍結預算後，收入預算的狀況將從「凍結」轉換至「審查」。預算功能將從顯示模式轉換至編輯模式。用戶可作出進一步修改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修改支出預算</a:t>
            </a:r>
            <a:r>
              <a:rPr b="0" lang="zh-CN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Rectangle 40"/>
          <p:cNvSpPr/>
          <p:nvPr/>
        </p:nvSpPr>
        <p:spPr>
          <a:xfrm>
            <a:off x="0" y="30240"/>
            <a:ext cx="1847880" cy="13827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Group 32"/>
          <p:cNvGrpSpPr/>
          <p:nvPr/>
        </p:nvGrpSpPr>
        <p:grpSpPr>
          <a:xfrm>
            <a:off x="5951520" y="3592440"/>
            <a:ext cx="5003280" cy="2190960"/>
            <a:chOff x="5951520" y="3592440"/>
            <a:chExt cx="5003280" cy="2190960"/>
          </a:xfrm>
        </p:grpSpPr>
        <p:sp>
          <p:nvSpPr>
            <p:cNvPr id="215" name="AutoShape 33"/>
            <p:cNvSpPr/>
            <p:nvPr/>
          </p:nvSpPr>
          <p:spPr>
            <a:xfrm>
              <a:off x="5951520" y="3592440"/>
              <a:ext cx="5003280" cy="21909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 Box 34"/>
            <p:cNvSpPr/>
            <p:nvPr/>
          </p:nvSpPr>
          <p:spPr>
            <a:xfrm>
              <a:off x="5951520" y="3621600"/>
              <a:ext cx="50032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1</a:t>
              </a: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在左邊項目選單按下 </a:t>
              </a:r>
              <a:r>
                <a:rPr b="1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[</a:t>
              </a:r>
              <a:r>
                <a:rPr b="1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預算</a:t>
              </a:r>
              <a:r>
                <a:rPr b="1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][</a:t>
              </a:r>
              <a:r>
                <a:rPr b="1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審查預算</a:t>
              </a:r>
              <a:r>
                <a:rPr b="1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2</a:t>
              </a: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按下 </a:t>
              </a:r>
              <a:r>
                <a:rPr b="1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[</a:t>
              </a:r>
              <a:r>
                <a:rPr b="1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支出</a:t>
              </a:r>
              <a:r>
                <a:rPr b="1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] </a:t>
              </a: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標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3</a:t>
              </a: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選擇 </a:t>
              </a:r>
              <a:r>
                <a:rPr b="1" lang="en-US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[</a:t>
              </a:r>
              <a:r>
                <a:rPr b="1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學校級別</a:t>
              </a:r>
              <a:r>
                <a:rPr b="1" lang="en-US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/</a:t>
              </a:r>
              <a:r>
                <a:rPr b="1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授課制</a:t>
              </a:r>
              <a:r>
                <a:rPr b="1" lang="en-US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]</a:t>
              </a:r>
              <a:r>
                <a:rPr b="0" lang="en-US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 </a:t>
              </a: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及 </a:t>
              </a:r>
              <a:r>
                <a:rPr b="1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[</a:t>
              </a:r>
              <a:r>
                <a:rPr b="1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會計年度</a:t>
              </a:r>
              <a:r>
                <a:rPr b="1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]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Rectangle 35"/>
          <p:cNvSpPr/>
          <p:nvPr/>
        </p:nvSpPr>
        <p:spPr>
          <a:xfrm>
            <a:off x="6527880" y="1138320"/>
            <a:ext cx="3889440" cy="38088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41"/>
          <p:cNvSpPr/>
          <p:nvPr/>
        </p:nvSpPr>
        <p:spPr>
          <a:xfrm>
            <a:off x="0" y="2565360"/>
            <a:ext cx="1847880" cy="40276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22"/>
          <p:cNvSpPr/>
          <p:nvPr/>
        </p:nvSpPr>
        <p:spPr>
          <a:xfrm>
            <a:off x="7920" y="-1440"/>
            <a:ext cx="312408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rebuchet MS"/>
                <a:ea typeface="新細明體"/>
              </a:rPr>
              <a:t>凍結支出預算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35"/>
          <p:cNvSpPr/>
          <p:nvPr/>
        </p:nvSpPr>
        <p:spPr>
          <a:xfrm>
            <a:off x="3287880" y="1103400"/>
            <a:ext cx="1368360" cy="38088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修改支出預算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Oval 13"/>
          <p:cNvSpPr/>
          <p:nvPr/>
        </p:nvSpPr>
        <p:spPr>
          <a:xfrm>
            <a:off x="4727520" y="836640"/>
            <a:ext cx="838080" cy="30492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5791320" y="4343400"/>
            <a:ext cx="4647960" cy="2057040"/>
            <a:chOff x="5791320" y="4343400"/>
            <a:chExt cx="4647960" cy="2057040"/>
          </a:xfrm>
        </p:grpSpPr>
        <p:sp>
          <p:nvSpPr>
            <p:cNvPr id="224" name="AutoShape 19"/>
            <p:cNvSpPr/>
            <p:nvPr/>
          </p:nvSpPr>
          <p:spPr>
            <a:xfrm>
              <a:off x="5791320" y="4343400"/>
              <a:ext cx="4647960" cy="205704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Text Box 20"/>
            <p:cNvSpPr/>
            <p:nvPr/>
          </p:nvSpPr>
          <p:spPr>
            <a:xfrm>
              <a:off x="5791320" y="4343400"/>
              <a:ext cx="46479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4</a:t>
              </a: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選擇 </a:t>
              </a:r>
              <a:r>
                <a:rPr b="1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[</a:t>
              </a:r>
              <a:r>
                <a:rPr b="1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工作計劃代碼</a:t>
              </a:r>
              <a:r>
                <a:rPr b="1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] </a:t>
              </a: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旁邊的核選方塊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5</a:t>
              </a: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按下 </a:t>
              </a:r>
              <a:r>
                <a:rPr b="1" lang="zh-TW" sz="18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[</a:t>
              </a:r>
              <a:r>
                <a:rPr b="1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凍結待批</a:t>
              </a:r>
              <a:r>
                <a:rPr b="1" lang="zh-TW" sz="18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] </a:t>
              </a: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按鈕</a:t>
              </a:r>
              <a:r>
                <a:rPr b="0" lang="zh-CN" sz="18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Rectangle 21"/>
          <p:cNvSpPr/>
          <p:nvPr/>
        </p:nvSpPr>
        <p:spPr>
          <a:xfrm>
            <a:off x="2335320" y="3225960"/>
            <a:ext cx="304560" cy="27432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40"/>
          <p:cNvSpPr/>
          <p:nvPr/>
        </p:nvSpPr>
        <p:spPr>
          <a:xfrm>
            <a:off x="0" y="30240"/>
            <a:ext cx="1847880" cy="13827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41"/>
          <p:cNvSpPr/>
          <p:nvPr/>
        </p:nvSpPr>
        <p:spPr>
          <a:xfrm>
            <a:off x="0" y="2565360"/>
            <a:ext cx="1847880" cy="40276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22"/>
          <p:cNvSpPr/>
          <p:nvPr/>
        </p:nvSpPr>
        <p:spPr>
          <a:xfrm>
            <a:off x="7920" y="-1440"/>
            <a:ext cx="312408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rebuchet MS"/>
                <a:ea typeface="新細明體"/>
              </a:rPr>
              <a:t>凍結支出預算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修改支出預算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231" name="Group 12"/>
          <p:cNvGrpSpPr/>
          <p:nvPr/>
        </p:nvGrpSpPr>
        <p:grpSpPr>
          <a:xfrm>
            <a:off x="5715000" y="5181480"/>
            <a:ext cx="4723920" cy="1219320"/>
            <a:chOff x="5715000" y="5181480"/>
            <a:chExt cx="4723920" cy="1219320"/>
          </a:xfrm>
        </p:grpSpPr>
        <p:sp>
          <p:nvSpPr>
            <p:cNvPr id="232" name="AutoShape 13"/>
            <p:cNvSpPr/>
            <p:nvPr/>
          </p:nvSpPr>
          <p:spPr>
            <a:xfrm>
              <a:off x="5715000" y="5181480"/>
              <a:ext cx="4723920" cy="12193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Text Box 14"/>
            <p:cNvSpPr/>
            <p:nvPr/>
          </p:nvSpPr>
          <p:spPr>
            <a:xfrm>
              <a:off x="5715000" y="5181480"/>
              <a:ext cx="47239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預算狀況從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「審查」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改為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「凍結」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Rectangle 15"/>
          <p:cNvSpPr/>
          <p:nvPr/>
        </p:nvSpPr>
        <p:spPr>
          <a:xfrm>
            <a:off x="9624960" y="3430440"/>
            <a:ext cx="432000" cy="35892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0"/>
          <p:cNvSpPr/>
          <p:nvPr/>
        </p:nvSpPr>
        <p:spPr>
          <a:xfrm>
            <a:off x="0" y="30240"/>
            <a:ext cx="1847880" cy="13827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41"/>
          <p:cNvSpPr/>
          <p:nvPr/>
        </p:nvSpPr>
        <p:spPr>
          <a:xfrm>
            <a:off x="0" y="2565360"/>
            <a:ext cx="1847880" cy="40276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0" y="0"/>
            <a:ext cx="31240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凍結支出預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"/>
          <p:cNvSpPr/>
          <p:nvPr/>
        </p:nvSpPr>
        <p:spPr>
          <a:xfrm>
            <a:off x="2286000" y="720720"/>
            <a:ext cx="78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rebuchet MS"/>
                <a:ea typeface="新細明體"/>
              </a:rPr>
              <a:t>凍結支出預算</a:t>
            </a:r>
            <a:r>
              <a:rPr b="1" lang="zh-CN" sz="1800" spc="-1" strike="noStrike">
                <a:solidFill>
                  <a:srgbClr val="ff0000"/>
                </a:solidFill>
                <a:latin typeface="Trebuchet MS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286000" y="1295280"/>
            <a:ext cx="762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buClr>
                <a:srgbClr val="336600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校長凍結預算後，所選支出預算的狀況將更新為「凍結」。一旦預算被凍結，用戶將不能再作修改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90440" indent="-190440">
              <a:lnSpc>
                <a:spcPct val="100000"/>
              </a:lnSpc>
              <a:buClr>
                <a:srgbClr val="336600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若預算已被凍結，用戶將不能在支出草案功能下，把預算狀況還原為「草案」。</a:t>
            </a:r>
            <a:r>
              <a:rPr b="0" lang="zh-CN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修改支出預算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Rectangle 40"/>
          <p:cNvSpPr/>
          <p:nvPr/>
        </p:nvSpPr>
        <p:spPr>
          <a:xfrm>
            <a:off x="0" y="30240"/>
            <a:ext cx="1847880" cy="13827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41"/>
          <p:cNvSpPr/>
          <p:nvPr/>
        </p:nvSpPr>
        <p:spPr>
          <a:xfrm>
            <a:off x="0" y="2565360"/>
            <a:ext cx="1847880" cy="40276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12"/>
          <p:cNvSpPr/>
          <p:nvPr/>
        </p:nvSpPr>
        <p:spPr>
          <a:xfrm>
            <a:off x="0" y="-1440"/>
            <a:ext cx="35053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支出預算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-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解除凍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4" name="Group 32"/>
          <p:cNvGrpSpPr/>
          <p:nvPr/>
        </p:nvGrpSpPr>
        <p:grpSpPr>
          <a:xfrm>
            <a:off x="5951520" y="3592440"/>
            <a:ext cx="5003280" cy="2261160"/>
            <a:chOff x="5951520" y="3592440"/>
            <a:chExt cx="5003280" cy="2261160"/>
          </a:xfrm>
        </p:grpSpPr>
        <p:sp>
          <p:nvSpPr>
            <p:cNvPr id="245" name="AutoShape 33"/>
            <p:cNvSpPr/>
            <p:nvPr/>
          </p:nvSpPr>
          <p:spPr>
            <a:xfrm>
              <a:off x="5951520" y="3592440"/>
              <a:ext cx="5003280" cy="22611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Text Box 34"/>
            <p:cNvSpPr/>
            <p:nvPr/>
          </p:nvSpPr>
          <p:spPr>
            <a:xfrm>
              <a:off x="5951520" y="3622320"/>
              <a:ext cx="50032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1</a:t>
              </a: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在左邊項目選單按下 </a:t>
              </a:r>
              <a:r>
                <a:rPr b="1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[</a:t>
              </a:r>
              <a:r>
                <a:rPr b="1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預算</a:t>
              </a:r>
              <a:r>
                <a:rPr b="1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][</a:t>
              </a:r>
              <a:r>
                <a:rPr b="1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審查預算</a:t>
              </a:r>
              <a:r>
                <a:rPr b="1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2</a:t>
              </a: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按下 </a:t>
              </a:r>
              <a:r>
                <a:rPr b="1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[</a:t>
              </a:r>
              <a:r>
                <a:rPr b="1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支出</a:t>
              </a:r>
              <a:r>
                <a:rPr b="1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] </a:t>
              </a: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標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3</a:t>
              </a: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選擇</a:t>
              </a:r>
              <a:r>
                <a:rPr b="1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[</a:t>
              </a:r>
              <a:r>
                <a:rPr b="1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學校級別</a:t>
              </a:r>
              <a:r>
                <a:rPr b="1" lang="en-US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/</a:t>
              </a:r>
              <a:r>
                <a:rPr b="1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授課制</a:t>
              </a:r>
              <a:r>
                <a:rPr b="1" lang="en-US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] </a:t>
              </a: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及 </a:t>
              </a:r>
              <a:r>
                <a:rPr b="1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[</a:t>
              </a:r>
              <a:r>
                <a:rPr b="1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會計年度</a:t>
              </a:r>
              <a:r>
                <a:rPr b="1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]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7" name="Rectangle 35"/>
          <p:cNvSpPr/>
          <p:nvPr/>
        </p:nvSpPr>
        <p:spPr>
          <a:xfrm>
            <a:off x="6527880" y="1138320"/>
            <a:ext cx="3889440" cy="38088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35"/>
          <p:cNvSpPr/>
          <p:nvPr/>
        </p:nvSpPr>
        <p:spPr>
          <a:xfrm>
            <a:off x="3287880" y="1138320"/>
            <a:ext cx="1439640" cy="38088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修改支出預算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Oval 10"/>
          <p:cNvSpPr/>
          <p:nvPr/>
        </p:nvSpPr>
        <p:spPr>
          <a:xfrm>
            <a:off x="5448240" y="766800"/>
            <a:ext cx="838440" cy="38088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Group 13"/>
          <p:cNvGrpSpPr/>
          <p:nvPr/>
        </p:nvGrpSpPr>
        <p:grpSpPr>
          <a:xfrm>
            <a:off x="5562720" y="4800600"/>
            <a:ext cx="4876200" cy="1676520"/>
            <a:chOff x="5562720" y="4800600"/>
            <a:chExt cx="4876200" cy="1676520"/>
          </a:xfrm>
        </p:grpSpPr>
        <p:sp>
          <p:nvSpPr>
            <p:cNvPr id="252" name="AutoShape 14"/>
            <p:cNvSpPr/>
            <p:nvPr/>
          </p:nvSpPr>
          <p:spPr>
            <a:xfrm>
              <a:off x="5562720" y="4800600"/>
              <a:ext cx="4876200" cy="16765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 Box 15"/>
            <p:cNvSpPr/>
            <p:nvPr/>
          </p:nvSpPr>
          <p:spPr>
            <a:xfrm>
              <a:off x="5562720" y="4800600"/>
              <a:ext cx="487620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5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選擇 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工作計劃代碼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下已選的方塊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6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按下 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不凍結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按鈕</a:t>
              </a:r>
              <a:r>
                <a:rPr b="1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Rectangle 16"/>
          <p:cNvSpPr/>
          <p:nvPr/>
        </p:nvSpPr>
        <p:spPr>
          <a:xfrm>
            <a:off x="2351160" y="3260880"/>
            <a:ext cx="216000" cy="27432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40"/>
          <p:cNvSpPr/>
          <p:nvPr/>
        </p:nvSpPr>
        <p:spPr>
          <a:xfrm>
            <a:off x="0" y="30240"/>
            <a:ext cx="1847880" cy="13827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41"/>
          <p:cNvSpPr/>
          <p:nvPr/>
        </p:nvSpPr>
        <p:spPr>
          <a:xfrm>
            <a:off x="0" y="2565360"/>
            <a:ext cx="1847880" cy="40276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0" y="-1440"/>
            <a:ext cx="35053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支出預算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-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解除凍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修改支出預算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9624960" y="3429000"/>
            <a:ext cx="503280" cy="33804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0" name="Group 25"/>
          <p:cNvGrpSpPr/>
          <p:nvPr/>
        </p:nvGrpSpPr>
        <p:grpSpPr>
          <a:xfrm>
            <a:off x="3733920" y="4876920"/>
            <a:ext cx="4572000" cy="1447560"/>
            <a:chOff x="3733920" y="4876920"/>
            <a:chExt cx="4572000" cy="1447560"/>
          </a:xfrm>
        </p:grpSpPr>
        <p:sp>
          <p:nvSpPr>
            <p:cNvPr id="261" name="AutoShape 26"/>
            <p:cNvSpPr/>
            <p:nvPr/>
          </p:nvSpPr>
          <p:spPr>
            <a:xfrm>
              <a:off x="3733920" y="4876920"/>
              <a:ext cx="4572000" cy="14475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Text Box 27"/>
            <p:cNvSpPr/>
            <p:nvPr/>
          </p:nvSpPr>
          <p:spPr>
            <a:xfrm>
              <a:off x="3733920" y="487692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SimSun"/>
                  <a:ea typeface="新細明體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預算狀況從</a:t>
              </a:r>
              <a:r>
                <a:rPr b="1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「凍結」</a:t>
              </a: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改為</a:t>
              </a:r>
              <a:r>
                <a:rPr b="1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「審查」</a:t>
              </a:r>
              <a:r>
                <a:rPr b="0" lang="zh-CN" sz="18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3" name="Picture 1" descr=""/>
          <p:cNvPicPr/>
          <p:nvPr/>
        </p:nvPicPr>
        <p:blipFill>
          <a:blip r:embed="rId2"/>
          <a:stretch/>
        </p:blipFill>
        <p:spPr>
          <a:xfrm>
            <a:off x="2743200" y="1832040"/>
            <a:ext cx="1352520" cy="39996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40"/>
          <p:cNvSpPr/>
          <p:nvPr/>
        </p:nvSpPr>
        <p:spPr>
          <a:xfrm>
            <a:off x="0" y="30240"/>
            <a:ext cx="1847880" cy="13827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41"/>
          <p:cNvSpPr/>
          <p:nvPr/>
        </p:nvSpPr>
        <p:spPr>
          <a:xfrm>
            <a:off x="0" y="2565360"/>
            <a:ext cx="1847880" cy="40276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0" y="-1440"/>
            <a:ext cx="35053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支出預算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-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解除凍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3"/>
          <p:cNvSpPr/>
          <p:nvPr/>
        </p:nvSpPr>
        <p:spPr>
          <a:xfrm>
            <a:off x="2286000" y="720720"/>
            <a:ext cx="78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rebuchet MS"/>
                <a:ea typeface="新細明體"/>
              </a:rPr>
              <a:t>支出預算解凍</a:t>
            </a:r>
            <a:r>
              <a:rPr b="1" lang="zh-CN" sz="1800" spc="-1" strike="noStrike">
                <a:solidFill>
                  <a:srgbClr val="ff0000"/>
                </a:solidFill>
                <a:latin typeface="Trebuchet MS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2286000" y="1295280"/>
            <a:ext cx="78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buClr>
                <a:srgbClr val="336600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解凍預算後，支出預算的狀況會從「凍結」改為「審查」。預算版面將從顯示模式轉換至編輯模式。用戶此時可以任意修改預算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9" name="Group 5"/>
          <p:cNvGrpSpPr/>
          <p:nvPr/>
        </p:nvGrpSpPr>
        <p:grpSpPr>
          <a:xfrm>
            <a:off x="8904240" y="4981680"/>
            <a:ext cx="1447920" cy="999360"/>
            <a:chOff x="8904240" y="4981680"/>
            <a:chExt cx="1447920" cy="999360"/>
          </a:xfrm>
        </p:grpSpPr>
        <p:sp>
          <p:nvSpPr>
            <p:cNvPr id="270" name="AutoShape 6"/>
            <p:cNvSpPr/>
            <p:nvPr/>
          </p:nvSpPr>
          <p:spPr>
            <a:xfrm flipV="1">
              <a:off x="8997840" y="5266080"/>
              <a:ext cx="1295280" cy="714960"/>
            </a:xfrm>
            <a:prstGeom prst="flowChartOffpageConnector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Text Box 7"/>
            <p:cNvSpPr/>
            <p:nvPr/>
          </p:nvSpPr>
          <p:spPr>
            <a:xfrm>
              <a:off x="8904240" y="4981680"/>
              <a:ext cx="1447920" cy="9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按退出按鈕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返回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修改</a:t>
            </a:r>
            <a:r>
              <a:rPr b="0" lang="zh-TW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預算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438280" y="504720"/>
            <a:ext cx="48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rebuchet MS"/>
                <a:ea typeface="新細明體"/>
              </a:rPr>
              <a:t>預算 — 審查預算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2362320" y="1206360"/>
            <a:ext cx="746748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目的：</a:t>
            </a:r>
            <a:r>
              <a:rPr b="0" lang="zh-CN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>
              <a:lnSpc>
                <a:spcPct val="100000"/>
              </a:lnSpc>
              <a:buClr>
                <a:srgbClr val="336600"/>
              </a:buClr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為達到分工的目的，學校會計文員並沒有審查、凍結以及解凍預算的預設存取權限</a:t>
            </a:r>
            <a:r>
              <a:rPr b="0" lang="zh-CN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>
              <a:lnSpc>
                <a:spcPct val="100000"/>
              </a:lnSpc>
              <a:buClr>
                <a:srgbClr val="336600"/>
              </a:buClr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這功能容許校長在預算送達法團校董會（</a:t>
            </a:r>
            <a:r>
              <a:rPr b="0" lang="en-US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IMC</a:t>
            </a: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）</a:t>
            </a: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核定前，作審查及修改預算。在預算未凍結前，校長可直接修改預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 algn="just">
              <a:lnSpc>
                <a:spcPct val="100000"/>
              </a:lnSpc>
              <a:buClr>
                <a:srgbClr val="336600"/>
              </a:buClr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若預算已被凍結正等待</a:t>
            </a:r>
            <a:r>
              <a:rPr b="0" lang="en-US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IMC</a:t>
            </a: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核定時，不能再作修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 algn="just">
              <a:lnSpc>
                <a:spcPct val="100000"/>
              </a:lnSpc>
              <a:buClr>
                <a:srgbClr val="336600"/>
              </a:buClr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校長可解除已凍結的預算，以便進行進一步的修改。預算解凍後，校長可直接修改預算。預算狀況將會由「凍結」改為「審查」。版面將自顯示模式轉換為編輯模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 algn="just">
              <a:lnSpc>
                <a:spcPct val="100000"/>
              </a:lnSpc>
              <a:buClr>
                <a:srgbClr val="336600"/>
              </a:buClr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 algn="just">
              <a:lnSpc>
                <a:spcPct val="100000"/>
              </a:lnSpc>
              <a:buClr>
                <a:srgbClr val="336600"/>
              </a:buClr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對於擁有多個學校級別</a:t>
            </a: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/</a:t>
            </a: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授課制的學校，應分別呈上審查個別學校級別</a:t>
            </a: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/</a:t>
            </a: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授課制的預算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 algn="just">
              <a:lnSpc>
                <a:spcPct val="100000"/>
              </a:lnSpc>
              <a:buClr>
                <a:srgbClr val="336600"/>
              </a:buClr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0"/>
          <p:cNvSpPr/>
          <p:nvPr/>
        </p:nvSpPr>
        <p:spPr>
          <a:xfrm>
            <a:off x="0" y="30240"/>
            <a:ext cx="1847880" cy="13827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修改收入預算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52" name="Group 32"/>
          <p:cNvGrpSpPr/>
          <p:nvPr/>
        </p:nvGrpSpPr>
        <p:grpSpPr>
          <a:xfrm>
            <a:off x="5808600" y="3592440"/>
            <a:ext cx="5146200" cy="2219040"/>
            <a:chOff x="5808600" y="3592440"/>
            <a:chExt cx="5146200" cy="2219040"/>
          </a:xfrm>
        </p:grpSpPr>
        <p:sp>
          <p:nvSpPr>
            <p:cNvPr id="153" name="AutoShape 33"/>
            <p:cNvSpPr/>
            <p:nvPr/>
          </p:nvSpPr>
          <p:spPr>
            <a:xfrm>
              <a:off x="5808600" y="3592440"/>
              <a:ext cx="5146200" cy="221904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 Box 34"/>
            <p:cNvSpPr/>
            <p:nvPr/>
          </p:nvSpPr>
          <p:spPr>
            <a:xfrm>
              <a:off x="5808600" y="3592440"/>
              <a:ext cx="5146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1</a:t>
              </a: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在左邊項目選單按下 </a:t>
              </a:r>
              <a:r>
                <a:rPr b="1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[</a:t>
              </a:r>
              <a:r>
                <a:rPr b="1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預算</a:t>
              </a:r>
              <a:r>
                <a:rPr b="1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][</a:t>
              </a:r>
              <a:r>
                <a:rPr b="1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審查預算</a:t>
              </a:r>
              <a:r>
                <a:rPr b="1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依預設，系統會顯示 </a:t>
              </a:r>
              <a:r>
                <a:rPr b="1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[</a:t>
              </a:r>
              <a:r>
                <a:rPr b="1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收入</a:t>
              </a:r>
              <a:r>
                <a:rPr b="1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] </a:t>
              </a:r>
              <a:r>
                <a:rPr b="0" lang="zh-TW" sz="18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版面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2</a:t>
              </a: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選擇 </a:t>
              </a:r>
              <a:r>
                <a:rPr b="1" lang="en-US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[</a:t>
              </a:r>
              <a:r>
                <a:rPr b="1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學校級別</a:t>
              </a:r>
              <a:r>
                <a:rPr b="1" lang="en-US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/</a:t>
              </a:r>
              <a:r>
                <a:rPr b="1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授課制</a:t>
              </a:r>
              <a:r>
                <a:rPr b="1" lang="en-US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] </a:t>
              </a: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及 </a:t>
              </a:r>
              <a:r>
                <a:rPr b="1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[</a:t>
              </a:r>
              <a:r>
                <a:rPr b="1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會計年度</a:t>
              </a:r>
              <a:r>
                <a:rPr b="1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]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Rectangle 35"/>
          <p:cNvSpPr/>
          <p:nvPr/>
        </p:nvSpPr>
        <p:spPr>
          <a:xfrm>
            <a:off x="6527880" y="1138320"/>
            <a:ext cx="3889440" cy="38088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41"/>
          <p:cNvSpPr/>
          <p:nvPr/>
        </p:nvSpPr>
        <p:spPr>
          <a:xfrm>
            <a:off x="0" y="2565360"/>
            <a:ext cx="1847880" cy="40276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37"/>
          <p:cNvSpPr/>
          <p:nvPr/>
        </p:nvSpPr>
        <p:spPr>
          <a:xfrm>
            <a:off x="0" y="-1440"/>
            <a:ext cx="312408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凍結收入預算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35"/>
          <p:cNvSpPr/>
          <p:nvPr/>
        </p:nvSpPr>
        <p:spPr>
          <a:xfrm>
            <a:off x="3359160" y="1166760"/>
            <a:ext cx="1657440" cy="27468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修改收入預算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60" name="Group 40"/>
          <p:cNvGrpSpPr/>
          <p:nvPr/>
        </p:nvGrpSpPr>
        <p:grpSpPr>
          <a:xfrm>
            <a:off x="5867280" y="4724280"/>
            <a:ext cx="4572000" cy="1524240"/>
            <a:chOff x="5867280" y="4724280"/>
            <a:chExt cx="4572000" cy="1524240"/>
          </a:xfrm>
        </p:grpSpPr>
        <p:sp>
          <p:nvSpPr>
            <p:cNvPr id="161" name="AutoShape 41"/>
            <p:cNvSpPr/>
            <p:nvPr/>
          </p:nvSpPr>
          <p:spPr>
            <a:xfrm>
              <a:off x="5867280" y="4724280"/>
              <a:ext cx="4572000" cy="152424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Text Box 42"/>
            <p:cNvSpPr/>
            <p:nvPr/>
          </p:nvSpPr>
          <p:spPr>
            <a:xfrm>
              <a:off x="5867280" y="4724280"/>
              <a:ext cx="4572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3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按下 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凍結待批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按鈕，以準備等待學校管理委員會的批核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Oval 43"/>
          <p:cNvSpPr/>
          <p:nvPr/>
        </p:nvSpPr>
        <p:spPr>
          <a:xfrm>
            <a:off x="5016600" y="836640"/>
            <a:ext cx="761760" cy="30492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40"/>
          <p:cNvSpPr/>
          <p:nvPr/>
        </p:nvSpPr>
        <p:spPr>
          <a:xfrm>
            <a:off x="0" y="30240"/>
            <a:ext cx="1847880" cy="13827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41"/>
          <p:cNvSpPr/>
          <p:nvPr/>
        </p:nvSpPr>
        <p:spPr>
          <a:xfrm>
            <a:off x="0" y="2565360"/>
            <a:ext cx="1847880" cy="40276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37"/>
          <p:cNvSpPr/>
          <p:nvPr/>
        </p:nvSpPr>
        <p:spPr>
          <a:xfrm>
            <a:off x="0" y="-1440"/>
            <a:ext cx="312408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凍結收入預算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修改收入預算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7896240" y="1828800"/>
            <a:ext cx="990720" cy="30492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Group 11"/>
          <p:cNvGrpSpPr/>
          <p:nvPr/>
        </p:nvGrpSpPr>
        <p:grpSpPr>
          <a:xfrm>
            <a:off x="6019920" y="4876920"/>
            <a:ext cx="4419360" cy="1447560"/>
            <a:chOff x="6019920" y="4876920"/>
            <a:chExt cx="4419360" cy="1447560"/>
          </a:xfrm>
        </p:grpSpPr>
        <p:sp>
          <p:nvSpPr>
            <p:cNvPr id="170" name="AutoShape 12"/>
            <p:cNvSpPr/>
            <p:nvPr/>
          </p:nvSpPr>
          <p:spPr>
            <a:xfrm>
              <a:off x="6019920" y="4876920"/>
              <a:ext cx="4419360" cy="14475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6019920" y="4876920"/>
              <a:ext cx="4419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狀況現在從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「審查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」改為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「凍結」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Rectangle 40"/>
          <p:cNvSpPr/>
          <p:nvPr/>
        </p:nvSpPr>
        <p:spPr>
          <a:xfrm>
            <a:off x="0" y="30240"/>
            <a:ext cx="1847880" cy="13827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41"/>
          <p:cNvSpPr/>
          <p:nvPr/>
        </p:nvSpPr>
        <p:spPr>
          <a:xfrm>
            <a:off x="0" y="2565360"/>
            <a:ext cx="1847880" cy="40276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37"/>
          <p:cNvSpPr/>
          <p:nvPr/>
        </p:nvSpPr>
        <p:spPr>
          <a:xfrm>
            <a:off x="0" y="-1440"/>
            <a:ext cx="312408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凍結收入預算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修改收入預算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7824960" y="1628640"/>
            <a:ext cx="990360" cy="30492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Group 7"/>
          <p:cNvGrpSpPr/>
          <p:nvPr/>
        </p:nvGrpSpPr>
        <p:grpSpPr>
          <a:xfrm>
            <a:off x="6095880" y="4495680"/>
            <a:ext cx="4343400" cy="1828440"/>
            <a:chOff x="6095880" y="4495680"/>
            <a:chExt cx="4343400" cy="1828440"/>
          </a:xfrm>
        </p:grpSpPr>
        <p:sp>
          <p:nvSpPr>
            <p:cNvPr id="178" name="AutoShape 8"/>
            <p:cNvSpPr/>
            <p:nvPr/>
          </p:nvSpPr>
          <p:spPr>
            <a:xfrm>
              <a:off x="6095880" y="4495680"/>
              <a:ext cx="4343400" cy="182844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6095880" y="4495680"/>
              <a:ext cx="434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若預算狀況為草案（表示會計文員尚未完成草擬程序），校長是不能凍結預算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Rectangle 40"/>
          <p:cNvSpPr/>
          <p:nvPr/>
        </p:nvSpPr>
        <p:spPr>
          <a:xfrm>
            <a:off x="0" y="30240"/>
            <a:ext cx="1847880" cy="13827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41"/>
          <p:cNvSpPr/>
          <p:nvPr/>
        </p:nvSpPr>
        <p:spPr>
          <a:xfrm>
            <a:off x="0" y="2565360"/>
            <a:ext cx="1847880" cy="40276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37"/>
          <p:cNvSpPr/>
          <p:nvPr/>
        </p:nvSpPr>
        <p:spPr>
          <a:xfrm>
            <a:off x="0" y="-1440"/>
            <a:ext cx="312408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凍結收入預算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2286000" y="720720"/>
            <a:ext cx="78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rebuchet MS"/>
                <a:ea typeface="新細明體"/>
              </a:rPr>
              <a:t>凍結收入預算</a:t>
            </a:r>
            <a:r>
              <a:rPr b="1" lang="zh-CN" sz="1800" spc="-1" strike="noStrike">
                <a:solidFill>
                  <a:srgbClr val="ff0000"/>
                </a:solidFill>
                <a:latin typeface="Trebuchet MS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286000" y="1295280"/>
            <a:ext cx="7620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buClr>
                <a:srgbClr val="336600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校長凍結預算後，所選的預算狀況將改為「凍結」。一旦預算被凍結，用戶不能再作修改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90440" indent="-190440" algn="just">
              <a:lnSpc>
                <a:spcPct val="100000"/>
              </a:lnSpc>
              <a:buClr>
                <a:srgbClr val="3366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90440" indent="-190440">
              <a:lnSpc>
                <a:spcPct val="100000"/>
              </a:lnSpc>
              <a:buClr>
                <a:srgbClr val="336600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若預算已凍結，在收入草案功能下，用戶不能將預算狀況還原為「草案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0"/>
          <p:cNvSpPr/>
          <p:nvPr/>
        </p:nvSpPr>
        <p:spPr>
          <a:xfrm>
            <a:off x="0" y="30240"/>
            <a:ext cx="1847880" cy="13827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Group 32"/>
          <p:cNvGrpSpPr/>
          <p:nvPr/>
        </p:nvGrpSpPr>
        <p:grpSpPr>
          <a:xfrm>
            <a:off x="5880240" y="3592440"/>
            <a:ext cx="5074560" cy="2219040"/>
            <a:chOff x="5880240" y="3592440"/>
            <a:chExt cx="5074560" cy="2219040"/>
          </a:xfrm>
        </p:grpSpPr>
        <p:sp>
          <p:nvSpPr>
            <p:cNvPr id="187" name="AutoShape 33"/>
            <p:cNvSpPr/>
            <p:nvPr/>
          </p:nvSpPr>
          <p:spPr>
            <a:xfrm>
              <a:off x="5880240" y="3592440"/>
              <a:ext cx="5074560" cy="221904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 Box 34"/>
            <p:cNvSpPr/>
            <p:nvPr/>
          </p:nvSpPr>
          <p:spPr>
            <a:xfrm>
              <a:off x="5880240" y="3592440"/>
              <a:ext cx="50745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1</a:t>
              </a: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在左邊項目選單按下 </a:t>
              </a:r>
              <a:r>
                <a:rPr b="1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[</a:t>
              </a:r>
              <a:r>
                <a:rPr b="1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預算</a:t>
              </a:r>
              <a:r>
                <a:rPr b="1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][</a:t>
              </a:r>
              <a:r>
                <a:rPr b="1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審查預算</a:t>
              </a:r>
              <a:r>
                <a:rPr b="1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依預設，系統會顯示 </a:t>
              </a:r>
              <a:r>
                <a:rPr b="1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[</a:t>
              </a:r>
              <a:r>
                <a:rPr b="1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收入</a:t>
              </a:r>
              <a:r>
                <a:rPr b="1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] </a:t>
              </a:r>
              <a:r>
                <a:rPr b="0" lang="zh-TW" sz="18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版面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2</a:t>
              </a: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選擇 </a:t>
              </a:r>
              <a:r>
                <a:rPr b="1" lang="en-US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[</a:t>
              </a:r>
              <a:r>
                <a:rPr b="1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學校級別</a:t>
              </a:r>
              <a:r>
                <a:rPr b="1" lang="en-US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/</a:t>
              </a:r>
              <a:r>
                <a:rPr b="1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授課制</a:t>
              </a:r>
              <a:r>
                <a:rPr b="1" lang="en-US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]</a:t>
              </a:r>
              <a:r>
                <a:rPr b="0" lang="en-US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 </a:t>
              </a:r>
              <a:r>
                <a:rPr b="0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及 </a:t>
              </a:r>
              <a:r>
                <a:rPr b="1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[</a:t>
              </a:r>
              <a:r>
                <a:rPr b="1" lang="zh-TW" sz="18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會計年度</a:t>
              </a:r>
              <a:r>
                <a:rPr b="1" lang="zh-TW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]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Rectangle 35"/>
          <p:cNvSpPr/>
          <p:nvPr/>
        </p:nvSpPr>
        <p:spPr>
          <a:xfrm>
            <a:off x="6527880" y="1138320"/>
            <a:ext cx="3889440" cy="38088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0" y="2565360"/>
            <a:ext cx="1847880" cy="40276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0" y="-1440"/>
            <a:ext cx="312408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收入預算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-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解除凍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35"/>
          <p:cNvSpPr/>
          <p:nvPr/>
        </p:nvSpPr>
        <p:spPr>
          <a:xfrm>
            <a:off x="3432240" y="1101600"/>
            <a:ext cx="1295280" cy="38124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修改收入預算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94" name="Group 12"/>
          <p:cNvGrpSpPr/>
          <p:nvPr/>
        </p:nvGrpSpPr>
        <p:grpSpPr>
          <a:xfrm>
            <a:off x="5867280" y="5105520"/>
            <a:ext cx="4572000" cy="1218960"/>
            <a:chOff x="5867280" y="5105520"/>
            <a:chExt cx="4572000" cy="1218960"/>
          </a:xfrm>
        </p:grpSpPr>
        <p:sp>
          <p:nvSpPr>
            <p:cNvPr id="195" name="AutoShape 13"/>
            <p:cNvSpPr/>
            <p:nvPr/>
          </p:nvSpPr>
          <p:spPr>
            <a:xfrm>
              <a:off x="5867280" y="5105520"/>
              <a:ext cx="4572000" cy="12189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Text Box 14"/>
            <p:cNvSpPr/>
            <p:nvPr/>
          </p:nvSpPr>
          <p:spPr>
            <a:xfrm>
              <a:off x="5867280" y="5105520"/>
              <a:ext cx="4572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3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按下 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不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凍結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按鈕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Rectangle 40"/>
          <p:cNvSpPr/>
          <p:nvPr/>
        </p:nvSpPr>
        <p:spPr>
          <a:xfrm>
            <a:off x="0" y="30240"/>
            <a:ext cx="1847880" cy="13777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41"/>
          <p:cNvSpPr/>
          <p:nvPr/>
        </p:nvSpPr>
        <p:spPr>
          <a:xfrm>
            <a:off x="0" y="2565360"/>
            <a:ext cx="1847880" cy="40276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0" y="-1440"/>
            <a:ext cx="312408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收入預算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-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解除凍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43"/>
          <p:cNvSpPr/>
          <p:nvPr/>
        </p:nvSpPr>
        <p:spPr>
          <a:xfrm>
            <a:off x="5715000" y="836640"/>
            <a:ext cx="762120" cy="30492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07:55:27Z</dcterms:created>
  <dc:creator>Valued Sony Customer</dc:creator>
  <dc:description/>
  <dc:language>en-US</dc:language>
  <cp:lastModifiedBy>FUNG, Kam-kong Samuel</cp:lastModifiedBy>
  <dcterms:modified xsi:type="dcterms:W3CDTF">2024-10-28T04:59:14Z</dcterms:modified>
  <cp:revision>323</cp:revision>
  <dc:subject/>
  <dc:title>School Management</dc:title>
</cp:coreProperties>
</file>