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73080" y="761760"/>
            <a:ext cx="663552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71C7-C6AC-4C65-BFBE-746795D1019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479A-A4A1-447D-B4BB-B330E6A46C2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90DD-931E-4592-99F9-9E4560D21D3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按下報告超連結後，系統會連結個別報告產製的版面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F80E-16E1-457B-BE02-85556C85E83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按下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[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預覽及列印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]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按鈕後，系統會開啟報告視窗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D6AF-3C45-4205-8647-F8E2F1CAA07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此時，報告會產製並儲存至報告庫存。不會彈出報告視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C672-1FAC-4897-9ED4-C11B6DC2CBE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在報告管理中的報告狀況將會設定為「完成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A04E-4F6E-49AD-9841-3759A3BE6D5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在報告管理中的報告狀況將會設定為「完成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A503-2728-47BD-BF99-79D7758AF5B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注意：學校會計期為四月至三月，才有「學年」的預算報告類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2DDD-AB53-432A-A4BB-46414D13F32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  <a:ea typeface="SimSu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5331-D250-4567-9C98-ECFCDF2F325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33cc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80CF-E6B0-4C85-B31D-C3D533E6F23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33cc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33FD-5ECB-4ED2-8950-320505FAB7B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33cc"/>
              </a:solidFill>
              <a:latin typeface="Arial"/>
              <a:ea typeface="SimSu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3623-8B5B-4537-9CA7-19A392B0B31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按下報告名稱超連結後，版面會顯示內置及用戶編制的報告清單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97720"/>
            <a:ext cx="1219212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346880" y="6593760"/>
            <a:ext cx="31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V 03.02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0704600" y="6581160"/>
            <a:ext cx="1441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Slide </a:t>
            </a:r>
            <a:fld id="{135F1AB3-9098-4D7D-B5BE-91D3A681094F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97720"/>
            <a:ext cx="1219212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346880" y="6593760"/>
            <a:ext cx="31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版本</a:t>
            </a: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SimSu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1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0704600" y="6581160"/>
            <a:ext cx="1441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頁碼</a:t>
            </a: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SimSu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 </a:t>
            </a:r>
            <a:fld id="{D20B3F51-692A-467E-85EB-42EDB9A471D1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../Non-Recurrent%20Grant/nrg2.pdf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6327360"/>
            <a:ext cx="9144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" spc="-1" strike="noStrike">
                <a:solidFill>
                  <a:srgbClr val="b2b2b2"/>
                </a:solidFill>
                <a:latin typeface="新細明體"/>
                <a:ea typeface="新細明體"/>
              </a:rPr>
              <a:t>財務管理及策劃</a:t>
            </a:r>
            <a:r>
              <a:rPr b="1" lang="zh-TW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及</a:t>
            </a:r>
            <a:r>
              <a:rPr b="0" lang="zh-CN" sz="200" spc="-1" strike="noStrike">
                <a:solidFill>
                  <a:srgbClr val="b2b2b2"/>
                </a:solidFill>
                <a:latin typeface="新細明體"/>
                <a:ea typeface="新細明體"/>
              </a:rPr>
              <a:t>/</a:t>
            </a:r>
            <a:r>
              <a:rPr b="0" lang="zh-TW" sz="200" spc="-1" strike="noStrike">
                <a:solidFill>
                  <a:srgbClr val="b2b2b2"/>
                </a:solidFill>
                <a:latin typeface="新細明體"/>
                <a:ea typeface="新細明體"/>
              </a:rPr>
              <a:t>預算</a:t>
            </a:r>
            <a:endParaRPr b="0" lang="en-US" sz="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52388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rebuchet MS"/>
                <a:ea typeface="新細明體"/>
              </a:rPr>
              <a:t>	</a:t>
            </a:r>
            <a:r>
              <a:rPr b="0" lang="zh-TW" sz="2400" spc="-1" strike="noStrike">
                <a:solidFill>
                  <a:srgbClr val="0000cc"/>
                </a:solidFill>
                <a:latin typeface="Trebuchet MS"/>
                <a:ea typeface="新細明體"/>
              </a:rPr>
              <a:t>財務管理及策劃</a:t>
            </a:r>
            <a:r>
              <a:rPr b="0" lang="en-US" sz="2400" spc="-1" strike="noStrike">
                <a:solidFill>
                  <a:srgbClr val="0000cc"/>
                </a:solidFill>
                <a:latin typeface="Trebuchet MS"/>
                <a:ea typeface="新細明體"/>
              </a:rPr>
              <a:t> – </a:t>
            </a:r>
            <a:r>
              <a:rPr b="0" lang="zh-TW" sz="2400" spc="-1" strike="noStrike">
                <a:solidFill>
                  <a:srgbClr val="0000cc"/>
                </a:solidFill>
                <a:latin typeface="Trebuchet MS"/>
                <a:ea typeface="新細明體"/>
              </a:rPr>
              <a:t>預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3124080" y="2133720"/>
            <a:ext cx="495324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2253960" y="1639800"/>
            <a:ext cx="586080" cy="1026720"/>
            <a:chOff x="2253960" y="1639800"/>
            <a:chExt cx="586080" cy="1026720"/>
          </a:xfrm>
        </p:grpSpPr>
        <p:sp>
          <p:nvSpPr>
            <p:cNvPr id="53" name="Text Box 6"/>
            <p:cNvSpPr/>
            <p:nvPr/>
          </p:nvSpPr>
          <p:spPr>
            <a:xfrm>
              <a:off x="2253960" y="163980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會計文員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7"/>
            <p:cNvGrpSpPr/>
            <p:nvPr/>
          </p:nvGrpSpPr>
          <p:grpSpPr>
            <a:xfrm>
              <a:off x="2419560" y="2071800"/>
              <a:ext cx="237960" cy="594720"/>
              <a:chOff x="2419560" y="2071800"/>
              <a:chExt cx="237960" cy="594720"/>
            </a:xfrm>
          </p:grpSpPr>
          <p:sp>
            <p:nvSpPr>
              <p:cNvPr id="55" name="Oval 8"/>
              <p:cNvSpPr/>
              <p:nvPr/>
            </p:nvSpPr>
            <p:spPr>
              <a:xfrm>
                <a:off x="2419560" y="207180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9"/>
              <p:cNvSpPr/>
              <p:nvPr/>
            </p:nvSpPr>
            <p:spPr>
              <a:xfrm flipH="1">
                <a:off x="2419560" y="230940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0"/>
              <p:cNvSpPr/>
              <p:nvPr/>
            </p:nvSpPr>
            <p:spPr>
              <a:xfrm flipH="1">
                <a:off x="2419560" y="254772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2538360" y="230940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2538360" y="230940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2538360" y="254772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4"/>
          <p:cNvGrpSpPr/>
          <p:nvPr/>
        </p:nvGrpSpPr>
        <p:grpSpPr>
          <a:xfrm>
            <a:off x="2012040" y="2997360"/>
            <a:ext cx="1122120" cy="1193760"/>
            <a:chOff x="2012040" y="2997360"/>
            <a:chExt cx="1122120" cy="1193760"/>
          </a:xfrm>
        </p:grpSpPr>
        <p:grpSp>
          <p:nvGrpSpPr>
            <p:cNvPr id="62" name="Group 15"/>
            <p:cNvGrpSpPr/>
            <p:nvPr/>
          </p:nvGrpSpPr>
          <p:grpSpPr>
            <a:xfrm>
              <a:off x="2012040" y="2997360"/>
              <a:ext cx="403200" cy="833400"/>
              <a:chOff x="2012040" y="2997360"/>
              <a:chExt cx="403200" cy="833400"/>
            </a:xfrm>
          </p:grpSpPr>
          <p:sp>
            <p:nvSpPr>
              <p:cNvPr id="63" name="Text Box 16"/>
              <p:cNvSpPr/>
              <p:nvPr/>
            </p:nvSpPr>
            <p:spPr>
              <a:xfrm>
                <a:off x="2012040" y="3554280"/>
                <a:ext cx="40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校長</a:t>
                </a:r>
                <a:r>
                  <a:rPr b="0" lang="zh-CN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Group 17"/>
              <p:cNvGrpSpPr/>
              <p:nvPr/>
            </p:nvGrpSpPr>
            <p:grpSpPr>
              <a:xfrm>
                <a:off x="2089080" y="2997360"/>
                <a:ext cx="237960" cy="594720"/>
                <a:chOff x="2089080" y="2997360"/>
                <a:chExt cx="237960" cy="594720"/>
              </a:xfrm>
            </p:grpSpPr>
            <p:sp>
              <p:nvSpPr>
                <p:cNvPr id="65" name="Oval 18"/>
                <p:cNvSpPr/>
                <p:nvPr/>
              </p:nvSpPr>
              <p:spPr>
                <a:xfrm>
                  <a:off x="2089080" y="2997360"/>
                  <a:ext cx="237960" cy="237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Line 19"/>
                <p:cNvSpPr/>
                <p:nvPr/>
              </p:nvSpPr>
              <p:spPr>
                <a:xfrm flipH="1">
                  <a:off x="2089080" y="323496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Line 20"/>
                <p:cNvSpPr/>
                <p:nvPr/>
              </p:nvSpPr>
              <p:spPr>
                <a:xfrm flipH="1">
                  <a:off x="2089080" y="347328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21"/>
                <p:cNvSpPr/>
                <p:nvPr/>
              </p:nvSpPr>
              <p:spPr>
                <a:xfrm>
                  <a:off x="2207880" y="3234960"/>
                  <a:ext cx="0" cy="237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22"/>
                <p:cNvSpPr/>
                <p:nvPr/>
              </p:nvSpPr>
              <p:spPr>
                <a:xfrm>
                  <a:off x="2207880" y="323496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23"/>
                <p:cNvSpPr/>
                <p:nvPr/>
              </p:nvSpPr>
              <p:spPr>
                <a:xfrm>
                  <a:off x="2207880" y="347328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" name="Group 24"/>
            <p:cNvGrpSpPr/>
            <p:nvPr/>
          </p:nvGrpSpPr>
          <p:grpSpPr>
            <a:xfrm>
              <a:off x="2273760" y="3357720"/>
              <a:ext cx="860400" cy="833400"/>
              <a:chOff x="2273760" y="3357720"/>
              <a:chExt cx="860400" cy="833400"/>
            </a:xfrm>
          </p:grpSpPr>
          <p:sp>
            <p:nvSpPr>
              <p:cNvPr id="72" name="Text Box 25"/>
              <p:cNvSpPr/>
              <p:nvPr/>
            </p:nvSpPr>
            <p:spPr>
              <a:xfrm>
                <a:off x="2273760" y="3914640"/>
                <a:ext cx="86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學校管理委員會</a:t>
                </a:r>
                <a:r>
                  <a:rPr b="0" lang="zh-CN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" name="Group 26"/>
              <p:cNvGrpSpPr/>
              <p:nvPr/>
            </p:nvGrpSpPr>
            <p:grpSpPr>
              <a:xfrm>
                <a:off x="2576520" y="3357720"/>
                <a:ext cx="237960" cy="594720"/>
                <a:chOff x="2576520" y="3357720"/>
                <a:chExt cx="237960" cy="594720"/>
              </a:xfrm>
            </p:grpSpPr>
            <p:sp>
              <p:nvSpPr>
                <p:cNvPr id="74" name="Oval 27"/>
                <p:cNvSpPr/>
                <p:nvPr/>
              </p:nvSpPr>
              <p:spPr>
                <a:xfrm>
                  <a:off x="2576520" y="3357720"/>
                  <a:ext cx="237960" cy="237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8"/>
                <p:cNvSpPr/>
                <p:nvPr/>
              </p:nvSpPr>
              <p:spPr>
                <a:xfrm flipH="1">
                  <a:off x="2576520" y="359532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9"/>
                <p:cNvSpPr/>
                <p:nvPr/>
              </p:nvSpPr>
              <p:spPr>
                <a:xfrm flipH="1">
                  <a:off x="2576520" y="383364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30"/>
                <p:cNvSpPr/>
                <p:nvPr/>
              </p:nvSpPr>
              <p:spPr>
                <a:xfrm>
                  <a:off x="2695320" y="3595320"/>
                  <a:ext cx="0" cy="237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Line 31"/>
                <p:cNvSpPr/>
                <p:nvPr/>
              </p:nvSpPr>
              <p:spPr>
                <a:xfrm>
                  <a:off x="2695320" y="359532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32"/>
                <p:cNvSpPr/>
                <p:nvPr/>
              </p:nvSpPr>
              <p:spPr>
                <a:xfrm>
                  <a:off x="2695320" y="383364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" name="Rectangle 33"/>
          <p:cNvSpPr/>
          <p:nvPr/>
        </p:nvSpPr>
        <p:spPr>
          <a:xfrm>
            <a:off x="1569960" y="657612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財務管理及策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4"/>
          <p:cNvGrpSpPr/>
          <p:nvPr/>
        </p:nvGrpSpPr>
        <p:grpSpPr>
          <a:xfrm>
            <a:off x="5137200" y="907920"/>
            <a:ext cx="4811400" cy="5312160"/>
            <a:chOff x="5137200" y="907920"/>
            <a:chExt cx="4811400" cy="5312160"/>
          </a:xfrm>
        </p:grpSpPr>
        <p:sp>
          <p:nvSpPr>
            <p:cNvPr id="82" name="Text Box 35"/>
            <p:cNvSpPr/>
            <p:nvPr/>
          </p:nvSpPr>
          <p:spPr>
            <a:xfrm>
              <a:off x="9414720" y="3276720"/>
              <a:ext cx="40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簿記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36"/>
            <p:cNvGrpSpPr/>
            <p:nvPr/>
          </p:nvGrpSpPr>
          <p:grpSpPr>
            <a:xfrm>
              <a:off x="7708320" y="907920"/>
              <a:ext cx="609840" cy="1076760"/>
              <a:chOff x="7708320" y="907920"/>
              <a:chExt cx="609840" cy="1076760"/>
            </a:xfrm>
          </p:grpSpPr>
          <p:grpSp>
            <p:nvGrpSpPr>
              <p:cNvPr id="84" name="Group 37"/>
              <p:cNvGrpSpPr/>
              <p:nvPr/>
            </p:nvGrpSpPr>
            <p:grpSpPr>
              <a:xfrm>
                <a:off x="7708320" y="907920"/>
                <a:ext cx="609840" cy="609480"/>
                <a:chOff x="7708320" y="907920"/>
                <a:chExt cx="609840" cy="609480"/>
              </a:xfrm>
            </p:grpSpPr>
            <p:sp>
              <p:nvSpPr>
                <p:cNvPr id="85" name="Line 38"/>
                <p:cNvSpPr/>
                <p:nvPr/>
              </p:nvSpPr>
              <p:spPr>
                <a:xfrm flipH="1">
                  <a:off x="7708320" y="9079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39"/>
                <p:cNvSpPr/>
                <p:nvPr/>
              </p:nvSpPr>
              <p:spPr>
                <a:xfrm>
                  <a:off x="7785000" y="1136520"/>
                  <a:ext cx="7596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40"/>
                <p:cNvSpPr/>
                <p:nvPr/>
              </p:nvSpPr>
              <p:spPr>
                <a:xfrm flipH="1">
                  <a:off x="8165880" y="1136520"/>
                  <a:ext cx="7632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41"/>
                <p:cNvSpPr/>
                <p:nvPr/>
              </p:nvSpPr>
              <p:spPr>
                <a:xfrm>
                  <a:off x="7823160" y="1517400"/>
                  <a:ext cx="380880" cy="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Line 42"/>
                <p:cNvSpPr/>
                <p:nvPr/>
              </p:nvSpPr>
              <p:spPr>
                <a:xfrm>
                  <a:off x="8013600" y="907920"/>
                  <a:ext cx="30456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 Box 43"/>
              <p:cNvSpPr/>
              <p:nvPr/>
            </p:nvSpPr>
            <p:spPr>
              <a:xfrm>
                <a:off x="7831800" y="1525680"/>
                <a:ext cx="363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財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一般設定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 Box 44"/>
            <p:cNvSpPr/>
            <p:nvPr/>
          </p:nvSpPr>
          <p:spPr>
            <a:xfrm>
              <a:off x="8532000" y="2362320"/>
              <a:ext cx="40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預算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5"/>
            <p:cNvSpPr/>
            <p:nvPr/>
          </p:nvSpPr>
          <p:spPr>
            <a:xfrm>
              <a:off x="8610480" y="1600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6"/>
            <p:cNvSpPr/>
            <p:nvPr/>
          </p:nvSpPr>
          <p:spPr>
            <a:xfrm>
              <a:off x="9372600" y="2514600"/>
              <a:ext cx="57600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47"/>
            <p:cNvGrpSpPr/>
            <p:nvPr/>
          </p:nvGrpSpPr>
          <p:grpSpPr>
            <a:xfrm>
              <a:off x="8762400" y="3733920"/>
              <a:ext cx="995760" cy="1144800"/>
              <a:chOff x="8762400" y="3733920"/>
              <a:chExt cx="995760" cy="1144800"/>
            </a:xfrm>
          </p:grpSpPr>
          <p:sp>
            <p:nvSpPr>
              <p:cNvPr id="95" name="Text Box 48"/>
              <p:cNvSpPr/>
              <p:nvPr/>
            </p:nvSpPr>
            <p:spPr>
              <a:xfrm>
                <a:off x="8838720" y="4419720"/>
                <a:ext cx="919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教職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成本</a:t>
                </a:r>
                <a:r>
                  <a:rPr b="0" lang="zh-CN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Group 49"/>
              <p:cNvGrpSpPr/>
              <p:nvPr/>
            </p:nvGrpSpPr>
            <p:grpSpPr>
              <a:xfrm>
                <a:off x="8762400" y="3733920"/>
                <a:ext cx="952560" cy="685440"/>
                <a:chOff x="8762400" y="3733920"/>
                <a:chExt cx="952560" cy="685440"/>
              </a:xfrm>
            </p:grpSpPr>
            <p:grpSp>
              <p:nvGrpSpPr>
                <p:cNvPr id="97" name="Group 50"/>
                <p:cNvGrpSpPr/>
                <p:nvPr/>
              </p:nvGrpSpPr>
              <p:grpSpPr>
                <a:xfrm>
                  <a:off x="8762400" y="3810240"/>
                  <a:ext cx="247680" cy="482040"/>
                  <a:chOff x="8762400" y="3810240"/>
                  <a:chExt cx="247680" cy="482040"/>
                </a:xfrm>
              </p:grpSpPr>
              <p:sp>
                <p:nvSpPr>
                  <p:cNvPr id="98" name="Oval 51"/>
                  <p:cNvSpPr/>
                  <p:nvPr/>
                </p:nvSpPr>
                <p:spPr>
                  <a:xfrm>
                    <a:off x="876276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Line 52"/>
                  <p:cNvSpPr/>
                  <p:nvPr/>
                </p:nvSpPr>
                <p:spPr>
                  <a:xfrm flipH="1">
                    <a:off x="876240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53"/>
                  <p:cNvSpPr/>
                  <p:nvPr/>
                </p:nvSpPr>
                <p:spPr>
                  <a:xfrm flipH="1">
                    <a:off x="876240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Line 54"/>
                  <p:cNvSpPr/>
                  <p:nvPr/>
                </p:nvSpPr>
                <p:spPr>
                  <a:xfrm>
                    <a:off x="888624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Line 55"/>
                  <p:cNvSpPr/>
                  <p:nvPr/>
                </p:nvSpPr>
                <p:spPr>
                  <a:xfrm>
                    <a:off x="888624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Line 56"/>
                  <p:cNvSpPr/>
                  <p:nvPr/>
                </p:nvSpPr>
                <p:spPr>
                  <a:xfrm>
                    <a:off x="888624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57"/>
                <p:cNvGrpSpPr/>
                <p:nvPr/>
              </p:nvGrpSpPr>
              <p:grpSpPr>
                <a:xfrm>
                  <a:off x="9238680" y="3733920"/>
                  <a:ext cx="247680" cy="482400"/>
                  <a:chOff x="9238680" y="3733920"/>
                  <a:chExt cx="247680" cy="482400"/>
                </a:xfrm>
              </p:grpSpPr>
              <p:sp>
                <p:nvSpPr>
                  <p:cNvPr id="105" name="Oval 58"/>
                  <p:cNvSpPr/>
                  <p:nvPr/>
                </p:nvSpPr>
                <p:spPr>
                  <a:xfrm>
                    <a:off x="9239040" y="373392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59"/>
                  <p:cNvSpPr/>
                  <p:nvPr/>
                </p:nvSpPr>
                <p:spPr>
                  <a:xfrm flipH="1">
                    <a:off x="9238680" y="392652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60"/>
                  <p:cNvSpPr/>
                  <p:nvPr/>
                </p:nvSpPr>
                <p:spPr>
                  <a:xfrm flipH="1">
                    <a:off x="9238680" y="4119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61"/>
                  <p:cNvSpPr/>
                  <p:nvPr/>
                </p:nvSpPr>
                <p:spPr>
                  <a:xfrm>
                    <a:off x="9362520" y="392652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62"/>
                  <p:cNvSpPr/>
                  <p:nvPr/>
                </p:nvSpPr>
                <p:spPr>
                  <a:xfrm>
                    <a:off x="9362520" y="392652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63"/>
                  <p:cNvSpPr/>
                  <p:nvPr/>
                </p:nvSpPr>
                <p:spPr>
                  <a:xfrm>
                    <a:off x="9362520" y="4119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64"/>
                <p:cNvGrpSpPr/>
                <p:nvPr/>
              </p:nvGrpSpPr>
              <p:grpSpPr>
                <a:xfrm>
                  <a:off x="9467280" y="3810240"/>
                  <a:ext cx="247680" cy="482040"/>
                  <a:chOff x="9467280" y="3810240"/>
                  <a:chExt cx="247680" cy="482040"/>
                </a:xfrm>
              </p:grpSpPr>
              <p:sp>
                <p:nvSpPr>
                  <p:cNvPr id="112" name="Oval 65"/>
                  <p:cNvSpPr/>
                  <p:nvPr/>
                </p:nvSpPr>
                <p:spPr>
                  <a:xfrm>
                    <a:off x="946764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66"/>
                  <p:cNvSpPr/>
                  <p:nvPr/>
                </p:nvSpPr>
                <p:spPr>
                  <a:xfrm flipH="1">
                    <a:off x="946728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67"/>
                  <p:cNvSpPr/>
                  <p:nvPr/>
                </p:nvSpPr>
                <p:spPr>
                  <a:xfrm flipH="1">
                    <a:off x="946728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68"/>
                  <p:cNvSpPr/>
                  <p:nvPr/>
                </p:nvSpPr>
                <p:spPr>
                  <a:xfrm>
                    <a:off x="959112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69"/>
                  <p:cNvSpPr/>
                  <p:nvPr/>
                </p:nvSpPr>
                <p:spPr>
                  <a:xfrm>
                    <a:off x="959112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70"/>
                  <p:cNvSpPr/>
                  <p:nvPr/>
                </p:nvSpPr>
                <p:spPr>
                  <a:xfrm>
                    <a:off x="959112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71"/>
                <p:cNvGrpSpPr/>
                <p:nvPr/>
              </p:nvGrpSpPr>
              <p:grpSpPr>
                <a:xfrm>
                  <a:off x="8991000" y="3936960"/>
                  <a:ext cx="247680" cy="482400"/>
                  <a:chOff x="8991000" y="3936960"/>
                  <a:chExt cx="247680" cy="482400"/>
                </a:xfrm>
              </p:grpSpPr>
              <p:sp>
                <p:nvSpPr>
                  <p:cNvPr id="119" name="Oval 72"/>
                  <p:cNvSpPr/>
                  <p:nvPr/>
                </p:nvSpPr>
                <p:spPr>
                  <a:xfrm>
                    <a:off x="8991360" y="393696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Line 73"/>
                  <p:cNvSpPr/>
                  <p:nvPr/>
                </p:nvSpPr>
                <p:spPr>
                  <a:xfrm flipH="1">
                    <a:off x="8991000" y="412956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74"/>
                  <p:cNvSpPr/>
                  <p:nvPr/>
                </p:nvSpPr>
                <p:spPr>
                  <a:xfrm flipH="1">
                    <a:off x="8991000" y="432288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75"/>
                  <p:cNvSpPr/>
                  <p:nvPr/>
                </p:nvSpPr>
                <p:spPr>
                  <a:xfrm>
                    <a:off x="9114840" y="412956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76"/>
                  <p:cNvSpPr/>
                  <p:nvPr/>
                </p:nvSpPr>
                <p:spPr>
                  <a:xfrm>
                    <a:off x="9114840" y="412956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77"/>
                  <p:cNvSpPr/>
                  <p:nvPr/>
                </p:nvSpPr>
                <p:spPr>
                  <a:xfrm>
                    <a:off x="9114840" y="432288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5" name="Text Box 78"/>
            <p:cNvSpPr/>
            <p:nvPr/>
          </p:nvSpPr>
          <p:spPr>
            <a:xfrm>
              <a:off x="8020440" y="541008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固定資產登記冊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79"/>
            <p:cNvSpPr/>
            <p:nvPr/>
          </p:nvSpPr>
          <p:spPr>
            <a:xfrm>
              <a:off x="8199360" y="464832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80"/>
            <p:cNvSpPr/>
            <p:nvPr/>
          </p:nvSpPr>
          <p:spPr>
            <a:xfrm>
              <a:off x="6735960" y="5943600"/>
              <a:ext cx="67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銷售及存貨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81"/>
            <p:cNvSpPr/>
            <p:nvPr/>
          </p:nvSpPr>
          <p:spPr>
            <a:xfrm>
              <a:off x="6827760" y="5181480"/>
              <a:ext cx="576360" cy="79236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82"/>
            <p:cNvSpPr/>
            <p:nvPr/>
          </p:nvSpPr>
          <p:spPr>
            <a:xfrm>
              <a:off x="5137200" y="5791320"/>
              <a:ext cx="67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其他登記冊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83"/>
            <p:cNvSpPr/>
            <p:nvPr/>
          </p:nvSpPr>
          <p:spPr>
            <a:xfrm>
              <a:off x="5227560" y="5029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Line 84"/>
          <p:cNvSpPr/>
          <p:nvPr/>
        </p:nvSpPr>
        <p:spPr>
          <a:xfrm flipV="1">
            <a:off x="2819520" y="2285640"/>
            <a:ext cx="5257800" cy="60948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5"/>
          <p:cNvSpPr/>
          <p:nvPr/>
        </p:nvSpPr>
        <p:spPr>
          <a:xfrm flipV="1">
            <a:off x="3048120" y="2514600"/>
            <a:ext cx="5029200" cy="914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88"/>
          <p:cNvGrpSpPr/>
          <p:nvPr/>
        </p:nvGrpSpPr>
        <p:grpSpPr>
          <a:xfrm>
            <a:off x="2850120" y="914400"/>
            <a:ext cx="768960" cy="1026720"/>
            <a:chOff x="2850120" y="914400"/>
            <a:chExt cx="768960" cy="1026720"/>
          </a:xfrm>
        </p:grpSpPr>
        <p:sp>
          <p:nvSpPr>
            <p:cNvPr id="134" name="Text Box 89"/>
            <p:cNvSpPr/>
            <p:nvPr/>
          </p:nvSpPr>
          <p:spPr>
            <a:xfrm>
              <a:off x="2850120" y="914400"/>
              <a:ext cx="76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工作計劃組長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90"/>
            <p:cNvGrpSpPr/>
            <p:nvPr/>
          </p:nvGrpSpPr>
          <p:grpSpPr>
            <a:xfrm>
              <a:off x="3105360" y="1346400"/>
              <a:ext cx="237960" cy="594720"/>
              <a:chOff x="3105360" y="1346400"/>
              <a:chExt cx="237960" cy="594720"/>
            </a:xfrm>
          </p:grpSpPr>
          <p:sp>
            <p:nvSpPr>
              <p:cNvPr id="136" name="Oval 91"/>
              <p:cNvSpPr/>
              <p:nvPr/>
            </p:nvSpPr>
            <p:spPr>
              <a:xfrm>
                <a:off x="3105360" y="134640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92"/>
              <p:cNvSpPr/>
              <p:nvPr/>
            </p:nvSpPr>
            <p:spPr>
              <a:xfrm flipH="1">
                <a:off x="3105360" y="158400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93"/>
              <p:cNvSpPr/>
              <p:nvPr/>
            </p:nvSpPr>
            <p:spPr>
              <a:xfrm flipH="1">
                <a:off x="3105360" y="182232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94"/>
              <p:cNvSpPr/>
              <p:nvPr/>
            </p:nvSpPr>
            <p:spPr>
              <a:xfrm>
                <a:off x="3224160" y="158400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95"/>
              <p:cNvSpPr/>
              <p:nvPr/>
            </p:nvSpPr>
            <p:spPr>
              <a:xfrm>
                <a:off x="3224160" y="158400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96"/>
              <p:cNvSpPr/>
              <p:nvPr/>
            </p:nvSpPr>
            <p:spPr>
              <a:xfrm>
                <a:off x="3224160" y="182232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Line 97"/>
          <p:cNvSpPr/>
          <p:nvPr/>
        </p:nvSpPr>
        <p:spPr>
          <a:xfrm>
            <a:off x="3505320" y="1676520"/>
            <a:ext cx="4495680" cy="30456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8"/>
          <p:cNvSpPr/>
          <p:nvPr/>
        </p:nvSpPr>
        <p:spPr>
          <a:xfrm>
            <a:off x="5867280" y="2819520"/>
            <a:ext cx="20574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教育局津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收入草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支出草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審查預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核定</a:t>
            </a: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/</a:t>
            </a: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還原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修改預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查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Trebuchet MS"/>
                <a:ea typeface="新細明體"/>
              </a:rPr>
              <a:t>報告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6960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5791320" y="4343400"/>
            <a:ext cx="4572000" cy="1371600"/>
            <a:chOff x="5791320" y="4343400"/>
            <a:chExt cx="4572000" cy="1371600"/>
          </a:xfrm>
        </p:grpSpPr>
        <p:sp>
          <p:nvSpPr>
            <p:cNvPr id="198" name="AutoShape 8"/>
            <p:cNvSpPr/>
            <p:nvPr/>
          </p:nvSpPr>
          <p:spPr>
            <a:xfrm>
              <a:off x="5791320" y="4343400"/>
              <a:ext cx="4572000" cy="13716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9"/>
            <p:cNvSpPr/>
            <p:nvPr/>
          </p:nvSpPr>
          <p:spPr>
            <a:xfrm>
              <a:off x="5791320" y="4343400"/>
              <a:ext cx="4572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5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按下報告超連結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10"/>
          <p:cNvSpPr/>
          <p:nvPr/>
        </p:nvSpPr>
        <p:spPr>
          <a:xfrm>
            <a:off x="2135160" y="2708280"/>
            <a:ext cx="865080" cy="3049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12"/>
          <p:cNvGrpSpPr/>
          <p:nvPr/>
        </p:nvGrpSpPr>
        <p:grpSpPr>
          <a:xfrm>
            <a:off x="0" y="-19080"/>
            <a:ext cx="1919160" cy="6629400"/>
            <a:chOff x="0" y="-19080"/>
            <a:chExt cx="1919160" cy="6629400"/>
          </a:xfrm>
        </p:grpSpPr>
        <p:sp>
          <p:nvSpPr>
            <p:cNvPr id="202" name="Rectangle 6"/>
            <p:cNvSpPr/>
            <p:nvPr/>
          </p:nvSpPr>
          <p:spPr>
            <a:xfrm>
              <a:off x="0" y="-19080"/>
              <a:ext cx="1919160" cy="1432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0" y="3429000"/>
              <a:ext cx="1919160" cy="318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11"/>
          <p:cNvSpPr/>
          <p:nvPr/>
        </p:nvSpPr>
        <p:spPr>
          <a:xfrm>
            <a:off x="0" y="-19080"/>
            <a:ext cx="2743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製報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6960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06" name="Group 7"/>
          <p:cNvGrpSpPr/>
          <p:nvPr/>
        </p:nvGrpSpPr>
        <p:grpSpPr>
          <a:xfrm>
            <a:off x="5943600" y="4038480"/>
            <a:ext cx="4419720" cy="1371600"/>
            <a:chOff x="5943600" y="4038480"/>
            <a:chExt cx="4419720" cy="1371600"/>
          </a:xfrm>
        </p:grpSpPr>
        <p:sp>
          <p:nvSpPr>
            <p:cNvPr id="207" name="AutoShape 8"/>
            <p:cNvSpPr/>
            <p:nvPr/>
          </p:nvSpPr>
          <p:spPr>
            <a:xfrm>
              <a:off x="5943600" y="4038480"/>
              <a:ext cx="4419720" cy="13716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5943600" y="4038480"/>
              <a:ext cx="44197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6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選擇列印準則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0"/>
          <p:cNvSpPr/>
          <p:nvPr/>
        </p:nvSpPr>
        <p:spPr>
          <a:xfrm>
            <a:off x="2063880" y="1125360"/>
            <a:ext cx="8353440" cy="14353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2"/>
          <p:cNvGrpSpPr/>
          <p:nvPr/>
        </p:nvGrpSpPr>
        <p:grpSpPr>
          <a:xfrm>
            <a:off x="0" y="-19080"/>
            <a:ext cx="1919160" cy="6629400"/>
            <a:chOff x="0" y="-19080"/>
            <a:chExt cx="1919160" cy="6629400"/>
          </a:xfrm>
        </p:grpSpPr>
        <p:sp>
          <p:nvSpPr>
            <p:cNvPr id="211" name="Rectangle 6"/>
            <p:cNvSpPr/>
            <p:nvPr/>
          </p:nvSpPr>
          <p:spPr>
            <a:xfrm>
              <a:off x="0" y="-19080"/>
              <a:ext cx="1919160" cy="1432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7"/>
            <p:cNvSpPr/>
            <p:nvPr/>
          </p:nvSpPr>
          <p:spPr>
            <a:xfrm>
              <a:off x="0" y="3429000"/>
              <a:ext cx="1919160" cy="318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11"/>
          <p:cNvSpPr/>
          <p:nvPr/>
        </p:nvSpPr>
        <p:spPr>
          <a:xfrm>
            <a:off x="0" y="-19080"/>
            <a:ext cx="2743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製報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6960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Oval 3"/>
          <p:cNvSpPr/>
          <p:nvPr/>
        </p:nvSpPr>
        <p:spPr>
          <a:xfrm>
            <a:off x="2063880" y="582480"/>
            <a:ext cx="1152360" cy="38124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8"/>
          <p:cNvGrpSpPr/>
          <p:nvPr/>
        </p:nvGrpSpPr>
        <p:grpSpPr>
          <a:xfrm>
            <a:off x="4572000" y="3733920"/>
            <a:ext cx="4419720" cy="1872720"/>
            <a:chOff x="4572000" y="3733920"/>
            <a:chExt cx="4419720" cy="1872720"/>
          </a:xfrm>
        </p:grpSpPr>
        <p:sp>
          <p:nvSpPr>
            <p:cNvPr id="217" name="AutoShape 9"/>
            <p:cNvSpPr/>
            <p:nvPr/>
          </p:nvSpPr>
          <p:spPr>
            <a:xfrm>
              <a:off x="4572000" y="3733920"/>
              <a:ext cx="4419720" cy="18727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0"/>
            <p:cNvSpPr/>
            <p:nvPr/>
          </p:nvSpPr>
          <p:spPr>
            <a:xfrm>
              <a:off x="4572000" y="3733920"/>
              <a:ext cx="4419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項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：在新開啟的預覽視窗產製報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7</a:t>
              </a:r>
              <a:r>
                <a:rPr b="0" lang="en-US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a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按下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預覽及列印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2"/>
          <p:cNvGrpSpPr/>
          <p:nvPr/>
        </p:nvGrpSpPr>
        <p:grpSpPr>
          <a:xfrm>
            <a:off x="6629400" y="0"/>
            <a:ext cx="4038480" cy="2285640"/>
            <a:chOff x="6629400" y="0"/>
            <a:chExt cx="4038480" cy="2285640"/>
          </a:xfrm>
        </p:grpSpPr>
        <p:sp>
          <p:nvSpPr>
            <p:cNvPr id="220" name="AutoShape 13"/>
            <p:cNvSpPr/>
            <p:nvPr/>
          </p:nvSpPr>
          <p:spPr>
            <a:xfrm>
              <a:off x="6629400" y="0"/>
              <a:ext cx="4038480" cy="22856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4"/>
            <p:cNvSpPr/>
            <p:nvPr/>
          </p:nvSpPr>
          <p:spPr>
            <a:xfrm>
              <a:off x="6629400" y="0"/>
              <a:ext cx="40384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兩種產製報告的方式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項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：在新開啟的預覽視窗產製報告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項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2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：在報告管理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—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庫存內產製及儲存報告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0" y="-19080"/>
            <a:ext cx="1919160" cy="6629400"/>
            <a:chOff x="0" y="-19080"/>
            <a:chExt cx="1919160" cy="6629400"/>
          </a:xfrm>
        </p:grpSpPr>
        <p:sp>
          <p:nvSpPr>
            <p:cNvPr id="223" name="Rectangle 6"/>
            <p:cNvSpPr/>
            <p:nvPr/>
          </p:nvSpPr>
          <p:spPr>
            <a:xfrm>
              <a:off x="0" y="-19080"/>
              <a:ext cx="1919160" cy="1432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0" y="3429000"/>
              <a:ext cx="1919160" cy="318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11"/>
          <p:cNvSpPr/>
          <p:nvPr/>
        </p:nvSpPr>
        <p:spPr>
          <a:xfrm>
            <a:off x="0" y="-19080"/>
            <a:ext cx="2743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製報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6960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27" name="Group 4"/>
          <p:cNvGrpSpPr/>
          <p:nvPr/>
        </p:nvGrpSpPr>
        <p:grpSpPr>
          <a:xfrm>
            <a:off x="6019920" y="4800600"/>
            <a:ext cx="4114800" cy="1676520"/>
            <a:chOff x="6019920" y="4800600"/>
            <a:chExt cx="4114800" cy="1676520"/>
          </a:xfrm>
        </p:grpSpPr>
        <p:sp>
          <p:nvSpPr>
            <p:cNvPr id="228" name="AutoShape 5"/>
            <p:cNvSpPr/>
            <p:nvPr/>
          </p:nvSpPr>
          <p:spPr>
            <a:xfrm>
              <a:off x="6019920" y="4800600"/>
              <a:ext cx="4114800" cy="16765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6"/>
            <p:cNvSpPr/>
            <p:nvPr/>
          </p:nvSpPr>
          <p:spPr>
            <a:xfrm>
              <a:off x="6019920" y="4800600"/>
              <a:ext cx="4114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項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：在新開啟的預覽視窗中產製報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7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b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將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列印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於用戶的印表機中或儲存於用戶的硬碟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Rectangle 11"/>
          <p:cNvSpPr/>
          <p:nvPr/>
        </p:nvSpPr>
        <p:spPr>
          <a:xfrm>
            <a:off x="0" y="-19080"/>
            <a:ext cx="2743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製報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7"/>
          <p:cNvGrpSpPr/>
          <p:nvPr/>
        </p:nvGrpSpPr>
        <p:grpSpPr>
          <a:xfrm>
            <a:off x="8472600" y="115920"/>
            <a:ext cx="3240000" cy="4684680"/>
            <a:chOff x="8472600" y="115920"/>
            <a:chExt cx="3240000" cy="4684680"/>
          </a:xfrm>
        </p:grpSpPr>
        <p:sp>
          <p:nvSpPr>
            <p:cNvPr id="232" name="Oval 8"/>
            <p:cNvSpPr/>
            <p:nvPr/>
          </p:nvSpPr>
          <p:spPr>
            <a:xfrm>
              <a:off x="10632960" y="115920"/>
              <a:ext cx="1079640" cy="381240"/>
            </a:xfrm>
            <a:prstGeom prst="ellipse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9"/>
            <p:cNvSpPr/>
            <p:nvPr/>
          </p:nvSpPr>
          <p:spPr>
            <a:xfrm flipV="1">
              <a:off x="8472600" y="497160"/>
              <a:ext cx="2846160" cy="4303440"/>
            </a:xfrm>
            <a:prstGeom prst="line">
              <a:avLst/>
            </a:prstGeom>
            <a:ln w="4140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6960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4008600" y="620640"/>
            <a:ext cx="885600" cy="30492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9"/>
          <p:cNvGrpSpPr/>
          <p:nvPr/>
        </p:nvGrpSpPr>
        <p:grpSpPr>
          <a:xfrm>
            <a:off x="6095880" y="3733920"/>
            <a:ext cx="4267440" cy="1676160"/>
            <a:chOff x="6095880" y="3733920"/>
            <a:chExt cx="4267440" cy="1676160"/>
          </a:xfrm>
        </p:grpSpPr>
        <p:sp>
          <p:nvSpPr>
            <p:cNvPr id="237" name="AutoShape 10"/>
            <p:cNvSpPr/>
            <p:nvPr/>
          </p:nvSpPr>
          <p:spPr>
            <a:xfrm>
              <a:off x="6095880" y="3733920"/>
              <a:ext cx="4267440" cy="16761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1"/>
            <p:cNvSpPr/>
            <p:nvPr/>
          </p:nvSpPr>
          <p:spPr>
            <a:xfrm>
              <a:off x="6095880" y="3733920"/>
              <a:ext cx="42674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項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: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管理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–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中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，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產製並儲存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7</a:t>
              </a:r>
              <a:r>
                <a:rPr b="0" lang="en-US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a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按下 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存檔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2"/>
          <p:cNvGrpSpPr/>
          <p:nvPr/>
        </p:nvGrpSpPr>
        <p:grpSpPr>
          <a:xfrm>
            <a:off x="0" y="-19080"/>
            <a:ext cx="1919160" cy="6629400"/>
            <a:chOff x="0" y="-19080"/>
            <a:chExt cx="1919160" cy="6629400"/>
          </a:xfrm>
        </p:grpSpPr>
        <p:sp>
          <p:nvSpPr>
            <p:cNvPr id="240" name="Rectangle 6"/>
            <p:cNvSpPr/>
            <p:nvPr/>
          </p:nvSpPr>
          <p:spPr>
            <a:xfrm>
              <a:off x="0" y="-19080"/>
              <a:ext cx="1919160" cy="1432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7"/>
            <p:cNvSpPr/>
            <p:nvPr/>
          </p:nvSpPr>
          <p:spPr>
            <a:xfrm>
              <a:off x="0" y="3429000"/>
              <a:ext cx="1919160" cy="318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11"/>
          <p:cNvSpPr/>
          <p:nvPr/>
        </p:nvSpPr>
        <p:spPr>
          <a:xfrm>
            <a:off x="0" y="-19080"/>
            <a:ext cx="2743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製報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6960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44" name="Group 6"/>
          <p:cNvGrpSpPr/>
          <p:nvPr/>
        </p:nvGrpSpPr>
        <p:grpSpPr>
          <a:xfrm>
            <a:off x="6019920" y="4343400"/>
            <a:ext cx="4190760" cy="2133360"/>
            <a:chOff x="6019920" y="4343400"/>
            <a:chExt cx="4190760" cy="2133360"/>
          </a:xfrm>
        </p:grpSpPr>
        <p:sp>
          <p:nvSpPr>
            <p:cNvPr id="245" name="AutoShape 7"/>
            <p:cNvSpPr/>
            <p:nvPr/>
          </p:nvSpPr>
          <p:spPr>
            <a:xfrm>
              <a:off x="6019920" y="4343400"/>
              <a:ext cx="4190760" cy="21333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8"/>
            <p:cNvSpPr/>
            <p:nvPr/>
          </p:nvSpPr>
          <p:spPr>
            <a:xfrm>
              <a:off x="6019920" y="4343400"/>
              <a:ext cx="4190760" cy="13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項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: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報告管理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–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中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，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產製並儲存報告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7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b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新開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啓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對話框中填寫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説明</a:t>
              </a:r>
              <a:r>
                <a:rPr b="0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7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c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確定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2"/>
          <p:cNvGrpSpPr/>
          <p:nvPr/>
        </p:nvGrpSpPr>
        <p:grpSpPr>
          <a:xfrm>
            <a:off x="0" y="-19080"/>
            <a:ext cx="1919160" cy="6629400"/>
            <a:chOff x="0" y="-19080"/>
            <a:chExt cx="1919160" cy="6629400"/>
          </a:xfrm>
        </p:grpSpPr>
        <p:sp>
          <p:nvSpPr>
            <p:cNvPr id="248" name="Rectangle 6"/>
            <p:cNvSpPr/>
            <p:nvPr/>
          </p:nvSpPr>
          <p:spPr>
            <a:xfrm>
              <a:off x="0" y="-19080"/>
              <a:ext cx="1919160" cy="1432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7"/>
            <p:cNvSpPr/>
            <p:nvPr/>
          </p:nvSpPr>
          <p:spPr>
            <a:xfrm>
              <a:off x="0" y="3429000"/>
              <a:ext cx="1919160" cy="318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11"/>
          <p:cNvSpPr/>
          <p:nvPr/>
        </p:nvSpPr>
        <p:spPr>
          <a:xfrm>
            <a:off x="0" y="-19080"/>
            <a:ext cx="2743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製報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6960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5181480" y="765000"/>
            <a:ext cx="9144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8"/>
          <p:cNvGrpSpPr/>
          <p:nvPr/>
        </p:nvGrpSpPr>
        <p:grpSpPr>
          <a:xfrm>
            <a:off x="9150480" y="4941720"/>
            <a:ext cx="1447560" cy="998280"/>
            <a:chOff x="9150480" y="4941720"/>
            <a:chExt cx="1447560" cy="998280"/>
          </a:xfrm>
        </p:grpSpPr>
        <p:sp>
          <p:nvSpPr>
            <p:cNvPr id="254" name="AutoShape 9"/>
            <p:cNvSpPr/>
            <p:nvPr/>
          </p:nvSpPr>
          <p:spPr>
            <a:xfrm flipV="1">
              <a:off x="9226440" y="5239440"/>
              <a:ext cx="1294920" cy="700560"/>
            </a:xfrm>
            <a:prstGeom prst="flowChartOffpageConnector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0"/>
            <p:cNvSpPr/>
            <p:nvPr/>
          </p:nvSpPr>
          <p:spPr>
            <a:xfrm>
              <a:off x="9150480" y="4941720"/>
              <a:ext cx="144756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退出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返回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11"/>
          <p:cNvGrpSpPr/>
          <p:nvPr/>
        </p:nvGrpSpPr>
        <p:grpSpPr>
          <a:xfrm>
            <a:off x="4419720" y="2212920"/>
            <a:ext cx="4190760" cy="2285640"/>
            <a:chOff x="4419720" y="2212920"/>
            <a:chExt cx="4190760" cy="2285640"/>
          </a:xfrm>
        </p:grpSpPr>
        <p:sp>
          <p:nvSpPr>
            <p:cNvPr id="257" name="AutoShape 12"/>
            <p:cNvSpPr/>
            <p:nvPr/>
          </p:nvSpPr>
          <p:spPr>
            <a:xfrm>
              <a:off x="4419720" y="2212920"/>
              <a:ext cx="4190760" cy="22856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3"/>
            <p:cNvSpPr/>
            <p:nvPr/>
          </p:nvSpPr>
          <p:spPr>
            <a:xfrm>
              <a:off x="4419720" y="2212920"/>
              <a:ext cx="419076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項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: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報告管理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–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中產製並儲存報告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7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d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用戶可按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(</a:t>
              </a:r>
              <a:r>
                <a:rPr b="1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管理</a:t>
              </a:r>
              <a:r>
                <a:rPr b="1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模組的</a:t>
              </a:r>
              <a:r>
                <a:rPr b="1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功能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)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連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結以下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載報告或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於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左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邊項目選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單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中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</a:t>
              </a:r>
              <a:r>
                <a:rPr b="1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管理</a:t>
              </a:r>
              <a:r>
                <a:rPr b="1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，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以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下載報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告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12"/>
          <p:cNvGrpSpPr/>
          <p:nvPr/>
        </p:nvGrpSpPr>
        <p:grpSpPr>
          <a:xfrm>
            <a:off x="0" y="-19080"/>
            <a:ext cx="1919160" cy="6629400"/>
            <a:chOff x="0" y="-19080"/>
            <a:chExt cx="1919160" cy="6629400"/>
          </a:xfrm>
        </p:grpSpPr>
        <p:sp>
          <p:nvSpPr>
            <p:cNvPr id="260" name="Rectangle 6"/>
            <p:cNvSpPr/>
            <p:nvPr/>
          </p:nvSpPr>
          <p:spPr>
            <a:xfrm>
              <a:off x="0" y="-19080"/>
              <a:ext cx="1919160" cy="1432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7"/>
            <p:cNvSpPr/>
            <p:nvPr/>
          </p:nvSpPr>
          <p:spPr>
            <a:xfrm>
              <a:off x="0" y="3429000"/>
              <a:ext cx="1919160" cy="318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Rectangle 11"/>
          <p:cNvSpPr/>
          <p:nvPr/>
        </p:nvSpPr>
        <p:spPr>
          <a:xfrm>
            <a:off x="0" y="-19080"/>
            <a:ext cx="2743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製報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6960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Line 7"/>
          <p:cNvSpPr/>
          <p:nvPr/>
        </p:nvSpPr>
        <p:spPr>
          <a:xfrm flipH="1" flipV="1">
            <a:off x="4655880" y="3716280"/>
            <a:ext cx="1290600" cy="60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8"/>
          <p:cNvGrpSpPr/>
          <p:nvPr/>
        </p:nvGrpSpPr>
        <p:grpSpPr>
          <a:xfrm>
            <a:off x="9150480" y="4941720"/>
            <a:ext cx="1447560" cy="998280"/>
            <a:chOff x="9150480" y="4941720"/>
            <a:chExt cx="1447560" cy="998280"/>
          </a:xfrm>
        </p:grpSpPr>
        <p:sp>
          <p:nvSpPr>
            <p:cNvPr id="266" name="AutoShape 9"/>
            <p:cNvSpPr/>
            <p:nvPr/>
          </p:nvSpPr>
          <p:spPr>
            <a:xfrm flipV="1">
              <a:off x="9226440" y="5239440"/>
              <a:ext cx="1294920" cy="700560"/>
            </a:xfrm>
            <a:prstGeom prst="flowChartOffpageConnector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0"/>
            <p:cNvSpPr/>
            <p:nvPr/>
          </p:nvSpPr>
          <p:spPr>
            <a:xfrm>
              <a:off x="9150480" y="4941720"/>
              <a:ext cx="144756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退出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返回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1"/>
          <p:cNvGrpSpPr/>
          <p:nvPr/>
        </p:nvGrpSpPr>
        <p:grpSpPr>
          <a:xfrm>
            <a:off x="4270320" y="4319640"/>
            <a:ext cx="4191120" cy="1125360"/>
            <a:chOff x="4270320" y="4319640"/>
            <a:chExt cx="4191120" cy="1125360"/>
          </a:xfrm>
        </p:grpSpPr>
        <p:sp>
          <p:nvSpPr>
            <p:cNvPr id="269" name="AutoShape 12"/>
            <p:cNvSpPr/>
            <p:nvPr/>
          </p:nvSpPr>
          <p:spPr>
            <a:xfrm>
              <a:off x="4270320" y="4319640"/>
              <a:ext cx="4191120" cy="11253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3"/>
            <p:cNvSpPr/>
            <p:nvPr/>
          </p:nvSpPr>
          <p:spPr>
            <a:xfrm>
              <a:off x="4270320" y="4319640"/>
              <a:ext cx="419112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項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: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報告管理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–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中產製並儲存報告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7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e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下載報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告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0" y="-19080"/>
            <a:ext cx="1919160" cy="6629400"/>
            <a:chOff x="0" y="-19080"/>
            <a:chExt cx="1919160" cy="6629400"/>
          </a:xfrm>
        </p:grpSpPr>
        <p:sp>
          <p:nvSpPr>
            <p:cNvPr id="272" name="Rectangle 6"/>
            <p:cNvSpPr/>
            <p:nvPr/>
          </p:nvSpPr>
          <p:spPr>
            <a:xfrm>
              <a:off x="0" y="-19080"/>
              <a:ext cx="1919160" cy="1432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7"/>
            <p:cNvSpPr/>
            <p:nvPr/>
          </p:nvSpPr>
          <p:spPr>
            <a:xfrm>
              <a:off x="0" y="3429000"/>
              <a:ext cx="1919160" cy="318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Rectangle 11"/>
          <p:cNvSpPr/>
          <p:nvPr/>
        </p:nvSpPr>
        <p:spPr>
          <a:xfrm>
            <a:off x="0" y="-19080"/>
            <a:ext cx="2743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製報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6960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209680" y="68580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預算 — 報告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2209680" y="1295280"/>
            <a:ext cx="7620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•</a:t>
            </a: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用戶可透過本報告功能產製英文或中文報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•</a:t>
            </a: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取決於學校類別，用戶可檢視以下類別的報告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•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所有類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•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預算 </a:t>
            </a: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–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預算報告 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(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會計年度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預算 </a:t>
            </a: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–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預算報告 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(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學年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預算 </a:t>
            </a: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–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合併授課制報告 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(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會計年度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預算 </a:t>
            </a: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–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合併授課制報告 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(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學年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預算 </a:t>
            </a: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–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合併學校級別報告 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(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會計年度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預算 </a:t>
            </a: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–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合併學校級別報告 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(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學年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預算 </a:t>
            </a: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–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校務計劃書 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(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學年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6960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193840" y="60948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預算 — 報告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209680" y="1143000"/>
            <a:ext cx="7620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共有四類報告</a:t>
            </a:r>
            <a:r>
              <a:rPr b="0" lang="zh-CN" sz="1600" spc="-1" strike="noStrike">
                <a:solidFill>
                  <a:srgbClr val="336600"/>
                </a:solidFill>
                <a:latin typeface="Trebuchet MS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 </a:t>
            </a:r>
            <a:r>
              <a:rPr b="0" lang="zh-CN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單一學校級別／授課制和雙學校級別／授課制報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這些報告為會計期由九月至八月的學校而設。報告會根據會計年度列印，報告範圍從 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FBG001 </a:t>
            </a:r>
            <a:r>
              <a:rPr b="0" lang="zh-CN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至 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FBG025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 </a:t>
            </a:r>
            <a:r>
              <a:rPr b="0" lang="zh-CN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合併學校級別會計年度報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這些報告為會計期由九月至八月的學校而設。報告會將多個學校級別／授課制的預算合併，並會根據會計年度列印，報告範圍從 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FBG012T </a:t>
            </a:r>
            <a:r>
              <a:rPr b="0" lang="zh-CN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至 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FBG023T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。</a:t>
            </a:r>
            <a:r>
              <a:rPr b="0" lang="zh-CN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只有一條龍學校可使用這些報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 </a:t>
            </a:r>
            <a:r>
              <a:rPr b="0" lang="zh-CN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單一學校級別／授課制和雙學校級別／授課制學年報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這些報告為會計期由四月至三月的學校而設。報告會根據學年列印，報告範圍從 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FBG001S </a:t>
            </a:r>
            <a:r>
              <a:rPr b="0" lang="zh-CN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至 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FBG024S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 </a:t>
            </a:r>
            <a:r>
              <a:rPr b="0" lang="zh-CN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合併學年報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這些報告為會計期由四月至三月的學校而設。報告會將多個學校級別／授課制的預算合併，並會根據學年列印，報告範圍從 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FBG012TS </a:t>
            </a:r>
            <a:r>
              <a:rPr b="0" lang="zh-CN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至 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FBG023TS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  <a:ea typeface="SimSu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6960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51" name="Group 12"/>
          <p:cNvGrpSpPr/>
          <p:nvPr/>
        </p:nvGrpSpPr>
        <p:grpSpPr>
          <a:xfrm>
            <a:off x="0" y="-19080"/>
            <a:ext cx="1919160" cy="6629400"/>
            <a:chOff x="0" y="-19080"/>
            <a:chExt cx="1919160" cy="6629400"/>
          </a:xfrm>
        </p:grpSpPr>
        <p:sp>
          <p:nvSpPr>
            <p:cNvPr id="152" name="Rectangle 6"/>
            <p:cNvSpPr/>
            <p:nvPr/>
          </p:nvSpPr>
          <p:spPr>
            <a:xfrm>
              <a:off x="0" y="-19080"/>
              <a:ext cx="1919160" cy="1432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7"/>
            <p:cNvSpPr/>
            <p:nvPr/>
          </p:nvSpPr>
          <p:spPr>
            <a:xfrm>
              <a:off x="0" y="3429000"/>
              <a:ext cx="1919160" cy="318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8"/>
          <p:cNvGrpSpPr/>
          <p:nvPr/>
        </p:nvGrpSpPr>
        <p:grpSpPr>
          <a:xfrm>
            <a:off x="8305920" y="2286000"/>
            <a:ext cx="2057400" cy="1295280"/>
            <a:chOff x="8305920" y="2286000"/>
            <a:chExt cx="2057400" cy="1295280"/>
          </a:xfrm>
        </p:grpSpPr>
        <p:sp>
          <p:nvSpPr>
            <p:cNvPr id="155" name="AutoShape 9"/>
            <p:cNvSpPr/>
            <p:nvPr/>
          </p:nvSpPr>
          <p:spPr>
            <a:xfrm>
              <a:off x="8305920" y="2286000"/>
              <a:ext cx="2057400" cy="129528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"/>
            <p:cNvSpPr/>
            <p:nvPr/>
          </p:nvSpPr>
          <p:spPr>
            <a:xfrm>
              <a:off x="8305920" y="228600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預算報告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(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會計年度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)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類別下的報告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11"/>
          <p:cNvSpPr/>
          <p:nvPr/>
        </p:nvSpPr>
        <p:spPr>
          <a:xfrm>
            <a:off x="2009880" y="1916280"/>
            <a:ext cx="4518000" cy="25207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6960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8305920" y="2286000"/>
            <a:ext cx="2057400" cy="1295280"/>
            <a:chOff x="8305920" y="2286000"/>
            <a:chExt cx="2057400" cy="1295280"/>
          </a:xfrm>
        </p:grpSpPr>
        <p:sp>
          <p:nvSpPr>
            <p:cNvPr id="160" name="AutoShape 6"/>
            <p:cNvSpPr/>
            <p:nvPr/>
          </p:nvSpPr>
          <p:spPr>
            <a:xfrm>
              <a:off x="8305920" y="2286000"/>
              <a:ext cx="2057400" cy="129528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8305920" y="228600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預算報告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(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學年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)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類別下的報告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8"/>
          <p:cNvSpPr/>
          <p:nvPr/>
        </p:nvSpPr>
        <p:spPr>
          <a:xfrm>
            <a:off x="1969920" y="1828800"/>
            <a:ext cx="4125960" cy="23922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2"/>
          <p:cNvGrpSpPr/>
          <p:nvPr/>
        </p:nvGrpSpPr>
        <p:grpSpPr>
          <a:xfrm>
            <a:off x="0" y="-19080"/>
            <a:ext cx="1919160" cy="6629400"/>
            <a:chOff x="0" y="-19080"/>
            <a:chExt cx="1919160" cy="6629400"/>
          </a:xfrm>
        </p:grpSpPr>
        <p:sp>
          <p:nvSpPr>
            <p:cNvPr id="164" name="Rectangle 6"/>
            <p:cNvSpPr/>
            <p:nvPr/>
          </p:nvSpPr>
          <p:spPr>
            <a:xfrm>
              <a:off x="0" y="-19080"/>
              <a:ext cx="1919160" cy="1432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0" y="3429000"/>
              <a:ext cx="1919160" cy="318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6960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8305920" y="2286000"/>
            <a:ext cx="2057400" cy="1295280"/>
            <a:chOff x="8305920" y="2286000"/>
            <a:chExt cx="2057400" cy="1295280"/>
          </a:xfrm>
        </p:grpSpPr>
        <p:sp>
          <p:nvSpPr>
            <p:cNvPr id="168" name="AutoShape 6"/>
            <p:cNvSpPr/>
            <p:nvPr/>
          </p:nvSpPr>
          <p:spPr>
            <a:xfrm>
              <a:off x="8305920" y="2286000"/>
              <a:ext cx="2057400" cy="129528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7"/>
            <p:cNvSpPr/>
            <p:nvPr/>
          </p:nvSpPr>
          <p:spPr>
            <a:xfrm>
              <a:off x="8305920" y="228600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校務計劃書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(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學年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)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類別下的報告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8"/>
          <p:cNvSpPr/>
          <p:nvPr/>
        </p:nvSpPr>
        <p:spPr>
          <a:xfrm>
            <a:off x="2063880" y="1844640"/>
            <a:ext cx="2519280" cy="2746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2"/>
          <p:cNvGrpSpPr/>
          <p:nvPr/>
        </p:nvGrpSpPr>
        <p:grpSpPr>
          <a:xfrm>
            <a:off x="0" y="-19080"/>
            <a:ext cx="1919160" cy="6629400"/>
            <a:chOff x="0" y="-19080"/>
            <a:chExt cx="1919160" cy="6629400"/>
          </a:xfrm>
        </p:grpSpPr>
        <p:sp>
          <p:nvSpPr>
            <p:cNvPr id="172" name="Rectangle 6"/>
            <p:cNvSpPr/>
            <p:nvPr/>
          </p:nvSpPr>
          <p:spPr>
            <a:xfrm>
              <a:off x="0" y="-19080"/>
              <a:ext cx="1919160" cy="1432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0" y="3429000"/>
              <a:ext cx="1919160" cy="318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6960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438280" y="623880"/>
            <a:ext cx="489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新細明體"/>
                <a:ea typeface="新細明體"/>
              </a:rPr>
              <a:t>產製報告</a:t>
            </a:r>
            <a:r>
              <a:rPr b="1" lang="zh-CN" sz="1800" spc="-1" strike="noStrike">
                <a:solidFill>
                  <a:srgbClr val="ff0000"/>
                </a:solidFill>
                <a:latin typeface="Trebuchet MS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2514600" y="1349280"/>
            <a:ext cx="7543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•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報告可在新開啟的預覽視窗內產製或儲存於報告管理庫存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•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可選擇產製</a:t>
            </a:r>
            <a:r>
              <a:rPr b="0" lang="zh-TW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四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種不同格式的報告：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PDF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、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WORD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，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EXCEL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以及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RICH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•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用戶可編修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WORD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，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RICHTEXT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以及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EXCEL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格式的報告</a:t>
            </a:r>
            <a:r>
              <a:rPr b="0" lang="zh-CN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6960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78" name="Group 7"/>
          <p:cNvGrpSpPr/>
          <p:nvPr/>
        </p:nvGrpSpPr>
        <p:grpSpPr>
          <a:xfrm>
            <a:off x="5791320" y="3276720"/>
            <a:ext cx="4876200" cy="2528280"/>
            <a:chOff x="5791320" y="3276720"/>
            <a:chExt cx="4876200" cy="2528280"/>
          </a:xfrm>
        </p:grpSpPr>
        <p:sp>
          <p:nvSpPr>
            <p:cNvPr id="179" name="AutoShape 8"/>
            <p:cNvSpPr/>
            <p:nvPr/>
          </p:nvSpPr>
          <p:spPr>
            <a:xfrm>
              <a:off x="5791320" y="3276720"/>
              <a:ext cx="4876200" cy="252828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5791320" y="3276720"/>
              <a:ext cx="48762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按下左邊項目選單的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預算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] </a:t>
              </a:r>
              <a:r>
                <a:rPr b="1" lang="zh-TW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 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2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選擇其中一種類別及語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3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按下 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搜尋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10"/>
          <p:cNvSpPr/>
          <p:nvPr/>
        </p:nvSpPr>
        <p:spPr>
          <a:xfrm>
            <a:off x="1523880" y="0"/>
            <a:ext cx="2743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製報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3532320" y="1143000"/>
            <a:ext cx="2447640" cy="5335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2">
            <a:hlinkClick r:id="rId2"/>
          </p:cNvPr>
          <p:cNvSpPr/>
          <p:nvPr/>
        </p:nvSpPr>
        <p:spPr>
          <a:xfrm>
            <a:off x="1989000" y="820800"/>
            <a:ext cx="914400" cy="30456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2"/>
          <p:cNvGrpSpPr/>
          <p:nvPr/>
        </p:nvGrpSpPr>
        <p:grpSpPr>
          <a:xfrm>
            <a:off x="0" y="-19080"/>
            <a:ext cx="1919160" cy="6629400"/>
            <a:chOff x="0" y="-19080"/>
            <a:chExt cx="1919160" cy="6629400"/>
          </a:xfrm>
        </p:grpSpPr>
        <p:sp>
          <p:nvSpPr>
            <p:cNvPr id="185" name="Rectangle 6"/>
            <p:cNvSpPr/>
            <p:nvPr/>
          </p:nvSpPr>
          <p:spPr>
            <a:xfrm>
              <a:off x="0" y="-19080"/>
              <a:ext cx="1919160" cy="1432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0" y="3429000"/>
              <a:ext cx="1919160" cy="318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6960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88" name="Group 7"/>
          <p:cNvGrpSpPr/>
          <p:nvPr/>
        </p:nvGrpSpPr>
        <p:grpSpPr>
          <a:xfrm>
            <a:off x="5943600" y="4114800"/>
            <a:ext cx="4419720" cy="1371600"/>
            <a:chOff x="5943600" y="4114800"/>
            <a:chExt cx="4419720" cy="1371600"/>
          </a:xfrm>
        </p:grpSpPr>
        <p:sp>
          <p:nvSpPr>
            <p:cNvPr id="189" name="AutoShape 8"/>
            <p:cNvSpPr/>
            <p:nvPr/>
          </p:nvSpPr>
          <p:spPr>
            <a:xfrm>
              <a:off x="5943600" y="4114800"/>
              <a:ext cx="4419720" cy="13716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9"/>
            <p:cNvSpPr/>
            <p:nvPr/>
          </p:nvSpPr>
          <p:spPr>
            <a:xfrm>
              <a:off x="5943600" y="4114800"/>
              <a:ext cx="44197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4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按下報告名稱超連結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0"/>
          <p:cNvSpPr/>
          <p:nvPr/>
        </p:nvSpPr>
        <p:spPr>
          <a:xfrm>
            <a:off x="2711520" y="2276640"/>
            <a:ext cx="2895480" cy="2286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2"/>
          <p:cNvGrpSpPr/>
          <p:nvPr/>
        </p:nvGrpSpPr>
        <p:grpSpPr>
          <a:xfrm>
            <a:off x="0" y="-19080"/>
            <a:ext cx="1919160" cy="6629400"/>
            <a:chOff x="0" y="-19080"/>
            <a:chExt cx="1919160" cy="6629400"/>
          </a:xfrm>
        </p:grpSpPr>
        <p:sp>
          <p:nvSpPr>
            <p:cNvPr id="193" name="Rectangle 6"/>
            <p:cNvSpPr/>
            <p:nvPr/>
          </p:nvSpPr>
          <p:spPr>
            <a:xfrm>
              <a:off x="0" y="-19080"/>
              <a:ext cx="1919160" cy="1432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"/>
            <p:cNvSpPr/>
            <p:nvPr/>
          </p:nvSpPr>
          <p:spPr>
            <a:xfrm>
              <a:off x="0" y="3429000"/>
              <a:ext cx="1919160" cy="318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Rectangle 11"/>
          <p:cNvSpPr/>
          <p:nvPr/>
        </p:nvSpPr>
        <p:spPr>
          <a:xfrm>
            <a:off x="0" y="-19080"/>
            <a:ext cx="2743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製報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7:55:27Z</dcterms:created>
  <dc:creator>Valued Sony Customer</dc:creator>
  <dc:description/>
  <dc:language>en-US</dc:language>
  <cp:lastModifiedBy>FUNG, Kam-kong Samuel</cp:lastModifiedBy>
  <dcterms:modified xsi:type="dcterms:W3CDTF">2024-10-28T06:26:44Z</dcterms:modified>
  <cp:revision>285</cp:revision>
  <dc:subject/>
  <dc:title>School Management</dc:title>
</cp:coreProperties>
</file>