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73080" y="761760"/>
            <a:ext cx="6635520" cy="373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4489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584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TW" sz="1200" spc="-1" strike="noStrike">
                <a:solidFill>
                  <a:srgbClr val="000000"/>
                </a:solidFill>
                <a:latin typeface="Calibri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F336BE-C4DD-455E-A613-34BC7140179D}" type="slidenum">
              <a:rPr b="0" lang="zh-TW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49120B-B19D-48CE-A08C-F4211C76F256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73080" y="762120"/>
            <a:ext cx="6635520" cy="373356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HK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5951F6-7C73-4167-AC21-BC057169B719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73080" y="762120"/>
            <a:ext cx="6635520" cy="373356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HK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D0B92B-4E67-4C65-A253-B632291CEC26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73080" y="762120"/>
            <a:ext cx="6635520" cy="373356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HK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62C33B-0B06-4398-A9D4-735023DF5EBE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73080" y="762120"/>
            <a:ext cx="6635520" cy="373356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48D70F-AB78-4E10-AF57-AFB902E463A4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73080" y="762120"/>
            <a:ext cx="6635520" cy="373356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C8B529-F159-433A-B5C4-1CF211F84F42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73080" y="762120"/>
            <a:ext cx="6635520" cy="373356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用戶可按下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[</a:t>
            </a: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新增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]</a:t>
            </a: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按鈕以製作更多預算行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用戶可選擇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[</a:t>
            </a: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帳目代碼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]</a:t>
            </a: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旁之核取方塊以刪除預算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預算金額必須大於零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55DEFF-27F0-49CE-BC4B-F2E5383DA6DA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73080" y="762120"/>
            <a:ext cx="6635520" cy="373356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HK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9687B1-29F1-4FAF-ABDA-3E44C1F4820A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73080" y="762120"/>
            <a:ext cx="6635520" cy="373356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F6242E-F15C-4173-92B3-CBCB9607DC1D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73080" y="762120"/>
            <a:ext cx="6635520" cy="373356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HK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9E447B-7ABD-4758-918D-6564707F81B7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73080" y="762120"/>
            <a:ext cx="6635520" cy="373356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所有按鈕將會隱藏。只有</a:t>
            </a:r>
            <a:r>
              <a:rPr b="1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[</a:t>
            </a:r>
            <a:r>
              <a:rPr b="1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還原到預算草案</a:t>
            </a:r>
            <a:r>
              <a:rPr b="1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]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和</a:t>
            </a:r>
            <a:r>
              <a:rPr b="1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[</a:t>
            </a:r>
            <a:r>
              <a:rPr b="1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返回前頁</a:t>
            </a:r>
            <a:r>
              <a:rPr b="1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]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兩個按鈕會顯示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F90F25-6421-4710-89E7-E2E2146D32CC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73080" y="762120"/>
            <a:ext cx="6635520" cy="373356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HK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644D43-2F90-4B1D-A17D-102E3C744102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73080" y="762120"/>
            <a:ext cx="6635520" cy="373356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CE9CBC-6215-4B90-A60B-821901B0B9D1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73080" y="762120"/>
            <a:ext cx="6635520" cy="373356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989818-4AA9-4DED-B0AA-F64EBF50AE90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73080" y="762120"/>
            <a:ext cx="6635520" cy="373356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HK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A518F3-7BD8-40D4-A4E7-E5F80A822FAA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73080" y="762120"/>
            <a:ext cx="6635520" cy="373356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所有按鈕會再次顯示出來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402A10-367E-4CAD-B820-16BEA70E7D38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73080" y="762120"/>
            <a:ext cx="6635520" cy="373356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HK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79A1A6-7208-4675-B783-9ED31DCD45C2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73080" y="762120"/>
            <a:ext cx="6635520" cy="373356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點選其中一項 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新細明體"/>
              </a:rPr>
              <a:t>i)</a:t>
            </a: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已收金額  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新細明體"/>
              </a:rPr>
              <a:t>ii)</a:t>
            </a: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預算草案收入或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新細明體"/>
              </a:rPr>
              <a:t>iii)</a:t>
            </a: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修改預算收入以作複製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如用戶選擇「已收金額」，該金額會由簿記及職員成本組件中提取未過帳及已過帳的傳票金額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如</a:t>
            </a: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用戶選擇「預算草案收入」，系統會存取最近已更新的預算草案收入金額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如用戶選擇「修改預算收入」，系統會存取最近已更新的修改</a:t>
            </a: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預算收入金額</a:t>
            </a: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827B62-1E19-4ED0-BE93-AE8CB2318511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73080" y="762120"/>
            <a:ext cx="6635520" cy="37335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按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[</a:t>
            </a: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確定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]</a:t>
            </a: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按鈕</a:t>
            </a: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,</a:t>
            </a: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把選定的預算帳目行複製到指定會計年度。一經確定，系統會進入所指定學校級別</a:t>
            </a: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/</a:t>
            </a: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授課制以及會計年度的「製作預算收入」版面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8C26EC-F69D-4178-8DA1-93E52F77BC1C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73080" y="762120"/>
            <a:ext cx="6635520" cy="373356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C8B6B3-887B-4FB2-9F63-8691306DDC40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73080" y="762120"/>
            <a:ext cx="6635520" cy="373356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在製作預算收入紀錄前，用戶應設定帳目代碼表（經費來源、總帳代碼、分類帳代碼及帳目代碼）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A79EE2-0389-455C-BDD8-AC0759B4B933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73080" y="762120"/>
            <a:ext cx="6635520" cy="373356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73080" y="762120"/>
            <a:ext cx="6635520" cy="37335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4E59E1-12D7-46A8-AA3C-D91D2ECF44DF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610760-D1AD-4730-A951-E1CA72748113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73080" y="762120"/>
            <a:ext cx="6635520" cy="373356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若無法找到所需帳目代碼，按下</a:t>
            </a:r>
            <a:r>
              <a:rPr b="0" lang="zh-TW" sz="1200" spc="-1" strike="noStrike">
                <a:solidFill>
                  <a:srgbClr val="000000"/>
                </a:solidFill>
                <a:latin typeface="Trebuchet MS"/>
                <a:ea typeface="新細明體"/>
              </a:rPr>
              <a:t>[</a:t>
            </a: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帳目代碼表</a:t>
            </a:r>
            <a:r>
              <a:rPr b="0" lang="zh-TW" sz="1200" spc="-1" strike="noStrike">
                <a:solidFill>
                  <a:srgbClr val="000000"/>
                </a:solidFill>
                <a:latin typeface="Trebuchet MS"/>
                <a:ea typeface="新細明體"/>
              </a:rPr>
              <a:t>] </a:t>
            </a: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按鈕以編修帳目代碼表。系統會開啟帳目代碼表編修視窗。用戶可透過該功能製作新帳目代碼或修改帳目代碼之生效狀況。而無需從填寫預算詳情中退出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782202-AB54-4E7E-8940-E714B3D90785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73080" y="762120"/>
            <a:ext cx="6635520" cy="373356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178086-7C44-41F6-8E62-A8EAFF0C82EB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73080" y="762120"/>
            <a:ext cx="6635520" cy="373356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用戶可以重覆第</a:t>
            </a: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4 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–</a:t>
            </a: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 8</a:t>
            </a: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步以新增更多預算行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系統只容許用戶在預備預算收入時，輸入或選擇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“</a:t>
            </a: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收入帳目代碼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”</a:t>
            </a: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當用戶輸入預算金額時，請留意以下要點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新細明體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金額不能為負數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新細明體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如輸入零金額，該金額會在查詢版面及所有預算報告中會被剔除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CCFC-B8C0-4E41-B2E7-95A666580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0662-F9A2-4A90-A79C-2DFC3A535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7A70-6EFF-4883-BE0E-B6F017BD2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70F5-B87D-41B6-A64E-68F22C548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008B-561A-49AB-87B4-392185C4B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2F0A-1341-4751-9314-7E1C9B094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43F6-7CCA-43B2-9218-CD9F307D9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36ED-2767-470C-BA59-0B0E426DD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2B55-7464-4B09-91AB-3F43781B2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1620-CDC9-4BCA-BC32-6FA6FE19D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7A53-6EFB-4499-8E15-3475CE192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FD92-F576-438A-BE14-F72526259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DA53F3-797F-46EC-B283-BA607EA205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5"/>
          <p:cNvSpPr/>
          <p:nvPr/>
        </p:nvSpPr>
        <p:spPr>
          <a:xfrm>
            <a:off x="0" y="6597720"/>
            <a:ext cx="12192120" cy="260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7346880" y="6593760"/>
            <a:ext cx="316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版本</a:t>
            </a:r>
            <a:r>
              <a:rPr b="0" lang="zh-CN" sz="1200" spc="-1" strike="noStrike">
                <a:solidFill>
                  <a:srgbClr val="ffffff"/>
                </a:solidFill>
                <a:latin typeface="Trebuchet MS"/>
                <a:ea typeface="SimSu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1.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0704600" y="6581160"/>
            <a:ext cx="14414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頁碼</a:t>
            </a:r>
            <a:r>
              <a:rPr b="0" lang="zh-CN" sz="1200" spc="-1" strike="noStrike">
                <a:solidFill>
                  <a:srgbClr val="ffffff"/>
                </a:solidFill>
                <a:latin typeface="Trebuchet MS"/>
                <a:ea typeface="SimSu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 </a:t>
            </a:r>
            <a:fld id="{DF3E808D-40CE-454D-9FB8-C6513D014E17}" type="slidenum">
              <a:rPr b="0" lang="en-US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3"/>
          <p:cNvSpPr/>
          <p:nvPr/>
        </p:nvSpPr>
        <p:spPr>
          <a:xfrm>
            <a:off x="1523880" y="44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2400" spc="-1" strike="noStrike">
                <a:solidFill>
                  <a:srgbClr val="ff0066"/>
                </a:solidFill>
                <a:latin typeface="Trebuchet MS"/>
                <a:ea typeface="新細明體"/>
              </a:rPr>
              <a:t>	</a:t>
            </a:r>
            <a:r>
              <a:rPr b="0" lang="zh-TW" sz="2400" spc="-1" strike="noStrike">
                <a:solidFill>
                  <a:srgbClr val="0000cc"/>
                </a:solidFill>
                <a:latin typeface="新細明體"/>
                <a:ea typeface="新細明體"/>
              </a:rPr>
              <a:t>財務管理及策劃 </a:t>
            </a:r>
            <a:r>
              <a:rPr b="0" lang="zh-TW" sz="2400" spc="-1" strike="noStrike">
                <a:solidFill>
                  <a:srgbClr val="0000cc"/>
                </a:solidFill>
                <a:latin typeface="Trebuchet MS"/>
                <a:ea typeface="新細明體"/>
              </a:rPr>
              <a:t>– </a:t>
            </a:r>
            <a:r>
              <a:rPr b="0" lang="zh-TW" sz="2400" spc="-1" strike="noStrike">
                <a:solidFill>
                  <a:srgbClr val="0000cc"/>
                </a:solidFill>
                <a:latin typeface="新細明體"/>
                <a:ea typeface="新細明體"/>
              </a:rPr>
              <a:t>預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Line 4"/>
          <p:cNvSpPr/>
          <p:nvPr/>
        </p:nvSpPr>
        <p:spPr>
          <a:xfrm>
            <a:off x="3124080" y="2133720"/>
            <a:ext cx="4953240" cy="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" name="Group 5"/>
          <p:cNvGrpSpPr/>
          <p:nvPr/>
        </p:nvGrpSpPr>
        <p:grpSpPr>
          <a:xfrm>
            <a:off x="2101680" y="1563840"/>
            <a:ext cx="586080" cy="1026720"/>
            <a:chOff x="2101680" y="1563840"/>
            <a:chExt cx="586080" cy="1026720"/>
          </a:xfrm>
        </p:grpSpPr>
        <p:sp>
          <p:nvSpPr>
            <p:cNvPr id="54" name="Text Box 6"/>
            <p:cNvSpPr/>
            <p:nvPr/>
          </p:nvSpPr>
          <p:spPr>
            <a:xfrm>
              <a:off x="2101680" y="1563840"/>
              <a:ext cx="58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200" spc="-1" strike="noStrike">
                  <a:solidFill>
                    <a:srgbClr val="008000"/>
                  </a:solidFill>
                  <a:latin typeface="新細明體"/>
                  <a:ea typeface="新細明體"/>
                </a:rPr>
                <a:t>會計文員</a:t>
              </a:r>
              <a:r>
                <a:rPr b="0" lang="zh-CN" sz="1200" spc="-1" strike="noStrike">
                  <a:solidFill>
                    <a:srgbClr val="008000"/>
                  </a:solidFill>
                  <a:latin typeface="Trebuchet MS"/>
                  <a:ea typeface="新細明體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5" name="Group 7"/>
            <p:cNvGrpSpPr/>
            <p:nvPr/>
          </p:nvGrpSpPr>
          <p:grpSpPr>
            <a:xfrm>
              <a:off x="2266560" y="1995840"/>
              <a:ext cx="237960" cy="594720"/>
              <a:chOff x="2266560" y="1995840"/>
              <a:chExt cx="237960" cy="594720"/>
            </a:xfrm>
          </p:grpSpPr>
          <p:sp>
            <p:nvSpPr>
              <p:cNvPr id="56" name="Oval 8"/>
              <p:cNvSpPr/>
              <p:nvPr/>
            </p:nvSpPr>
            <p:spPr>
              <a:xfrm>
                <a:off x="2266920" y="1995840"/>
                <a:ext cx="237600" cy="237600"/>
              </a:xfrm>
              <a:prstGeom prst="ellipse">
                <a:avLst/>
              </a:prstGeom>
              <a:noFill/>
              <a:ln w="38160">
                <a:solidFill>
                  <a:srgbClr val="4d4d4d"/>
                </a:solidFill>
                <a:miter/>
              </a:ln>
              <a:effectLst>
                <a:outerShdw dist="17819" dir="270000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" name="Line 9"/>
              <p:cNvSpPr/>
              <p:nvPr/>
            </p:nvSpPr>
            <p:spPr>
              <a:xfrm flipH="1">
                <a:off x="2266560" y="2233440"/>
                <a:ext cx="118440" cy="11880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" name="Line 10"/>
              <p:cNvSpPr/>
              <p:nvPr/>
            </p:nvSpPr>
            <p:spPr>
              <a:xfrm flipH="1">
                <a:off x="2266560" y="2471760"/>
                <a:ext cx="118440" cy="11880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" name="Line 11"/>
              <p:cNvSpPr/>
              <p:nvPr/>
            </p:nvSpPr>
            <p:spPr>
              <a:xfrm>
                <a:off x="2385360" y="2233440"/>
                <a:ext cx="0" cy="23796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" name="Line 12"/>
              <p:cNvSpPr/>
              <p:nvPr/>
            </p:nvSpPr>
            <p:spPr>
              <a:xfrm>
                <a:off x="2385360" y="2233440"/>
                <a:ext cx="118800" cy="11880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" name="Line 13"/>
              <p:cNvSpPr/>
              <p:nvPr/>
            </p:nvSpPr>
            <p:spPr>
              <a:xfrm>
                <a:off x="2385360" y="2471760"/>
                <a:ext cx="118800" cy="11880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2" name="Group 14"/>
          <p:cNvGrpSpPr/>
          <p:nvPr/>
        </p:nvGrpSpPr>
        <p:grpSpPr>
          <a:xfrm>
            <a:off x="2012040" y="2997360"/>
            <a:ext cx="1122120" cy="1193760"/>
            <a:chOff x="2012040" y="2997360"/>
            <a:chExt cx="1122120" cy="1193760"/>
          </a:xfrm>
        </p:grpSpPr>
        <p:grpSp>
          <p:nvGrpSpPr>
            <p:cNvPr id="63" name="Group 15"/>
            <p:cNvGrpSpPr/>
            <p:nvPr/>
          </p:nvGrpSpPr>
          <p:grpSpPr>
            <a:xfrm>
              <a:off x="2012040" y="2997360"/>
              <a:ext cx="403200" cy="833400"/>
              <a:chOff x="2012040" y="2997360"/>
              <a:chExt cx="403200" cy="833400"/>
            </a:xfrm>
          </p:grpSpPr>
          <p:sp>
            <p:nvSpPr>
              <p:cNvPr id="64" name="Text Box 16"/>
              <p:cNvSpPr/>
              <p:nvPr/>
            </p:nvSpPr>
            <p:spPr>
              <a:xfrm>
                <a:off x="2012040" y="3554280"/>
                <a:ext cx="403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zh-TW" sz="1200" spc="-1" strike="noStrike">
                    <a:solidFill>
                      <a:srgbClr val="008000"/>
                    </a:solidFill>
                    <a:latin typeface="新細明體"/>
                    <a:ea typeface="新細明體"/>
                  </a:rPr>
                  <a:t>校長</a:t>
                </a:r>
                <a:r>
                  <a:rPr b="0" lang="zh-CN" sz="1200" spc="-1" strike="noStrike">
                    <a:solidFill>
                      <a:srgbClr val="008000"/>
                    </a:solidFill>
                    <a:latin typeface="Trebuchet MS"/>
                    <a:ea typeface="新細明體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5" name="Group 17"/>
              <p:cNvGrpSpPr/>
              <p:nvPr/>
            </p:nvGrpSpPr>
            <p:grpSpPr>
              <a:xfrm>
                <a:off x="2089080" y="2997360"/>
                <a:ext cx="237960" cy="594720"/>
                <a:chOff x="2089080" y="2997360"/>
                <a:chExt cx="237960" cy="594720"/>
              </a:xfrm>
            </p:grpSpPr>
            <p:sp>
              <p:nvSpPr>
                <p:cNvPr id="66" name="Oval 18"/>
                <p:cNvSpPr/>
                <p:nvPr/>
              </p:nvSpPr>
              <p:spPr>
                <a:xfrm>
                  <a:off x="2089080" y="2997360"/>
                  <a:ext cx="237960" cy="237600"/>
                </a:xfrm>
                <a:prstGeom prst="ellipse">
                  <a:avLst/>
                </a:prstGeom>
                <a:noFill/>
                <a:ln w="38160">
                  <a:solidFill>
                    <a:srgbClr val="4d4d4d"/>
                  </a:solidFill>
                  <a:miter/>
                </a:ln>
                <a:effectLst>
                  <a:outerShdw dist="17819" dir="2700000" blurRad="0" rotWithShape="0">
                    <a:srgbClr val="dddddd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" name="Line 19"/>
                <p:cNvSpPr/>
                <p:nvPr/>
              </p:nvSpPr>
              <p:spPr>
                <a:xfrm flipH="1">
                  <a:off x="2089080" y="3234960"/>
                  <a:ext cx="118800" cy="11880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" name="Line 20"/>
                <p:cNvSpPr/>
                <p:nvPr/>
              </p:nvSpPr>
              <p:spPr>
                <a:xfrm flipH="1">
                  <a:off x="2089080" y="3473280"/>
                  <a:ext cx="118800" cy="11880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9" name="Line 21"/>
                <p:cNvSpPr/>
                <p:nvPr/>
              </p:nvSpPr>
              <p:spPr>
                <a:xfrm>
                  <a:off x="2207880" y="3234960"/>
                  <a:ext cx="0" cy="23796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0" name="Line 22"/>
                <p:cNvSpPr/>
                <p:nvPr/>
              </p:nvSpPr>
              <p:spPr>
                <a:xfrm>
                  <a:off x="2207880" y="3234960"/>
                  <a:ext cx="119160" cy="11880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1" name="Line 23"/>
                <p:cNvSpPr/>
                <p:nvPr/>
              </p:nvSpPr>
              <p:spPr>
                <a:xfrm>
                  <a:off x="2207880" y="3473280"/>
                  <a:ext cx="119160" cy="11880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72" name="Group 24"/>
            <p:cNvGrpSpPr/>
            <p:nvPr/>
          </p:nvGrpSpPr>
          <p:grpSpPr>
            <a:xfrm>
              <a:off x="2273760" y="3357720"/>
              <a:ext cx="860400" cy="833400"/>
              <a:chOff x="2273760" y="3357720"/>
              <a:chExt cx="860400" cy="833400"/>
            </a:xfrm>
          </p:grpSpPr>
          <p:sp>
            <p:nvSpPr>
              <p:cNvPr id="73" name="Text Box 25"/>
              <p:cNvSpPr/>
              <p:nvPr/>
            </p:nvSpPr>
            <p:spPr>
              <a:xfrm>
                <a:off x="2273760" y="3914640"/>
                <a:ext cx="860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zh-TW" sz="1200" spc="-1" strike="noStrike">
                    <a:solidFill>
                      <a:srgbClr val="008000"/>
                    </a:solidFill>
                    <a:latin typeface="新細明體"/>
                    <a:ea typeface="新細明體"/>
                  </a:rPr>
                  <a:t>學校管理委員會</a:t>
                </a:r>
                <a:r>
                  <a:rPr b="0" lang="zh-CN" sz="1200" spc="-1" strike="noStrike">
                    <a:solidFill>
                      <a:srgbClr val="008000"/>
                    </a:solidFill>
                    <a:latin typeface="Trebuchet MS"/>
                    <a:ea typeface="新細明體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74" name="Group 26"/>
              <p:cNvGrpSpPr/>
              <p:nvPr/>
            </p:nvGrpSpPr>
            <p:grpSpPr>
              <a:xfrm>
                <a:off x="2576520" y="3357720"/>
                <a:ext cx="237960" cy="594720"/>
                <a:chOff x="2576520" y="3357720"/>
                <a:chExt cx="237960" cy="594720"/>
              </a:xfrm>
            </p:grpSpPr>
            <p:sp>
              <p:nvSpPr>
                <p:cNvPr id="75" name="Oval 27"/>
                <p:cNvSpPr/>
                <p:nvPr/>
              </p:nvSpPr>
              <p:spPr>
                <a:xfrm>
                  <a:off x="2576520" y="3357720"/>
                  <a:ext cx="237960" cy="237600"/>
                </a:xfrm>
                <a:prstGeom prst="ellipse">
                  <a:avLst/>
                </a:prstGeom>
                <a:noFill/>
                <a:ln w="38160">
                  <a:solidFill>
                    <a:srgbClr val="4d4d4d"/>
                  </a:solidFill>
                  <a:miter/>
                </a:ln>
                <a:effectLst>
                  <a:outerShdw dist="17819" dir="2700000" blurRad="0" rotWithShape="0">
                    <a:srgbClr val="dddddd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6" name="Line 28"/>
                <p:cNvSpPr/>
                <p:nvPr/>
              </p:nvSpPr>
              <p:spPr>
                <a:xfrm flipH="1">
                  <a:off x="2576520" y="3595320"/>
                  <a:ext cx="118800" cy="11880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7" name="Line 29"/>
                <p:cNvSpPr/>
                <p:nvPr/>
              </p:nvSpPr>
              <p:spPr>
                <a:xfrm flipH="1">
                  <a:off x="2576520" y="3833640"/>
                  <a:ext cx="118800" cy="11880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8" name="Line 30"/>
                <p:cNvSpPr/>
                <p:nvPr/>
              </p:nvSpPr>
              <p:spPr>
                <a:xfrm>
                  <a:off x="2695320" y="3595320"/>
                  <a:ext cx="0" cy="23796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9" name="Line 31"/>
                <p:cNvSpPr/>
                <p:nvPr/>
              </p:nvSpPr>
              <p:spPr>
                <a:xfrm>
                  <a:off x="2695320" y="3595320"/>
                  <a:ext cx="119160" cy="11880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0" name="Line 32"/>
                <p:cNvSpPr/>
                <p:nvPr/>
              </p:nvSpPr>
              <p:spPr>
                <a:xfrm>
                  <a:off x="2695320" y="3833640"/>
                  <a:ext cx="119160" cy="11880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81" name="Rectangle 33"/>
          <p:cNvSpPr/>
          <p:nvPr/>
        </p:nvSpPr>
        <p:spPr>
          <a:xfrm>
            <a:off x="1569960" y="6576120"/>
            <a:ext cx="438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財務管理及策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" name="Group 34"/>
          <p:cNvGrpSpPr/>
          <p:nvPr/>
        </p:nvGrpSpPr>
        <p:grpSpPr>
          <a:xfrm>
            <a:off x="5137200" y="907920"/>
            <a:ext cx="4811400" cy="5312160"/>
            <a:chOff x="5137200" y="907920"/>
            <a:chExt cx="4811400" cy="5312160"/>
          </a:xfrm>
        </p:grpSpPr>
        <p:sp>
          <p:nvSpPr>
            <p:cNvPr id="83" name="Text Box 35"/>
            <p:cNvSpPr/>
            <p:nvPr/>
          </p:nvSpPr>
          <p:spPr>
            <a:xfrm>
              <a:off x="9414720" y="3276720"/>
              <a:ext cx="403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200" spc="-1" strike="noStrike">
                  <a:solidFill>
                    <a:srgbClr val="008000"/>
                  </a:solidFill>
                  <a:latin typeface="新細明體"/>
                  <a:ea typeface="新細明體"/>
                </a:rPr>
                <a:t>簿記</a:t>
              </a:r>
              <a:r>
                <a:rPr b="0" lang="zh-CN" sz="1200" spc="-1" strike="noStrike">
                  <a:solidFill>
                    <a:srgbClr val="008000"/>
                  </a:solidFill>
                  <a:latin typeface="Trebuchet MS"/>
                  <a:ea typeface="新細明體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4" name="Group 36"/>
            <p:cNvGrpSpPr/>
            <p:nvPr/>
          </p:nvGrpSpPr>
          <p:grpSpPr>
            <a:xfrm>
              <a:off x="7708320" y="907920"/>
              <a:ext cx="609840" cy="1076760"/>
              <a:chOff x="7708320" y="907920"/>
              <a:chExt cx="609840" cy="1076760"/>
            </a:xfrm>
          </p:grpSpPr>
          <p:grpSp>
            <p:nvGrpSpPr>
              <p:cNvPr id="85" name="Group 37"/>
              <p:cNvGrpSpPr/>
              <p:nvPr/>
            </p:nvGrpSpPr>
            <p:grpSpPr>
              <a:xfrm>
                <a:off x="7708320" y="907920"/>
                <a:ext cx="609840" cy="609480"/>
                <a:chOff x="7708320" y="907920"/>
                <a:chExt cx="609840" cy="609480"/>
              </a:xfrm>
            </p:grpSpPr>
            <p:sp>
              <p:nvSpPr>
                <p:cNvPr id="86" name="Line 38"/>
                <p:cNvSpPr/>
                <p:nvPr/>
              </p:nvSpPr>
              <p:spPr>
                <a:xfrm flipH="1">
                  <a:off x="7708320" y="907920"/>
                  <a:ext cx="304920" cy="30456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" name="Line 39"/>
                <p:cNvSpPr/>
                <p:nvPr/>
              </p:nvSpPr>
              <p:spPr>
                <a:xfrm>
                  <a:off x="7785000" y="1136520"/>
                  <a:ext cx="75960" cy="38088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8" name="Line 40"/>
                <p:cNvSpPr/>
                <p:nvPr/>
              </p:nvSpPr>
              <p:spPr>
                <a:xfrm flipH="1">
                  <a:off x="8165880" y="1136520"/>
                  <a:ext cx="76320" cy="38088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9" name="Line 41"/>
                <p:cNvSpPr/>
                <p:nvPr/>
              </p:nvSpPr>
              <p:spPr>
                <a:xfrm>
                  <a:off x="7823160" y="1517400"/>
                  <a:ext cx="380880" cy="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0" name="Line 42"/>
                <p:cNvSpPr/>
                <p:nvPr/>
              </p:nvSpPr>
              <p:spPr>
                <a:xfrm>
                  <a:off x="8013600" y="907920"/>
                  <a:ext cx="304560" cy="30456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91" name="Text Box 43"/>
              <p:cNvSpPr/>
              <p:nvPr/>
            </p:nvSpPr>
            <p:spPr>
              <a:xfrm>
                <a:off x="7831800" y="1525680"/>
                <a:ext cx="363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zh-CN" sz="1200" spc="-1" strike="noStrike">
                    <a:solidFill>
                      <a:srgbClr val="008000"/>
                    </a:solidFill>
                    <a:latin typeface="新細明體"/>
                    <a:ea typeface="新細明體"/>
                  </a:rPr>
                  <a:t>財管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zh-TW" sz="1200" spc="-1" strike="noStrike">
                    <a:solidFill>
                      <a:srgbClr val="008000"/>
                    </a:solidFill>
                    <a:latin typeface="新細明體"/>
                    <a:ea typeface="新細明體"/>
                  </a:rPr>
                  <a:t>一般設定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2" name="Text Box 44"/>
            <p:cNvSpPr/>
            <p:nvPr/>
          </p:nvSpPr>
          <p:spPr>
            <a:xfrm>
              <a:off x="8532000" y="2362320"/>
              <a:ext cx="403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200" spc="-1" strike="noStrike">
                  <a:solidFill>
                    <a:srgbClr val="008000"/>
                  </a:solidFill>
                  <a:latin typeface="新細明體"/>
                  <a:ea typeface="新細明體"/>
                </a:rPr>
                <a:t>預算</a:t>
              </a:r>
              <a:r>
                <a:rPr b="0" lang="zh-CN" sz="1200" spc="-1" strike="noStrike">
                  <a:solidFill>
                    <a:srgbClr val="008000"/>
                  </a:solidFill>
                  <a:latin typeface="Trebuchet MS"/>
                  <a:ea typeface="新細明體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AutoShape 45"/>
            <p:cNvSpPr/>
            <p:nvPr/>
          </p:nvSpPr>
          <p:spPr>
            <a:xfrm>
              <a:off x="8610480" y="1600200"/>
              <a:ext cx="576360" cy="792000"/>
            </a:xfrm>
            <a:prstGeom prst="flowChartMultidocument">
              <a:avLst/>
            </a:prstGeom>
            <a:noFill/>
            <a:ln w="2844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AutoShape 46"/>
            <p:cNvSpPr/>
            <p:nvPr/>
          </p:nvSpPr>
          <p:spPr>
            <a:xfrm>
              <a:off x="9372600" y="2514600"/>
              <a:ext cx="576000" cy="792000"/>
            </a:xfrm>
            <a:prstGeom prst="flowChartMultidocument">
              <a:avLst/>
            </a:prstGeom>
            <a:noFill/>
            <a:ln w="2844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5" name="Group 47"/>
            <p:cNvGrpSpPr/>
            <p:nvPr/>
          </p:nvGrpSpPr>
          <p:grpSpPr>
            <a:xfrm>
              <a:off x="8762400" y="3733920"/>
              <a:ext cx="995760" cy="962280"/>
              <a:chOff x="8762400" y="3733920"/>
              <a:chExt cx="995760" cy="962280"/>
            </a:xfrm>
          </p:grpSpPr>
          <p:sp>
            <p:nvSpPr>
              <p:cNvPr id="96" name="Text Box 48"/>
              <p:cNvSpPr/>
              <p:nvPr/>
            </p:nvSpPr>
            <p:spPr>
              <a:xfrm>
                <a:off x="8838720" y="4419720"/>
                <a:ext cx="9194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zh-TW" sz="1200" spc="-1" strike="noStrike">
                    <a:solidFill>
                      <a:srgbClr val="008000"/>
                    </a:solidFill>
                    <a:latin typeface="新細明體"/>
                    <a:ea typeface="新細明體"/>
                  </a:rPr>
                  <a:t>職員成本</a:t>
                </a:r>
                <a:r>
                  <a:rPr b="0" lang="zh-CN" sz="1200" spc="-1" strike="noStrike">
                    <a:solidFill>
                      <a:srgbClr val="008000"/>
                    </a:solidFill>
                    <a:latin typeface="Trebuchet MS"/>
                    <a:ea typeface="新細明體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97" name="Group 49"/>
              <p:cNvGrpSpPr/>
              <p:nvPr/>
            </p:nvGrpSpPr>
            <p:grpSpPr>
              <a:xfrm>
                <a:off x="8762400" y="3733920"/>
                <a:ext cx="952560" cy="685440"/>
                <a:chOff x="8762400" y="3733920"/>
                <a:chExt cx="952560" cy="685440"/>
              </a:xfrm>
            </p:grpSpPr>
            <p:grpSp>
              <p:nvGrpSpPr>
                <p:cNvPr id="98" name="Group 50"/>
                <p:cNvGrpSpPr/>
                <p:nvPr/>
              </p:nvGrpSpPr>
              <p:grpSpPr>
                <a:xfrm>
                  <a:off x="8762400" y="3810240"/>
                  <a:ext cx="247680" cy="482040"/>
                  <a:chOff x="8762400" y="3810240"/>
                  <a:chExt cx="247680" cy="482040"/>
                </a:xfrm>
              </p:grpSpPr>
              <p:sp>
                <p:nvSpPr>
                  <p:cNvPr id="99" name="Oval 51"/>
                  <p:cNvSpPr/>
                  <p:nvPr/>
                </p:nvSpPr>
                <p:spPr>
                  <a:xfrm>
                    <a:off x="8762760" y="3810240"/>
                    <a:ext cx="247320" cy="192600"/>
                  </a:xfrm>
                  <a:prstGeom prst="ellipse">
                    <a:avLst/>
                  </a:prstGeom>
                  <a:noFill/>
                  <a:ln w="38160">
                    <a:solidFill>
                      <a:srgbClr val="4d4d4d"/>
                    </a:solidFill>
                    <a:miter/>
                  </a:ln>
                  <a:effectLst>
                    <a:outerShdw dist="17819" dir="2700000" blurRad="0" rotWithShape="0">
                      <a:srgbClr val="dddddd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0" name="Line 52"/>
                  <p:cNvSpPr/>
                  <p:nvPr/>
                </p:nvSpPr>
                <p:spPr>
                  <a:xfrm flipH="1">
                    <a:off x="8762400" y="4002840"/>
                    <a:ext cx="12348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1" name="Line 53"/>
                  <p:cNvSpPr/>
                  <p:nvPr/>
                </p:nvSpPr>
                <p:spPr>
                  <a:xfrm flipH="1">
                    <a:off x="8762400" y="4195800"/>
                    <a:ext cx="12348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2" name="Line 54"/>
                  <p:cNvSpPr/>
                  <p:nvPr/>
                </p:nvSpPr>
                <p:spPr>
                  <a:xfrm>
                    <a:off x="8886240" y="4002840"/>
                    <a:ext cx="0" cy="19296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3" name="Line 55"/>
                  <p:cNvSpPr/>
                  <p:nvPr/>
                </p:nvSpPr>
                <p:spPr>
                  <a:xfrm>
                    <a:off x="8886240" y="4002840"/>
                    <a:ext cx="12384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4" name="Line 56"/>
                  <p:cNvSpPr/>
                  <p:nvPr/>
                </p:nvSpPr>
                <p:spPr>
                  <a:xfrm>
                    <a:off x="8886240" y="4195800"/>
                    <a:ext cx="12384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05" name="Group 57"/>
                <p:cNvGrpSpPr/>
                <p:nvPr/>
              </p:nvGrpSpPr>
              <p:grpSpPr>
                <a:xfrm>
                  <a:off x="9238680" y="3733920"/>
                  <a:ext cx="247680" cy="482400"/>
                  <a:chOff x="9238680" y="3733920"/>
                  <a:chExt cx="247680" cy="482400"/>
                </a:xfrm>
              </p:grpSpPr>
              <p:sp>
                <p:nvSpPr>
                  <p:cNvPr id="106" name="Oval 58"/>
                  <p:cNvSpPr/>
                  <p:nvPr/>
                </p:nvSpPr>
                <p:spPr>
                  <a:xfrm>
                    <a:off x="9239040" y="3733920"/>
                    <a:ext cx="247320" cy="192600"/>
                  </a:xfrm>
                  <a:prstGeom prst="ellipse">
                    <a:avLst/>
                  </a:prstGeom>
                  <a:noFill/>
                  <a:ln w="38160">
                    <a:solidFill>
                      <a:srgbClr val="4d4d4d"/>
                    </a:solidFill>
                    <a:miter/>
                  </a:ln>
                  <a:effectLst>
                    <a:outerShdw dist="17819" dir="2700000" blurRad="0" rotWithShape="0">
                      <a:srgbClr val="dddddd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7" name="Line 59"/>
                  <p:cNvSpPr/>
                  <p:nvPr/>
                </p:nvSpPr>
                <p:spPr>
                  <a:xfrm flipH="1">
                    <a:off x="9238680" y="3926520"/>
                    <a:ext cx="12348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8" name="Line 60"/>
                  <p:cNvSpPr/>
                  <p:nvPr/>
                </p:nvSpPr>
                <p:spPr>
                  <a:xfrm flipH="1">
                    <a:off x="9238680" y="4119840"/>
                    <a:ext cx="12348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9" name="Line 61"/>
                  <p:cNvSpPr/>
                  <p:nvPr/>
                </p:nvSpPr>
                <p:spPr>
                  <a:xfrm>
                    <a:off x="9362520" y="3926520"/>
                    <a:ext cx="0" cy="19296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0" name="Line 62"/>
                  <p:cNvSpPr/>
                  <p:nvPr/>
                </p:nvSpPr>
                <p:spPr>
                  <a:xfrm>
                    <a:off x="9362520" y="3926520"/>
                    <a:ext cx="12384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1" name="Line 63"/>
                  <p:cNvSpPr/>
                  <p:nvPr/>
                </p:nvSpPr>
                <p:spPr>
                  <a:xfrm>
                    <a:off x="9362520" y="4119840"/>
                    <a:ext cx="12384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12" name="Group 64"/>
                <p:cNvGrpSpPr/>
                <p:nvPr/>
              </p:nvGrpSpPr>
              <p:grpSpPr>
                <a:xfrm>
                  <a:off x="9467280" y="3810240"/>
                  <a:ext cx="247680" cy="482040"/>
                  <a:chOff x="9467280" y="3810240"/>
                  <a:chExt cx="247680" cy="482040"/>
                </a:xfrm>
              </p:grpSpPr>
              <p:sp>
                <p:nvSpPr>
                  <p:cNvPr id="113" name="Oval 65"/>
                  <p:cNvSpPr/>
                  <p:nvPr/>
                </p:nvSpPr>
                <p:spPr>
                  <a:xfrm>
                    <a:off x="9467640" y="3810240"/>
                    <a:ext cx="247320" cy="192600"/>
                  </a:xfrm>
                  <a:prstGeom prst="ellipse">
                    <a:avLst/>
                  </a:prstGeom>
                  <a:noFill/>
                  <a:ln w="38160">
                    <a:solidFill>
                      <a:srgbClr val="4d4d4d"/>
                    </a:solidFill>
                    <a:miter/>
                  </a:ln>
                  <a:effectLst>
                    <a:outerShdw dist="17819" dir="2700000" blurRad="0" rotWithShape="0">
                      <a:srgbClr val="dddddd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4" name="Line 66"/>
                  <p:cNvSpPr/>
                  <p:nvPr/>
                </p:nvSpPr>
                <p:spPr>
                  <a:xfrm flipH="1">
                    <a:off x="9467280" y="4002840"/>
                    <a:ext cx="12348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5" name="Line 67"/>
                  <p:cNvSpPr/>
                  <p:nvPr/>
                </p:nvSpPr>
                <p:spPr>
                  <a:xfrm flipH="1">
                    <a:off x="9467280" y="4195800"/>
                    <a:ext cx="12348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6" name="Line 68"/>
                  <p:cNvSpPr/>
                  <p:nvPr/>
                </p:nvSpPr>
                <p:spPr>
                  <a:xfrm>
                    <a:off x="9591120" y="4002840"/>
                    <a:ext cx="0" cy="19296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7" name="Line 69"/>
                  <p:cNvSpPr/>
                  <p:nvPr/>
                </p:nvSpPr>
                <p:spPr>
                  <a:xfrm>
                    <a:off x="9591120" y="4002840"/>
                    <a:ext cx="12384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8" name="Line 70"/>
                  <p:cNvSpPr/>
                  <p:nvPr/>
                </p:nvSpPr>
                <p:spPr>
                  <a:xfrm>
                    <a:off x="9591120" y="4195800"/>
                    <a:ext cx="12384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19" name="Group 71"/>
                <p:cNvGrpSpPr/>
                <p:nvPr/>
              </p:nvGrpSpPr>
              <p:grpSpPr>
                <a:xfrm>
                  <a:off x="8991000" y="3936960"/>
                  <a:ext cx="247680" cy="482400"/>
                  <a:chOff x="8991000" y="3936960"/>
                  <a:chExt cx="247680" cy="482400"/>
                </a:xfrm>
              </p:grpSpPr>
              <p:sp>
                <p:nvSpPr>
                  <p:cNvPr id="120" name="Oval 72"/>
                  <p:cNvSpPr/>
                  <p:nvPr/>
                </p:nvSpPr>
                <p:spPr>
                  <a:xfrm>
                    <a:off x="8991360" y="3936960"/>
                    <a:ext cx="247320" cy="192600"/>
                  </a:xfrm>
                  <a:prstGeom prst="ellipse">
                    <a:avLst/>
                  </a:prstGeom>
                  <a:noFill/>
                  <a:ln w="38160">
                    <a:solidFill>
                      <a:srgbClr val="4d4d4d"/>
                    </a:solidFill>
                    <a:miter/>
                  </a:ln>
                  <a:effectLst>
                    <a:outerShdw dist="17819" dir="2700000" blurRad="0" rotWithShape="0">
                      <a:srgbClr val="dddddd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1" name="Line 73"/>
                  <p:cNvSpPr/>
                  <p:nvPr/>
                </p:nvSpPr>
                <p:spPr>
                  <a:xfrm flipH="1">
                    <a:off x="8991000" y="4129560"/>
                    <a:ext cx="12348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2" name="Line 74"/>
                  <p:cNvSpPr/>
                  <p:nvPr/>
                </p:nvSpPr>
                <p:spPr>
                  <a:xfrm flipH="1">
                    <a:off x="8991000" y="4322880"/>
                    <a:ext cx="12348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3" name="Line 75"/>
                  <p:cNvSpPr/>
                  <p:nvPr/>
                </p:nvSpPr>
                <p:spPr>
                  <a:xfrm>
                    <a:off x="9114840" y="4129560"/>
                    <a:ext cx="0" cy="19296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4" name="Line 76"/>
                  <p:cNvSpPr/>
                  <p:nvPr/>
                </p:nvSpPr>
                <p:spPr>
                  <a:xfrm>
                    <a:off x="9114840" y="4129560"/>
                    <a:ext cx="12384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5" name="Line 77"/>
                  <p:cNvSpPr/>
                  <p:nvPr/>
                </p:nvSpPr>
                <p:spPr>
                  <a:xfrm>
                    <a:off x="9114840" y="4322880"/>
                    <a:ext cx="12384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sp>
          <p:nvSpPr>
            <p:cNvPr id="126" name="Text Box 78"/>
            <p:cNvSpPr/>
            <p:nvPr/>
          </p:nvSpPr>
          <p:spPr>
            <a:xfrm>
              <a:off x="8020440" y="5410080"/>
              <a:ext cx="860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200" spc="-1" strike="noStrike">
                  <a:solidFill>
                    <a:srgbClr val="008000"/>
                  </a:solidFill>
                  <a:latin typeface="新細明體"/>
                  <a:ea typeface="新細明體"/>
                </a:rPr>
                <a:t>固定資產登記冊</a:t>
              </a:r>
              <a:r>
                <a:rPr b="0" lang="zh-CN" sz="1200" spc="-1" strike="noStrike">
                  <a:solidFill>
                    <a:srgbClr val="008000"/>
                  </a:solidFill>
                  <a:latin typeface="Trebuchet MS"/>
                  <a:ea typeface="新細明體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AutoShape 79"/>
            <p:cNvSpPr/>
            <p:nvPr/>
          </p:nvSpPr>
          <p:spPr>
            <a:xfrm>
              <a:off x="8199360" y="4648320"/>
              <a:ext cx="576360" cy="792000"/>
            </a:xfrm>
            <a:prstGeom prst="flowChartMultidocument">
              <a:avLst/>
            </a:prstGeom>
            <a:noFill/>
            <a:ln w="2844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Text Box 80"/>
            <p:cNvSpPr/>
            <p:nvPr/>
          </p:nvSpPr>
          <p:spPr>
            <a:xfrm>
              <a:off x="6735960" y="5943600"/>
              <a:ext cx="67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200" spc="-1" strike="noStrike">
                  <a:solidFill>
                    <a:srgbClr val="008000"/>
                  </a:solidFill>
                  <a:latin typeface="新細明體"/>
                  <a:ea typeface="新細明體"/>
                </a:rPr>
                <a:t>銷售及存貨</a:t>
              </a:r>
              <a:r>
                <a:rPr b="0" lang="zh-CN" sz="1200" spc="-1" strike="noStrike">
                  <a:solidFill>
                    <a:srgbClr val="008000"/>
                  </a:solidFill>
                  <a:latin typeface="Trebuchet MS"/>
                  <a:ea typeface="新細明體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AutoShape 81"/>
            <p:cNvSpPr/>
            <p:nvPr/>
          </p:nvSpPr>
          <p:spPr>
            <a:xfrm>
              <a:off x="6827760" y="5181480"/>
              <a:ext cx="576360" cy="792360"/>
            </a:xfrm>
            <a:prstGeom prst="flowChartMultidocument">
              <a:avLst/>
            </a:prstGeom>
            <a:noFill/>
            <a:ln w="2844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Text Box 82"/>
            <p:cNvSpPr/>
            <p:nvPr/>
          </p:nvSpPr>
          <p:spPr>
            <a:xfrm>
              <a:off x="5137200" y="5791320"/>
              <a:ext cx="67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200" spc="-1" strike="noStrike">
                  <a:solidFill>
                    <a:srgbClr val="008000"/>
                  </a:solidFill>
                  <a:latin typeface="新細明體"/>
                  <a:ea typeface="新細明體"/>
                </a:rPr>
                <a:t>其他登記冊</a:t>
              </a:r>
              <a:r>
                <a:rPr b="0" lang="zh-CN" sz="1200" spc="-1" strike="noStrike">
                  <a:solidFill>
                    <a:srgbClr val="008000"/>
                  </a:solidFill>
                  <a:latin typeface="Trebuchet MS"/>
                  <a:ea typeface="新細明體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AutoShape 83"/>
            <p:cNvSpPr/>
            <p:nvPr/>
          </p:nvSpPr>
          <p:spPr>
            <a:xfrm>
              <a:off x="5227560" y="5029200"/>
              <a:ext cx="576360" cy="792000"/>
            </a:xfrm>
            <a:prstGeom prst="flowChartMultidocument">
              <a:avLst/>
            </a:prstGeom>
            <a:noFill/>
            <a:ln w="2844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2" name="Line 84"/>
          <p:cNvSpPr/>
          <p:nvPr/>
        </p:nvSpPr>
        <p:spPr>
          <a:xfrm flipV="1">
            <a:off x="2819520" y="2285640"/>
            <a:ext cx="5257800" cy="60948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Line 85"/>
          <p:cNvSpPr/>
          <p:nvPr/>
        </p:nvSpPr>
        <p:spPr>
          <a:xfrm flipV="1">
            <a:off x="3048120" y="2514600"/>
            <a:ext cx="5029200" cy="91440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 Box 86"/>
          <p:cNvSpPr/>
          <p:nvPr/>
        </p:nvSpPr>
        <p:spPr>
          <a:xfrm>
            <a:off x="5791320" y="2895480"/>
            <a:ext cx="2971800" cy="24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buClr>
                <a:srgbClr val="6600ff"/>
              </a:buClr>
              <a:buFont typeface="新細明體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1600" spc="-1" strike="noStrike">
                <a:solidFill>
                  <a:srgbClr val="6600ff"/>
                </a:solidFill>
                <a:latin typeface="新細明體"/>
                <a:ea typeface="新細明體"/>
              </a:rPr>
              <a:t>教育局津貼</a:t>
            </a:r>
            <a:r>
              <a:rPr b="0" lang="zh-CN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ff0000"/>
              </a:buClr>
              <a:buFont typeface="新細明體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1600" spc="-1" strike="noStrike">
                <a:solidFill>
                  <a:srgbClr val="ff0000"/>
                </a:solidFill>
                <a:latin typeface="新細明體"/>
                <a:ea typeface="新細明體"/>
              </a:rPr>
              <a:t>收入草案</a:t>
            </a:r>
            <a:r>
              <a:rPr b="0" lang="zh-CN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6600ff"/>
              </a:buClr>
              <a:buFont typeface="新細明體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1600" spc="-1" strike="noStrike">
                <a:solidFill>
                  <a:srgbClr val="6600ff"/>
                </a:solidFill>
                <a:latin typeface="新細明體"/>
                <a:ea typeface="新細明體"/>
              </a:rPr>
              <a:t>支出草案</a:t>
            </a:r>
            <a:r>
              <a:rPr b="0" lang="zh-CN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6600ff"/>
              </a:buClr>
              <a:buFont typeface="新細明體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1600" spc="-1" strike="noStrike">
                <a:solidFill>
                  <a:srgbClr val="6600ff"/>
                </a:solidFill>
                <a:latin typeface="新細明體"/>
                <a:ea typeface="新細明體"/>
              </a:rPr>
              <a:t>審查預算</a:t>
            </a:r>
            <a:r>
              <a:rPr b="0" lang="zh-CN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6600ff"/>
              </a:buClr>
              <a:buFont typeface="新細明體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1600" spc="-1" strike="noStrike">
                <a:solidFill>
                  <a:srgbClr val="6600ff"/>
                </a:solidFill>
                <a:latin typeface="新細明體"/>
                <a:ea typeface="新細明體"/>
              </a:rPr>
              <a:t>核定及還原</a:t>
            </a:r>
            <a:r>
              <a:rPr b="0" lang="zh-CN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6600ff"/>
              </a:buClr>
              <a:buFont typeface="新細明體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1600" spc="-1" strike="noStrike">
                <a:solidFill>
                  <a:srgbClr val="6600ff"/>
                </a:solidFill>
                <a:latin typeface="新細明體"/>
                <a:ea typeface="新細明體"/>
              </a:rPr>
              <a:t>修改預算</a:t>
            </a:r>
            <a:r>
              <a:rPr b="0" lang="zh-CN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6600ff"/>
              </a:buClr>
              <a:buFont typeface="新細明體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1600" spc="-1" strike="noStrike">
                <a:solidFill>
                  <a:srgbClr val="6600ff"/>
                </a:solidFill>
                <a:latin typeface="新細明體"/>
                <a:ea typeface="新細明體"/>
              </a:rPr>
              <a:t>查詢</a:t>
            </a:r>
            <a:r>
              <a:rPr b="0" lang="zh-CN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6600ff"/>
              </a:buClr>
              <a:buFont typeface="新細明體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1600" spc="-1" strike="noStrike">
                <a:solidFill>
                  <a:srgbClr val="6600ff"/>
                </a:solidFill>
                <a:latin typeface="新細明體"/>
                <a:ea typeface="新細明體"/>
              </a:rPr>
              <a:t>報告</a:t>
            </a:r>
            <a:r>
              <a:rPr b="0" lang="zh-CN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 Box 87"/>
          <p:cNvSpPr/>
          <p:nvPr/>
        </p:nvSpPr>
        <p:spPr>
          <a:xfrm>
            <a:off x="5959440" y="3244680"/>
            <a:ext cx="10648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新細明體"/>
              <a:buAutoNum type="arabicPeriod" startAt="2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1600" spc="-1" strike="noStrike">
                <a:solidFill>
                  <a:srgbClr val="ff0000"/>
                </a:solidFill>
                <a:latin typeface="新細明體"/>
                <a:ea typeface="新細明體"/>
              </a:rPr>
              <a:t>收入草案</a:t>
            </a:r>
            <a:r>
              <a:rPr b="0" lang="zh-CN" sz="1600" spc="-1" strike="noStrike">
                <a:solidFill>
                  <a:srgbClr val="ff0000"/>
                </a:solidFill>
                <a:latin typeface="Trebuchet MS"/>
                <a:ea typeface="新細明體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6" name="Group 88"/>
          <p:cNvGrpSpPr/>
          <p:nvPr/>
        </p:nvGrpSpPr>
        <p:grpSpPr>
          <a:xfrm>
            <a:off x="2850120" y="914400"/>
            <a:ext cx="768960" cy="1026720"/>
            <a:chOff x="2850120" y="914400"/>
            <a:chExt cx="768960" cy="1026720"/>
          </a:xfrm>
        </p:grpSpPr>
        <p:sp>
          <p:nvSpPr>
            <p:cNvPr id="137" name="Text Box 89"/>
            <p:cNvSpPr/>
            <p:nvPr/>
          </p:nvSpPr>
          <p:spPr>
            <a:xfrm>
              <a:off x="2850120" y="914400"/>
              <a:ext cx="768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200" spc="-1" strike="noStrike">
                  <a:solidFill>
                    <a:srgbClr val="008000"/>
                  </a:solidFill>
                  <a:latin typeface="新細明體"/>
                  <a:ea typeface="新細明體"/>
                </a:rPr>
                <a:t>工作計劃組長</a:t>
              </a:r>
              <a:r>
                <a:rPr b="0" lang="zh-CN" sz="1200" spc="-1" strike="noStrike">
                  <a:solidFill>
                    <a:srgbClr val="008000"/>
                  </a:solidFill>
                  <a:latin typeface="Trebuchet MS"/>
                  <a:ea typeface="新細明體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38" name="Group 90"/>
            <p:cNvGrpSpPr/>
            <p:nvPr/>
          </p:nvGrpSpPr>
          <p:grpSpPr>
            <a:xfrm>
              <a:off x="3105360" y="1346400"/>
              <a:ext cx="237960" cy="594720"/>
              <a:chOff x="3105360" y="1346400"/>
              <a:chExt cx="237960" cy="594720"/>
            </a:xfrm>
          </p:grpSpPr>
          <p:sp>
            <p:nvSpPr>
              <p:cNvPr id="139" name="Oval 91"/>
              <p:cNvSpPr/>
              <p:nvPr/>
            </p:nvSpPr>
            <p:spPr>
              <a:xfrm>
                <a:off x="3105360" y="1346400"/>
                <a:ext cx="237960" cy="237600"/>
              </a:xfrm>
              <a:prstGeom prst="ellipse">
                <a:avLst/>
              </a:prstGeom>
              <a:noFill/>
              <a:ln w="38160">
                <a:solidFill>
                  <a:srgbClr val="4d4d4d"/>
                </a:solidFill>
                <a:miter/>
              </a:ln>
              <a:effectLst>
                <a:outerShdw dist="17819" dir="270000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" name="Line 92"/>
              <p:cNvSpPr/>
              <p:nvPr/>
            </p:nvSpPr>
            <p:spPr>
              <a:xfrm flipH="1">
                <a:off x="3105360" y="1584000"/>
                <a:ext cx="118800" cy="11880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" name="Line 93"/>
              <p:cNvSpPr/>
              <p:nvPr/>
            </p:nvSpPr>
            <p:spPr>
              <a:xfrm flipH="1">
                <a:off x="3105360" y="1822320"/>
                <a:ext cx="118800" cy="11880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" name="Line 94"/>
              <p:cNvSpPr/>
              <p:nvPr/>
            </p:nvSpPr>
            <p:spPr>
              <a:xfrm>
                <a:off x="3224160" y="1584000"/>
                <a:ext cx="0" cy="23796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" name="Line 95"/>
              <p:cNvSpPr/>
              <p:nvPr/>
            </p:nvSpPr>
            <p:spPr>
              <a:xfrm>
                <a:off x="3224160" y="1584000"/>
                <a:ext cx="119160" cy="11880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" name="Line 96"/>
              <p:cNvSpPr/>
              <p:nvPr/>
            </p:nvSpPr>
            <p:spPr>
              <a:xfrm>
                <a:off x="3224160" y="1822320"/>
                <a:ext cx="119160" cy="11880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45" name="Line 97"/>
          <p:cNvSpPr/>
          <p:nvPr/>
        </p:nvSpPr>
        <p:spPr>
          <a:xfrm>
            <a:off x="3505320" y="1676520"/>
            <a:ext cx="4495680" cy="30456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Group 1041"/>
          <p:cNvGrpSpPr/>
          <p:nvPr/>
        </p:nvGrpSpPr>
        <p:grpSpPr>
          <a:xfrm>
            <a:off x="5715000" y="4572000"/>
            <a:ext cx="4572000" cy="1371600"/>
            <a:chOff x="5715000" y="4572000"/>
            <a:chExt cx="4572000" cy="1371600"/>
          </a:xfrm>
        </p:grpSpPr>
        <p:sp>
          <p:nvSpPr>
            <p:cNvPr id="236" name="AutoShape 1042"/>
            <p:cNvSpPr/>
            <p:nvPr/>
          </p:nvSpPr>
          <p:spPr>
            <a:xfrm>
              <a:off x="5715000" y="4572000"/>
              <a:ext cx="4572000" cy="137160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Text Box 1043"/>
            <p:cNvSpPr/>
            <p:nvPr/>
          </p:nvSpPr>
          <p:spPr>
            <a:xfrm>
              <a:off x="5715000" y="4572000"/>
              <a:ext cx="457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預算總金額會顯示整個草案的總和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8" name="Rectangle 10"/>
          <p:cNvSpPr/>
          <p:nvPr/>
        </p:nvSpPr>
        <p:spPr>
          <a:xfrm>
            <a:off x="4680000" y="1628640"/>
            <a:ext cx="1415880" cy="279360"/>
          </a:xfrm>
          <a:prstGeom prst="rect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Rectangle 19"/>
          <p:cNvSpPr/>
          <p:nvPr/>
        </p:nvSpPr>
        <p:spPr>
          <a:xfrm>
            <a:off x="0" y="-1440"/>
            <a:ext cx="1919160" cy="141444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Rectangle 20"/>
          <p:cNvSpPr/>
          <p:nvPr/>
        </p:nvSpPr>
        <p:spPr>
          <a:xfrm>
            <a:off x="0" y="2100240"/>
            <a:ext cx="1919160" cy="449280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Rectangle 35"/>
          <p:cNvSpPr/>
          <p:nvPr/>
        </p:nvSpPr>
        <p:spPr>
          <a:xfrm>
            <a:off x="0" y="-1440"/>
            <a:ext cx="2362320" cy="533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SimSun"/>
              </a:rPr>
              <a:t>製作收入草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Group 1041"/>
          <p:cNvGrpSpPr/>
          <p:nvPr/>
        </p:nvGrpSpPr>
        <p:grpSpPr>
          <a:xfrm>
            <a:off x="5715000" y="3573360"/>
            <a:ext cx="5133600" cy="2126160"/>
            <a:chOff x="5715000" y="3573360"/>
            <a:chExt cx="5133600" cy="2126160"/>
          </a:xfrm>
        </p:grpSpPr>
        <p:sp>
          <p:nvSpPr>
            <p:cNvPr id="243" name="AutoShape 1042"/>
            <p:cNvSpPr/>
            <p:nvPr/>
          </p:nvSpPr>
          <p:spPr>
            <a:xfrm>
              <a:off x="5715000" y="3573360"/>
              <a:ext cx="5133600" cy="212616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Text Box 1043"/>
            <p:cNvSpPr/>
            <p:nvPr/>
          </p:nvSpPr>
          <p:spPr>
            <a:xfrm>
              <a:off x="5715000" y="3573360"/>
              <a:ext cx="513360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第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1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步</a:t>
              </a:r>
              <a:r>
                <a:rPr b="0" lang="zh-TW" sz="16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：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用戶可選擇 </a:t>
              </a:r>
              <a:r>
                <a:rPr b="1" lang="zh-TW" sz="1600" spc="-1" strike="noStrike">
                  <a:solidFill>
                    <a:srgbClr val="ffffff"/>
                  </a:solidFill>
                  <a:latin typeface="Arial"/>
                  <a:ea typeface="新細明體"/>
                </a:rPr>
                <a:t>[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帳目代碼</a:t>
              </a:r>
              <a:r>
                <a:rPr b="1" lang="zh-TW" sz="1600" spc="-1" strike="noStrike">
                  <a:solidFill>
                    <a:srgbClr val="ffffff"/>
                  </a:solidFill>
                  <a:latin typeface="Arial"/>
                  <a:ea typeface="新細明體"/>
                </a:rPr>
                <a:t>] 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旁之核取方塊並按下 </a:t>
              </a:r>
              <a:r>
                <a:rPr b="1" lang="zh-TW" sz="1600" spc="-1" strike="noStrike">
                  <a:solidFill>
                    <a:srgbClr val="ffffff"/>
                  </a:solidFill>
                  <a:latin typeface="Arial"/>
                  <a:ea typeface="新細明體"/>
                </a:rPr>
                <a:t>[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移除</a:t>
              </a:r>
              <a:r>
                <a:rPr b="1" lang="zh-TW" sz="1600" spc="-1" strike="noStrike">
                  <a:solidFill>
                    <a:srgbClr val="ffffff"/>
                  </a:solidFill>
                  <a:latin typeface="Arial"/>
                  <a:ea typeface="新細明體"/>
                </a:rPr>
                <a:t>] 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按鈕以刪除預算草案。</a:t>
              </a:r>
              <a:r>
                <a:rPr b="0" lang="zh-CN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依預設，系統會顯示</a:t>
              </a:r>
              <a:r>
                <a:rPr b="0" lang="zh-TW" sz="16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 </a:t>
              </a:r>
              <a:r>
                <a:rPr b="1" lang="zh-TW" sz="16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[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製作預算收入</a:t>
              </a:r>
              <a:r>
                <a:rPr b="1" lang="zh-TW" sz="16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] 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版面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第</a:t>
              </a:r>
              <a:r>
                <a:rPr b="0" lang="zh-TW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2</a:t>
              </a:r>
              <a:r>
                <a:rPr b="0" lang="zh-TW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步</a:t>
              </a:r>
              <a:r>
                <a:rPr b="0" lang="zh-TW" sz="16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：</a:t>
              </a:r>
              <a:r>
                <a:rPr b="0" lang="zh-TW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按 </a:t>
              </a:r>
              <a:r>
                <a:rPr b="1" lang="zh-TW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[</a:t>
              </a:r>
              <a:r>
                <a:rPr b="1" lang="zh-TW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儲存</a:t>
              </a:r>
              <a:r>
                <a:rPr b="1" lang="zh-TW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]</a:t>
              </a:r>
              <a:r>
                <a:rPr b="0" lang="zh-TW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 </a:t>
              </a:r>
              <a:r>
                <a:rPr b="0" lang="zh-TW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按鈕更新紀錄。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5" name="Rectangle 10"/>
          <p:cNvSpPr/>
          <p:nvPr/>
        </p:nvSpPr>
        <p:spPr>
          <a:xfrm>
            <a:off x="3432240" y="1197000"/>
            <a:ext cx="1415880" cy="279360"/>
          </a:xfrm>
          <a:prstGeom prst="rect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Rectangle 19"/>
          <p:cNvSpPr/>
          <p:nvPr/>
        </p:nvSpPr>
        <p:spPr>
          <a:xfrm>
            <a:off x="0" y="-1440"/>
            <a:ext cx="1919160" cy="141444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Rectangle 20"/>
          <p:cNvSpPr/>
          <p:nvPr/>
        </p:nvSpPr>
        <p:spPr>
          <a:xfrm>
            <a:off x="0" y="2100240"/>
            <a:ext cx="1919160" cy="449280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Rectangle 35"/>
          <p:cNvSpPr/>
          <p:nvPr/>
        </p:nvSpPr>
        <p:spPr>
          <a:xfrm>
            <a:off x="0" y="-1440"/>
            <a:ext cx="2362320" cy="533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新細明體"/>
              </a:rPr>
              <a:t>删除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SimSun"/>
              </a:rPr>
              <a:t>收入草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8040600" y="1197000"/>
            <a:ext cx="2448000" cy="279360"/>
          </a:xfrm>
          <a:prstGeom prst="rect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Oval 9"/>
          <p:cNvSpPr/>
          <p:nvPr/>
        </p:nvSpPr>
        <p:spPr>
          <a:xfrm>
            <a:off x="2603520" y="506520"/>
            <a:ext cx="1655640" cy="396720"/>
          </a:xfrm>
          <a:prstGeom prst="ellipse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69600" y="6593040"/>
            <a:ext cx="438156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製作預算</a:t>
            </a:r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Oval 5"/>
          <p:cNvSpPr/>
          <p:nvPr/>
        </p:nvSpPr>
        <p:spPr>
          <a:xfrm>
            <a:off x="4511520" y="816120"/>
            <a:ext cx="685800" cy="380880"/>
          </a:xfrm>
          <a:prstGeom prst="ellipse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Rectangle 6"/>
          <p:cNvSpPr/>
          <p:nvPr/>
        </p:nvSpPr>
        <p:spPr>
          <a:xfrm>
            <a:off x="2376360" y="2852640"/>
            <a:ext cx="304920" cy="277920"/>
          </a:xfrm>
          <a:prstGeom prst="rect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4" name="Group 7"/>
          <p:cNvGrpSpPr/>
          <p:nvPr/>
        </p:nvGrpSpPr>
        <p:grpSpPr>
          <a:xfrm>
            <a:off x="1919160" y="3892680"/>
            <a:ext cx="3124440" cy="2057040"/>
            <a:chOff x="1919160" y="3892680"/>
            <a:chExt cx="3124440" cy="2057040"/>
          </a:xfrm>
        </p:grpSpPr>
        <p:sp>
          <p:nvSpPr>
            <p:cNvPr id="255" name="AutoShape 8"/>
            <p:cNvSpPr/>
            <p:nvPr/>
          </p:nvSpPr>
          <p:spPr>
            <a:xfrm>
              <a:off x="1919160" y="3892680"/>
              <a:ext cx="3124440" cy="205704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Text Box 9"/>
            <p:cNvSpPr/>
            <p:nvPr/>
          </p:nvSpPr>
          <p:spPr>
            <a:xfrm>
              <a:off x="1919160" y="3892680"/>
              <a:ext cx="312444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第</a:t>
              </a:r>
              <a:r>
                <a:rPr b="0" lang="en-HK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3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步</a:t>
              </a:r>
              <a:r>
                <a:rPr b="0" lang="zh-TW" sz="16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：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用戶可選擇 </a:t>
              </a:r>
              <a:r>
                <a:rPr b="1" lang="zh-TW" sz="1600" spc="-1" strike="noStrike">
                  <a:solidFill>
                    <a:srgbClr val="ffffff"/>
                  </a:solidFill>
                  <a:latin typeface="Arial"/>
                  <a:ea typeface="新細明體"/>
                </a:rPr>
                <a:t>[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帳目代碼</a:t>
              </a:r>
              <a:r>
                <a:rPr b="1" lang="zh-TW" sz="1600" spc="-1" strike="noStrike">
                  <a:solidFill>
                    <a:srgbClr val="ffffff"/>
                  </a:solidFill>
                  <a:latin typeface="Arial"/>
                  <a:ea typeface="新細明體"/>
                </a:rPr>
                <a:t>] 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旁之核取方塊並按下 </a:t>
              </a:r>
              <a:r>
                <a:rPr b="1" lang="zh-TW" sz="1600" spc="-1" strike="noStrike">
                  <a:solidFill>
                    <a:srgbClr val="ffffff"/>
                  </a:solidFill>
                  <a:latin typeface="Arial"/>
                  <a:ea typeface="新細明體"/>
                </a:rPr>
                <a:t>[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移除</a:t>
              </a:r>
              <a:r>
                <a:rPr b="1" lang="zh-TW" sz="1600" spc="-1" strike="noStrike">
                  <a:solidFill>
                    <a:srgbClr val="ffffff"/>
                  </a:solidFill>
                  <a:latin typeface="Arial"/>
                  <a:ea typeface="新細明體"/>
                </a:rPr>
                <a:t>] 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按鈕以刪除預算草案。</a:t>
              </a:r>
              <a:r>
                <a:rPr b="0" lang="zh-CN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第</a:t>
              </a:r>
              <a:r>
                <a:rPr b="0" lang="en-HK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4</a:t>
              </a:r>
              <a:r>
                <a:rPr b="0" lang="zh-TW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步</a:t>
              </a:r>
              <a:r>
                <a:rPr b="0" lang="zh-TW" sz="16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：</a:t>
              </a:r>
              <a:r>
                <a:rPr b="0" lang="zh-TW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按 </a:t>
              </a:r>
              <a:r>
                <a:rPr b="1" lang="zh-TW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[</a:t>
              </a:r>
              <a:r>
                <a:rPr b="1" lang="zh-TW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儲存</a:t>
              </a:r>
              <a:r>
                <a:rPr b="1" lang="zh-TW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]</a:t>
              </a:r>
              <a:r>
                <a:rPr b="0" lang="zh-TW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 </a:t>
              </a:r>
              <a:r>
                <a:rPr b="0" lang="zh-TW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按鈕更新紀錄。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7" name="Line 10"/>
          <p:cNvSpPr/>
          <p:nvPr/>
        </p:nvSpPr>
        <p:spPr>
          <a:xfrm flipV="1">
            <a:off x="2529000" y="31302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Rectangle 19"/>
          <p:cNvSpPr/>
          <p:nvPr/>
        </p:nvSpPr>
        <p:spPr>
          <a:xfrm>
            <a:off x="0" y="-1440"/>
            <a:ext cx="1919160" cy="141444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Rectangle 20"/>
          <p:cNvSpPr/>
          <p:nvPr/>
        </p:nvSpPr>
        <p:spPr>
          <a:xfrm>
            <a:off x="0" y="2100240"/>
            <a:ext cx="1919160" cy="449280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Rectangle 11"/>
          <p:cNvSpPr/>
          <p:nvPr/>
        </p:nvSpPr>
        <p:spPr>
          <a:xfrm>
            <a:off x="0" y="-1440"/>
            <a:ext cx="2362320" cy="533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新細明體"/>
              </a:rPr>
              <a:t>删除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新細明體"/>
              </a:rPr>
              <a:t>收入草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Oval 5"/>
          <p:cNvSpPr/>
          <p:nvPr/>
        </p:nvSpPr>
        <p:spPr>
          <a:xfrm>
            <a:off x="2185920" y="809640"/>
            <a:ext cx="685800" cy="380880"/>
          </a:xfrm>
          <a:prstGeom prst="ellipse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69600" y="6593040"/>
            <a:ext cx="438156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更新預算</a:t>
            </a:r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Rectangle 19"/>
          <p:cNvSpPr/>
          <p:nvPr/>
        </p:nvSpPr>
        <p:spPr>
          <a:xfrm>
            <a:off x="0" y="-1440"/>
            <a:ext cx="1919160" cy="141444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Rectangle 20"/>
          <p:cNvSpPr/>
          <p:nvPr/>
        </p:nvSpPr>
        <p:spPr>
          <a:xfrm>
            <a:off x="0" y="2100240"/>
            <a:ext cx="1919160" cy="449280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Oval 24"/>
          <p:cNvSpPr/>
          <p:nvPr/>
        </p:nvSpPr>
        <p:spPr>
          <a:xfrm>
            <a:off x="2855880" y="552600"/>
            <a:ext cx="990720" cy="304560"/>
          </a:xfrm>
          <a:prstGeom prst="ellipse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6" name="Group 29"/>
          <p:cNvGrpSpPr/>
          <p:nvPr/>
        </p:nvGrpSpPr>
        <p:grpSpPr>
          <a:xfrm>
            <a:off x="5562720" y="3581280"/>
            <a:ext cx="4854240" cy="1935000"/>
            <a:chOff x="5562720" y="3581280"/>
            <a:chExt cx="4854240" cy="1935000"/>
          </a:xfrm>
        </p:grpSpPr>
        <p:sp>
          <p:nvSpPr>
            <p:cNvPr id="267" name="AutoShape 30"/>
            <p:cNvSpPr/>
            <p:nvPr/>
          </p:nvSpPr>
          <p:spPr>
            <a:xfrm>
              <a:off x="5562720" y="3581280"/>
              <a:ext cx="4854240" cy="193500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Text Box 31"/>
            <p:cNvSpPr/>
            <p:nvPr/>
          </p:nvSpPr>
          <p:spPr>
            <a:xfrm>
              <a:off x="5562720" y="3581280"/>
              <a:ext cx="485424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第</a:t>
              </a:r>
              <a:r>
                <a:rPr b="0" lang="zh-TW" sz="16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1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步</a:t>
              </a:r>
              <a:r>
                <a:rPr b="0" lang="zh-TW" sz="16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：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從左邊項目選單上按下 </a:t>
              </a:r>
              <a:r>
                <a:rPr b="1" lang="zh-TW" sz="16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[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預算</a:t>
              </a:r>
              <a:r>
                <a:rPr b="1" lang="zh-TW" sz="16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] </a:t>
              </a:r>
              <a:r>
                <a:rPr b="1" lang="zh-TW" sz="16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</a:t>
              </a:r>
              <a:r>
                <a:rPr b="1" lang="zh-TW" sz="16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 [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收入草案</a:t>
              </a:r>
              <a:r>
                <a:rPr b="1" lang="zh-TW" sz="16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]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依預設，系統會顯示</a:t>
              </a:r>
              <a:r>
                <a:rPr b="0" lang="zh-TW" sz="16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 </a:t>
              </a:r>
              <a:r>
                <a:rPr b="1" lang="zh-TW" sz="16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[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製作預算收入</a:t>
              </a:r>
              <a:r>
                <a:rPr b="1" lang="zh-TW" sz="16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] 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版面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第</a:t>
              </a:r>
              <a:r>
                <a:rPr b="0" lang="zh-TW" sz="16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2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步</a:t>
              </a:r>
              <a:r>
                <a:rPr b="0" lang="zh-TW" sz="16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：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選擇 </a:t>
              </a:r>
              <a:r>
                <a:rPr b="1" lang="zh-TW" sz="16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[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學校級別</a:t>
              </a:r>
              <a:r>
                <a:rPr b="1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/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授課制</a:t>
              </a:r>
              <a:r>
                <a:rPr b="1" lang="zh-TW" sz="16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] </a:t>
              </a:r>
              <a:r>
                <a:rPr b="1" lang="zh-TW" sz="16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及 </a:t>
              </a:r>
              <a:r>
                <a:rPr b="1" lang="zh-TW" sz="16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[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會計年度</a:t>
              </a:r>
              <a:r>
                <a:rPr b="1" lang="zh-TW" sz="16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9" name="Rectangle 32"/>
          <p:cNvSpPr/>
          <p:nvPr/>
        </p:nvSpPr>
        <p:spPr>
          <a:xfrm>
            <a:off x="8112240" y="1112760"/>
            <a:ext cx="2305080" cy="371520"/>
          </a:xfrm>
          <a:prstGeom prst="rect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Rectangle 14"/>
          <p:cNvSpPr/>
          <p:nvPr/>
        </p:nvSpPr>
        <p:spPr>
          <a:xfrm>
            <a:off x="0" y="-1440"/>
            <a:ext cx="2362320" cy="533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新細明體"/>
              </a:rPr>
              <a:t>更新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新細明體"/>
              </a:rPr>
              <a:t>收入草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Rectangle 32"/>
          <p:cNvSpPr/>
          <p:nvPr/>
        </p:nvSpPr>
        <p:spPr>
          <a:xfrm>
            <a:off x="3351240" y="1149480"/>
            <a:ext cx="1592280" cy="274680"/>
          </a:xfrm>
          <a:prstGeom prst="rect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569600" y="6593040"/>
            <a:ext cx="438156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更新預算</a:t>
            </a:r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Oval 6"/>
          <p:cNvSpPr/>
          <p:nvPr/>
        </p:nvSpPr>
        <p:spPr>
          <a:xfrm>
            <a:off x="2208240" y="777960"/>
            <a:ext cx="685800" cy="380880"/>
          </a:xfrm>
          <a:prstGeom prst="ellipse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2063880" y="2629080"/>
            <a:ext cx="9072360" cy="533160"/>
          </a:xfrm>
          <a:prstGeom prst="rect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5" name="Group 8"/>
          <p:cNvGrpSpPr/>
          <p:nvPr/>
        </p:nvGrpSpPr>
        <p:grpSpPr>
          <a:xfrm>
            <a:off x="6095880" y="4191120"/>
            <a:ext cx="4191120" cy="2218680"/>
            <a:chOff x="6095880" y="4191120"/>
            <a:chExt cx="4191120" cy="2218680"/>
          </a:xfrm>
        </p:grpSpPr>
        <p:sp>
          <p:nvSpPr>
            <p:cNvPr id="276" name="AutoShape 9"/>
            <p:cNvSpPr/>
            <p:nvPr/>
          </p:nvSpPr>
          <p:spPr>
            <a:xfrm>
              <a:off x="6095880" y="4191120"/>
              <a:ext cx="4191120" cy="2218680"/>
            </a:xfrm>
            <a:prstGeom prst="flowChartDocumen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Text Box 10"/>
            <p:cNvSpPr/>
            <p:nvPr/>
          </p:nvSpPr>
          <p:spPr>
            <a:xfrm>
              <a:off x="6095880" y="4191120"/>
              <a:ext cx="41911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第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3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步</a:t>
              </a:r>
              <a:r>
                <a:rPr b="0" lang="zh-TW" sz="16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：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如選定之會計年度預算為「草案」狀況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(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即未呈交校長審查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)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，用戶可以更新</a:t>
              </a:r>
              <a:r>
                <a:rPr b="1" lang="zh-TW" sz="16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[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預算金額</a:t>
              </a:r>
              <a:r>
                <a:rPr b="1" lang="zh-TW" sz="16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第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4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步</a:t>
              </a:r>
              <a:r>
                <a:rPr b="0" lang="zh-TW" sz="16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：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按下</a:t>
              </a:r>
              <a:r>
                <a:rPr b="1" lang="zh-TW" sz="16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[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儲存</a:t>
              </a:r>
              <a:r>
                <a:rPr b="1" lang="zh-TW" sz="16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] 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按鈕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78" name="Picture 11" descr=""/>
          <p:cNvPicPr/>
          <p:nvPr/>
        </p:nvPicPr>
        <p:blipFill>
          <a:blip r:embed="rId2"/>
          <a:stretch/>
        </p:blipFill>
        <p:spPr>
          <a:xfrm>
            <a:off x="2743200" y="1633680"/>
            <a:ext cx="981000" cy="1616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2" descr=""/>
          <p:cNvPicPr/>
          <p:nvPr/>
        </p:nvPicPr>
        <p:blipFill>
          <a:blip r:embed="rId3"/>
          <a:stretch/>
        </p:blipFill>
        <p:spPr>
          <a:xfrm>
            <a:off x="2743200" y="1297080"/>
            <a:ext cx="952560" cy="12384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19"/>
          <p:cNvSpPr/>
          <p:nvPr/>
        </p:nvSpPr>
        <p:spPr>
          <a:xfrm>
            <a:off x="0" y="-1440"/>
            <a:ext cx="1919160" cy="141444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Rectangle 20"/>
          <p:cNvSpPr/>
          <p:nvPr/>
        </p:nvSpPr>
        <p:spPr>
          <a:xfrm>
            <a:off x="0" y="2100240"/>
            <a:ext cx="1919160" cy="449280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Rectangle 14"/>
          <p:cNvSpPr/>
          <p:nvPr/>
        </p:nvSpPr>
        <p:spPr>
          <a:xfrm>
            <a:off x="0" y="-1440"/>
            <a:ext cx="2362320" cy="533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新細明體"/>
              </a:rPr>
              <a:t>更新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新細明體"/>
              </a:rPr>
              <a:t>收入草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3"/>
          <p:cNvSpPr/>
          <p:nvPr/>
        </p:nvSpPr>
        <p:spPr>
          <a:xfrm>
            <a:off x="2286000" y="720720"/>
            <a:ext cx="782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1800" spc="-1" strike="noStrike">
                <a:solidFill>
                  <a:srgbClr val="ff0000"/>
                </a:solidFill>
                <a:latin typeface="新細明體"/>
                <a:ea typeface="新細明體"/>
              </a:rPr>
              <a:t>呈交收入草案作審查</a:t>
            </a:r>
            <a:r>
              <a:rPr b="1" lang="zh-CN" sz="1800" spc="-1" strike="noStrike">
                <a:solidFill>
                  <a:srgbClr val="ff0000"/>
                </a:solidFill>
                <a:latin typeface="Trebuchet MS"/>
                <a:ea typeface="新細明體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2286000" y="1295280"/>
            <a:ext cx="782496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336600"/>
              </a:buClr>
              <a:buFont typeface="新細明體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學校會計文員完成預算收入草案後，該文員應將預算收入呈交校長審查。</a:t>
            </a:r>
            <a:r>
              <a:rPr b="0" lang="zh-CN" sz="1600" spc="-1" strike="noStrike">
                <a:solidFill>
                  <a:srgbClr val="336600"/>
                </a:solidFill>
                <a:latin typeface="Trebuchet MS"/>
                <a:ea typeface="新細明體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336600"/>
              </a:buClr>
              <a:buFont typeface="Trebuchet M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336600"/>
              </a:buClr>
              <a:buFont typeface="新細明體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用戶應一次過呈交所有帳目審查，即用戶不得呈交個別帳目審查。</a:t>
            </a:r>
            <a:r>
              <a:rPr b="0" lang="zh-CN" sz="1600" spc="-1" strike="noStrike">
                <a:solidFill>
                  <a:srgbClr val="336600"/>
                </a:solidFill>
                <a:latin typeface="Trebuchet MS"/>
                <a:ea typeface="新細明體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336600"/>
              </a:buClr>
              <a:buFont typeface="Trebuchet M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336600"/>
              </a:buClr>
              <a:buFont typeface="新細明體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預算收入草案呈交審查後，預算狀況會由「草案」改為「審查」。預算版面將改為顯示模式，不得修改收入草案內容。</a:t>
            </a:r>
            <a:r>
              <a:rPr b="0" lang="zh-CN" sz="1600" spc="-1" strike="noStrike">
                <a:solidFill>
                  <a:srgbClr val="336600"/>
                </a:solidFill>
                <a:latin typeface="Arial"/>
                <a:ea typeface="SimSun"/>
              </a:rPr>
              <a:t> </a:t>
            </a:r>
            <a:r>
              <a:rPr b="0" lang="zh-TW" sz="1600" spc="-1" strike="noStrike">
                <a:solidFill>
                  <a:srgbClr val="336600"/>
                </a:solidFill>
                <a:latin typeface="Arial"/>
                <a:ea typeface="新細明體"/>
              </a:rPr>
              <a:t>只可以用以下兩種方法修改預算：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336600"/>
              </a:buClr>
              <a:buFont typeface="Arial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1600" spc="-1" strike="noStrike">
                <a:solidFill>
                  <a:srgbClr val="336600"/>
                </a:solidFill>
                <a:latin typeface="Arial"/>
                <a:ea typeface="新細明體"/>
              </a:rPr>
              <a:t>在審查預算功能內更新預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336600"/>
              </a:buClr>
              <a:buFont typeface="Arial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1600" spc="-1" strike="noStrike">
                <a:solidFill>
                  <a:srgbClr val="336600"/>
                </a:solidFill>
                <a:latin typeface="Arial"/>
                <a:ea typeface="新細明體"/>
              </a:rPr>
              <a:t>按 </a:t>
            </a:r>
            <a:r>
              <a:rPr b="1" lang="zh-TW" sz="1600" spc="-1" strike="noStrike">
                <a:solidFill>
                  <a:srgbClr val="336600"/>
                </a:solidFill>
                <a:latin typeface="Arial"/>
                <a:ea typeface="新細明體"/>
              </a:rPr>
              <a:t>[</a:t>
            </a:r>
            <a:r>
              <a:rPr b="1" lang="zh-TW" sz="1600" spc="-1" strike="noStrike">
                <a:solidFill>
                  <a:srgbClr val="336600"/>
                </a:solidFill>
                <a:latin typeface="Arial"/>
                <a:ea typeface="新細明體"/>
              </a:rPr>
              <a:t>還原到預算草案</a:t>
            </a:r>
            <a:r>
              <a:rPr b="1" lang="zh-TW" sz="1600" spc="-1" strike="noStrike">
                <a:solidFill>
                  <a:srgbClr val="336600"/>
                </a:solidFill>
                <a:latin typeface="Arial"/>
                <a:ea typeface="新細明體"/>
              </a:rPr>
              <a:t>]</a:t>
            </a:r>
            <a:r>
              <a:rPr b="0" lang="zh-TW" sz="1600" spc="-1" strike="noStrike">
                <a:solidFill>
                  <a:srgbClr val="336600"/>
                </a:solidFill>
                <a:latin typeface="Arial"/>
                <a:ea typeface="新細明體"/>
              </a:rPr>
              <a:t> </a:t>
            </a:r>
            <a:r>
              <a:rPr b="0" lang="zh-TW" sz="1600" spc="-1" strike="noStrike">
                <a:solidFill>
                  <a:srgbClr val="336600"/>
                </a:solidFill>
                <a:latin typeface="Arial"/>
                <a:ea typeface="新細明體"/>
              </a:rPr>
              <a:t>按鈕將預算還原至「草案」狀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569600" y="6593040"/>
            <a:ext cx="438156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預備預算</a:t>
            </a:r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Rectangle 19"/>
          <p:cNvSpPr/>
          <p:nvPr/>
        </p:nvSpPr>
        <p:spPr>
          <a:xfrm>
            <a:off x="0" y="-1440"/>
            <a:ext cx="1919160" cy="141444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Rectangle 20"/>
          <p:cNvSpPr/>
          <p:nvPr/>
        </p:nvSpPr>
        <p:spPr>
          <a:xfrm>
            <a:off x="0" y="2100240"/>
            <a:ext cx="1919160" cy="449280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Oval 24"/>
          <p:cNvSpPr/>
          <p:nvPr/>
        </p:nvSpPr>
        <p:spPr>
          <a:xfrm>
            <a:off x="2855880" y="552600"/>
            <a:ext cx="990720" cy="304560"/>
          </a:xfrm>
          <a:prstGeom prst="ellipse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9" name="Group 29"/>
          <p:cNvGrpSpPr/>
          <p:nvPr/>
        </p:nvGrpSpPr>
        <p:grpSpPr>
          <a:xfrm>
            <a:off x="5562720" y="3581280"/>
            <a:ext cx="4996800" cy="2008080"/>
            <a:chOff x="5562720" y="3581280"/>
            <a:chExt cx="4996800" cy="2008080"/>
          </a:xfrm>
        </p:grpSpPr>
        <p:sp>
          <p:nvSpPr>
            <p:cNvPr id="290" name="AutoShape 30"/>
            <p:cNvSpPr/>
            <p:nvPr/>
          </p:nvSpPr>
          <p:spPr>
            <a:xfrm>
              <a:off x="5562720" y="3581280"/>
              <a:ext cx="4996800" cy="200808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Text Box 31"/>
            <p:cNvSpPr/>
            <p:nvPr/>
          </p:nvSpPr>
          <p:spPr>
            <a:xfrm>
              <a:off x="5562720" y="3581280"/>
              <a:ext cx="499680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第</a:t>
              </a:r>
              <a:r>
                <a:rPr b="0" lang="zh-TW" sz="16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1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步</a:t>
              </a:r>
              <a:r>
                <a:rPr b="0" lang="zh-TW" sz="16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：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從左邊項目選單上按下 </a:t>
              </a:r>
              <a:r>
                <a:rPr b="1" lang="zh-TW" sz="16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[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預算</a:t>
              </a:r>
              <a:r>
                <a:rPr b="1" lang="zh-TW" sz="16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] </a:t>
              </a:r>
              <a:r>
                <a:rPr b="1" lang="zh-TW" sz="16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</a:t>
              </a:r>
              <a:r>
                <a:rPr b="1" lang="zh-TW" sz="16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 [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收入草案</a:t>
              </a:r>
              <a:r>
                <a:rPr b="1" lang="zh-TW" sz="16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]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依預設，系統會顯示</a:t>
              </a:r>
              <a:r>
                <a:rPr b="0" lang="zh-TW" sz="16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 </a:t>
              </a:r>
              <a:r>
                <a:rPr b="1" lang="zh-TW" sz="16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[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製作預算收入</a:t>
              </a:r>
              <a:r>
                <a:rPr b="1" lang="zh-TW" sz="16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] 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版面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第</a:t>
              </a:r>
              <a:r>
                <a:rPr b="0" lang="zh-TW" sz="16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2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步</a:t>
              </a:r>
              <a:r>
                <a:rPr b="0" lang="zh-TW" sz="16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：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選擇 </a:t>
              </a:r>
              <a:r>
                <a:rPr b="1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[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學校級別</a:t>
              </a:r>
              <a:r>
                <a:rPr b="1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/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授課制</a:t>
              </a:r>
              <a:r>
                <a:rPr b="1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] 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及 </a:t>
              </a:r>
              <a:r>
                <a:rPr b="1" lang="zh-TW" sz="16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[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會計年度</a:t>
              </a:r>
              <a:r>
                <a:rPr b="1" lang="zh-TW" sz="16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2" name="Rectangle 32"/>
          <p:cNvSpPr/>
          <p:nvPr/>
        </p:nvSpPr>
        <p:spPr>
          <a:xfrm>
            <a:off x="8112240" y="1112760"/>
            <a:ext cx="2305080" cy="371520"/>
          </a:xfrm>
          <a:prstGeom prst="rect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Rectangle 21"/>
          <p:cNvSpPr/>
          <p:nvPr/>
        </p:nvSpPr>
        <p:spPr>
          <a:xfrm>
            <a:off x="-6480" y="-1440"/>
            <a:ext cx="2362320" cy="533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新細明體"/>
              </a:rPr>
              <a:t>呈交收入草案審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Rectangle 32"/>
          <p:cNvSpPr/>
          <p:nvPr/>
        </p:nvSpPr>
        <p:spPr>
          <a:xfrm>
            <a:off x="3503520" y="1095480"/>
            <a:ext cx="990720" cy="388800"/>
          </a:xfrm>
          <a:prstGeom prst="rect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569600" y="6593040"/>
            <a:ext cx="438156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預備預算</a:t>
            </a:r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Oval 3"/>
          <p:cNvSpPr/>
          <p:nvPr/>
        </p:nvSpPr>
        <p:spPr>
          <a:xfrm>
            <a:off x="4943520" y="820800"/>
            <a:ext cx="990720" cy="304560"/>
          </a:xfrm>
          <a:prstGeom prst="ellipse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7" name="Group 15"/>
          <p:cNvGrpSpPr/>
          <p:nvPr/>
        </p:nvGrpSpPr>
        <p:grpSpPr>
          <a:xfrm>
            <a:off x="5867280" y="5181480"/>
            <a:ext cx="4572000" cy="1143000"/>
            <a:chOff x="5867280" y="5181480"/>
            <a:chExt cx="4572000" cy="1143000"/>
          </a:xfrm>
        </p:grpSpPr>
        <p:sp>
          <p:nvSpPr>
            <p:cNvPr id="298" name="AutoShape 16"/>
            <p:cNvSpPr/>
            <p:nvPr/>
          </p:nvSpPr>
          <p:spPr>
            <a:xfrm>
              <a:off x="5867280" y="5181480"/>
              <a:ext cx="4572000" cy="114300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Text Box 17"/>
            <p:cNvSpPr/>
            <p:nvPr/>
          </p:nvSpPr>
          <p:spPr>
            <a:xfrm>
              <a:off x="5867280" y="5181480"/>
              <a:ext cx="4572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第</a:t>
              </a:r>
              <a:r>
                <a:rPr b="0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3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步</a:t>
              </a:r>
              <a:r>
                <a:rPr b="0" lang="zh-TW" sz="16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：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按 </a:t>
              </a:r>
              <a:r>
                <a:rPr b="1" lang="zh-TW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[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呈交審查</a:t>
              </a:r>
              <a:r>
                <a:rPr b="1" lang="zh-TW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] 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按鈕</a:t>
              </a:r>
              <a:r>
                <a:rPr b="0" lang="zh-CN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0" name="Rectangle 19"/>
          <p:cNvSpPr/>
          <p:nvPr/>
        </p:nvSpPr>
        <p:spPr>
          <a:xfrm>
            <a:off x="0" y="-1440"/>
            <a:ext cx="1919160" cy="141444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Rectangle 20"/>
          <p:cNvSpPr/>
          <p:nvPr/>
        </p:nvSpPr>
        <p:spPr>
          <a:xfrm>
            <a:off x="0" y="2100240"/>
            <a:ext cx="1919160" cy="449280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21"/>
          <p:cNvSpPr/>
          <p:nvPr/>
        </p:nvSpPr>
        <p:spPr>
          <a:xfrm>
            <a:off x="-6480" y="-1440"/>
            <a:ext cx="2362320" cy="533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新細明體"/>
              </a:rPr>
              <a:t>呈交收入草案審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569600" y="6593040"/>
            <a:ext cx="438156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預備預算</a:t>
            </a:r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304" name="Group 13"/>
          <p:cNvGrpSpPr/>
          <p:nvPr/>
        </p:nvGrpSpPr>
        <p:grpSpPr>
          <a:xfrm>
            <a:off x="5943600" y="4495680"/>
            <a:ext cx="4572000" cy="1600200"/>
            <a:chOff x="5943600" y="4495680"/>
            <a:chExt cx="4572000" cy="1600200"/>
          </a:xfrm>
        </p:grpSpPr>
        <p:sp>
          <p:nvSpPr>
            <p:cNvPr id="305" name="AutoShape 14"/>
            <p:cNvSpPr/>
            <p:nvPr/>
          </p:nvSpPr>
          <p:spPr>
            <a:xfrm>
              <a:off x="5943600" y="4495680"/>
              <a:ext cx="4572000" cy="160020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Text Box 15"/>
            <p:cNvSpPr/>
            <p:nvPr/>
          </p:nvSpPr>
          <p:spPr>
            <a:xfrm>
              <a:off x="5943600" y="4495680"/>
              <a:ext cx="4572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狀況由「草案」改為「審查」。校長可在</a:t>
              </a:r>
              <a:r>
                <a:rPr b="1" lang="zh-TW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[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預算</a:t>
              </a:r>
              <a:r>
                <a:rPr b="1" lang="zh-TW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]</a:t>
              </a:r>
              <a:r>
                <a:rPr b="0" lang="zh-TW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</a:t>
              </a:r>
              <a:r>
                <a:rPr b="1" lang="zh-TW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[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審查預算</a:t>
              </a:r>
              <a:r>
                <a:rPr b="1" lang="zh-TW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]</a:t>
              </a:r>
              <a:r>
                <a:rPr b="0" lang="zh-TW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 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項中審查預算。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7" name="Rectangle 16"/>
          <p:cNvSpPr/>
          <p:nvPr/>
        </p:nvSpPr>
        <p:spPr>
          <a:xfrm>
            <a:off x="7824960" y="1773360"/>
            <a:ext cx="1143000" cy="380880"/>
          </a:xfrm>
          <a:prstGeom prst="rect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19"/>
          <p:cNvSpPr/>
          <p:nvPr/>
        </p:nvSpPr>
        <p:spPr>
          <a:xfrm>
            <a:off x="0" y="-1440"/>
            <a:ext cx="1919160" cy="141444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Rectangle 20"/>
          <p:cNvSpPr/>
          <p:nvPr/>
        </p:nvSpPr>
        <p:spPr>
          <a:xfrm>
            <a:off x="0" y="2100240"/>
            <a:ext cx="1919160" cy="449280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21"/>
          <p:cNvSpPr/>
          <p:nvPr/>
        </p:nvSpPr>
        <p:spPr>
          <a:xfrm>
            <a:off x="-6480" y="-1440"/>
            <a:ext cx="2362320" cy="533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新細明體"/>
              </a:rPr>
              <a:t>呈交收入草案審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3"/>
          <p:cNvSpPr/>
          <p:nvPr/>
        </p:nvSpPr>
        <p:spPr>
          <a:xfrm>
            <a:off x="2286000" y="720720"/>
            <a:ext cx="782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1800" spc="-1" strike="noStrike">
                <a:solidFill>
                  <a:srgbClr val="ff0000"/>
                </a:solidFill>
                <a:latin typeface="新細明體"/>
                <a:ea typeface="新細明體"/>
              </a:rPr>
              <a:t>還原審查預算收入到草案</a:t>
            </a:r>
            <a:r>
              <a:rPr b="1" lang="zh-CN" sz="1800" spc="-1" strike="noStrike">
                <a:solidFill>
                  <a:srgbClr val="ff0000"/>
                </a:solidFill>
                <a:latin typeface="新細明體"/>
                <a:ea typeface="新細明體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2286000" y="1295280"/>
            <a:ext cx="7824960" cy="13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6600"/>
              </a:buClr>
              <a:buFont typeface="新細明體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 </a:t>
            </a: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用戶可將已呈交之預算收入還原到「草案」狀況。</a:t>
            </a:r>
            <a:r>
              <a:rPr b="0" lang="zh-CN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新細明體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新細明體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 </a:t>
            </a: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若需要對已呈交審查之預算收入作出修改，只要校長仍未凍結該預算，學校會計文員可還原預算收入，把預算狀況改為「草案」。</a:t>
            </a:r>
            <a:r>
              <a:rPr b="0" lang="zh-CN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新細明體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新細明體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 </a:t>
            </a: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預算收入還原到草案狀況後，預算狀況會由「審查」改為「草案」。</a:t>
            </a:r>
            <a:r>
              <a:rPr b="0" lang="zh-CN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69600" y="6593040"/>
            <a:ext cx="438156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收入草案</a:t>
            </a:r>
            <a:r>
              <a:rPr b="0" lang="zh-CN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2438280" y="609480"/>
            <a:ext cx="489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預算</a:t>
            </a:r>
            <a:r>
              <a:rPr b="1" lang="zh-TW" sz="2400" spc="-1" strike="noStrike">
                <a:solidFill>
                  <a:srgbClr val="000000"/>
                </a:solidFill>
                <a:latin typeface="Trebuchet MS"/>
                <a:ea typeface="新細明體"/>
              </a:rPr>
              <a:t> – </a:t>
            </a:r>
            <a:r>
              <a:rPr b="1" lang="zh-TW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收入草案</a:t>
            </a:r>
            <a:r>
              <a:rPr b="1" lang="zh-CN" sz="2400" spc="-1" strike="noStrike">
                <a:solidFill>
                  <a:srgbClr val="000000"/>
                </a:solidFill>
                <a:latin typeface="Trebuchet MS"/>
                <a:ea typeface="新細明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15"/>
          <p:cNvSpPr/>
          <p:nvPr/>
        </p:nvSpPr>
        <p:spPr>
          <a:xfrm>
            <a:off x="2438280" y="1187280"/>
            <a:ext cx="7543800" cy="34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6600"/>
              </a:buClr>
              <a:buFont typeface="新細明體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 </a:t>
            </a: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本功能用以預算學校經費，如從教育局撥款及其他經費來源之收入，以供學校運作。</a:t>
            </a:r>
            <a:r>
              <a:rPr b="0" lang="zh-CN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新細明體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新細明體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 </a:t>
            </a: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系統是以收入帳目級別來輸入預算收入的。</a:t>
            </a:r>
            <a:r>
              <a:rPr b="0" lang="zh-CN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新細明體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新細明體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 </a:t>
            </a: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用戶可將收入帳目複製到另一學校級別 </a:t>
            </a: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/ </a:t>
            </a: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授課制，或同一學校級別 </a:t>
            </a: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/ </a:t>
            </a: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授課制之將來會計年度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新細明體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新細明體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 </a:t>
            </a: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系統特別為校長提供審查及核定功能。</a:t>
            </a:r>
            <a:r>
              <a:rPr b="0" lang="zh-CN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新細明體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新細明體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 </a:t>
            </a: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可預備一年以上之預算。用戶可以列印一份五年的預算預測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新細明體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 </a:t>
            </a: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若已輸入教育局津貼金額，系統會從教育局津貼核對預算金額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新細明體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新細明體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 </a:t>
            </a: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擁有多個學校級別及授課制之學校，用戶應分別為各學校級別及授課制準備收入草案。</a:t>
            </a:r>
            <a:r>
              <a:rPr b="0" lang="zh-CN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569600" y="6593040"/>
            <a:ext cx="438156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還原預算</a:t>
            </a:r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Rectangle 20"/>
          <p:cNvSpPr/>
          <p:nvPr/>
        </p:nvSpPr>
        <p:spPr>
          <a:xfrm>
            <a:off x="0" y="2100240"/>
            <a:ext cx="1919160" cy="449280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Oval 24"/>
          <p:cNvSpPr/>
          <p:nvPr/>
        </p:nvSpPr>
        <p:spPr>
          <a:xfrm>
            <a:off x="2855880" y="552600"/>
            <a:ext cx="990720" cy="304560"/>
          </a:xfrm>
          <a:prstGeom prst="ellipse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6" name="Group 29"/>
          <p:cNvGrpSpPr/>
          <p:nvPr/>
        </p:nvGrpSpPr>
        <p:grpSpPr>
          <a:xfrm>
            <a:off x="5562720" y="3581280"/>
            <a:ext cx="4854240" cy="2008080"/>
            <a:chOff x="5562720" y="3581280"/>
            <a:chExt cx="4854240" cy="2008080"/>
          </a:xfrm>
        </p:grpSpPr>
        <p:sp>
          <p:nvSpPr>
            <p:cNvPr id="317" name="AutoShape 30"/>
            <p:cNvSpPr/>
            <p:nvPr/>
          </p:nvSpPr>
          <p:spPr>
            <a:xfrm>
              <a:off x="5562720" y="3581280"/>
              <a:ext cx="4854240" cy="200808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Text Box 31"/>
            <p:cNvSpPr/>
            <p:nvPr/>
          </p:nvSpPr>
          <p:spPr>
            <a:xfrm>
              <a:off x="5562720" y="3581280"/>
              <a:ext cx="485424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第</a:t>
              </a:r>
              <a:r>
                <a:rPr b="0" lang="zh-TW" sz="16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1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步</a:t>
              </a:r>
              <a:r>
                <a:rPr b="0" lang="zh-TW" sz="16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：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從左邊項目選單上按下 </a:t>
              </a:r>
              <a:r>
                <a:rPr b="1" lang="zh-TW" sz="16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[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預算</a:t>
              </a:r>
              <a:r>
                <a:rPr b="1" lang="zh-TW" sz="16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] </a:t>
              </a:r>
              <a:r>
                <a:rPr b="1" lang="zh-TW" sz="16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</a:t>
              </a:r>
              <a:r>
                <a:rPr b="1" lang="zh-TW" sz="16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 [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收入草案</a:t>
              </a:r>
              <a:r>
                <a:rPr b="1" lang="zh-TW" sz="16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]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依預設，系統會顯示</a:t>
              </a:r>
              <a:r>
                <a:rPr b="0" lang="zh-TW" sz="16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 </a:t>
              </a:r>
              <a:r>
                <a:rPr b="1" lang="zh-TW" sz="16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[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製作預算收入</a:t>
              </a:r>
              <a:r>
                <a:rPr b="1" lang="zh-TW" sz="16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] 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版面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第</a:t>
              </a:r>
              <a:r>
                <a:rPr b="0" lang="zh-TW" sz="16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2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步</a:t>
              </a:r>
              <a:r>
                <a:rPr b="0" lang="zh-TW" sz="16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：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選擇 </a:t>
              </a:r>
              <a:r>
                <a:rPr b="1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[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學校級別</a:t>
              </a:r>
              <a:r>
                <a:rPr b="1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/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授課制</a:t>
              </a:r>
              <a:r>
                <a:rPr b="1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] 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及 </a:t>
              </a:r>
              <a:r>
                <a:rPr b="1" lang="zh-TW" sz="16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[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會計年度</a:t>
              </a:r>
              <a:r>
                <a:rPr b="1" lang="zh-TW" sz="16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9" name="Rectangle 32"/>
          <p:cNvSpPr/>
          <p:nvPr/>
        </p:nvSpPr>
        <p:spPr>
          <a:xfrm>
            <a:off x="8112240" y="1112760"/>
            <a:ext cx="2305080" cy="371520"/>
          </a:xfrm>
          <a:prstGeom prst="rect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Rectangle 19"/>
          <p:cNvSpPr/>
          <p:nvPr/>
        </p:nvSpPr>
        <p:spPr>
          <a:xfrm>
            <a:off x="0" y="-1440"/>
            <a:ext cx="1919160" cy="141444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Rectangle 14"/>
          <p:cNvSpPr/>
          <p:nvPr/>
        </p:nvSpPr>
        <p:spPr>
          <a:xfrm>
            <a:off x="0" y="-1440"/>
            <a:ext cx="2362320" cy="533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還原審查預算收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32"/>
          <p:cNvSpPr/>
          <p:nvPr/>
        </p:nvSpPr>
        <p:spPr>
          <a:xfrm>
            <a:off x="3432240" y="1149480"/>
            <a:ext cx="1150920" cy="263520"/>
          </a:xfrm>
          <a:prstGeom prst="rect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569600" y="6593040"/>
            <a:ext cx="438156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還原預算</a:t>
            </a:r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4" name="Oval 6"/>
          <p:cNvSpPr/>
          <p:nvPr/>
        </p:nvSpPr>
        <p:spPr>
          <a:xfrm>
            <a:off x="5756400" y="800280"/>
            <a:ext cx="914400" cy="380880"/>
          </a:xfrm>
          <a:prstGeom prst="ellipse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5" name="Group 7"/>
          <p:cNvGrpSpPr/>
          <p:nvPr/>
        </p:nvGrpSpPr>
        <p:grpSpPr>
          <a:xfrm>
            <a:off x="5791320" y="4572000"/>
            <a:ext cx="4723920" cy="1295280"/>
            <a:chOff x="5791320" y="4572000"/>
            <a:chExt cx="4723920" cy="1295280"/>
          </a:xfrm>
        </p:grpSpPr>
        <p:sp>
          <p:nvSpPr>
            <p:cNvPr id="326" name="AutoShape 8"/>
            <p:cNvSpPr/>
            <p:nvPr/>
          </p:nvSpPr>
          <p:spPr>
            <a:xfrm>
              <a:off x="5791320" y="4572000"/>
              <a:ext cx="4723920" cy="129528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Text Box 9"/>
            <p:cNvSpPr/>
            <p:nvPr/>
          </p:nvSpPr>
          <p:spPr>
            <a:xfrm>
              <a:off x="5791320" y="4572000"/>
              <a:ext cx="4723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第</a:t>
              </a:r>
              <a:r>
                <a:rPr b="0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3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步：按 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[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還原到草案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] 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按鈕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8" name="Rectangle 20"/>
          <p:cNvSpPr/>
          <p:nvPr/>
        </p:nvSpPr>
        <p:spPr>
          <a:xfrm>
            <a:off x="0" y="2100240"/>
            <a:ext cx="1919160" cy="449280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Rectangle 13"/>
          <p:cNvSpPr/>
          <p:nvPr/>
        </p:nvSpPr>
        <p:spPr>
          <a:xfrm>
            <a:off x="0" y="-1440"/>
            <a:ext cx="1919160" cy="141444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14"/>
          <p:cNvSpPr/>
          <p:nvPr/>
        </p:nvSpPr>
        <p:spPr>
          <a:xfrm>
            <a:off x="0" y="-1440"/>
            <a:ext cx="2362320" cy="533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還原審查預算收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569600" y="6593040"/>
            <a:ext cx="438156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還原預算</a:t>
            </a:r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332" name="Group 14"/>
          <p:cNvGrpSpPr/>
          <p:nvPr/>
        </p:nvGrpSpPr>
        <p:grpSpPr>
          <a:xfrm>
            <a:off x="5334120" y="4952880"/>
            <a:ext cx="5181120" cy="1447920"/>
            <a:chOff x="5334120" y="4952880"/>
            <a:chExt cx="5181120" cy="1447920"/>
          </a:xfrm>
        </p:grpSpPr>
        <p:sp>
          <p:nvSpPr>
            <p:cNvPr id="333" name="AutoShape 15"/>
            <p:cNvSpPr/>
            <p:nvPr/>
          </p:nvSpPr>
          <p:spPr>
            <a:xfrm>
              <a:off x="5334120" y="4952880"/>
              <a:ext cx="5181120" cy="144792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Text Box 16"/>
            <p:cNvSpPr/>
            <p:nvPr/>
          </p:nvSpPr>
          <p:spPr>
            <a:xfrm>
              <a:off x="5334120" y="4952880"/>
              <a:ext cx="5181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狀況由「審查」改為「草案」。用戶可修改或刪除預算草案。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35" name="Rectangle 18"/>
          <p:cNvSpPr/>
          <p:nvPr/>
        </p:nvSpPr>
        <p:spPr>
          <a:xfrm>
            <a:off x="7824960" y="1836720"/>
            <a:ext cx="1066680" cy="304920"/>
          </a:xfrm>
          <a:prstGeom prst="rect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Rectangle 20"/>
          <p:cNvSpPr/>
          <p:nvPr/>
        </p:nvSpPr>
        <p:spPr>
          <a:xfrm>
            <a:off x="0" y="2100240"/>
            <a:ext cx="1919160" cy="449280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Rectangle 13"/>
          <p:cNvSpPr/>
          <p:nvPr/>
        </p:nvSpPr>
        <p:spPr>
          <a:xfrm>
            <a:off x="0" y="-1440"/>
            <a:ext cx="1919160" cy="141444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Rectangle 14"/>
          <p:cNvSpPr/>
          <p:nvPr/>
        </p:nvSpPr>
        <p:spPr>
          <a:xfrm>
            <a:off x="0" y="-1440"/>
            <a:ext cx="2362320" cy="533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還原審查預算收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3"/>
          <p:cNvSpPr/>
          <p:nvPr/>
        </p:nvSpPr>
        <p:spPr>
          <a:xfrm>
            <a:off x="2286000" y="720720"/>
            <a:ext cx="782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1800" spc="-1" strike="noStrike">
                <a:solidFill>
                  <a:srgbClr val="ff0000"/>
                </a:solidFill>
                <a:latin typeface="新細明體"/>
                <a:ea typeface="新細明體"/>
              </a:rPr>
              <a:t>依帳目複製</a:t>
            </a:r>
            <a:r>
              <a:rPr b="1" lang="zh-CN" sz="1800" spc="-1" strike="noStrike">
                <a:solidFill>
                  <a:srgbClr val="ff0000"/>
                </a:solidFill>
                <a:latin typeface="新細明體"/>
                <a:ea typeface="新細明體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2286000" y="1295280"/>
            <a:ext cx="7824960" cy="21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6600"/>
              </a:buClr>
              <a:buFont typeface="新細明體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 </a:t>
            </a: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用戶可透過從一個學校級別及授課制或會計年度的已收金額、預算草案收入或修改預算收入，複製到另一學校級別及授課制或會計年度。這提供了一種高效能的製作預算方法。</a:t>
            </a:r>
            <a:r>
              <a:rPr b="0" lang="zh-CN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新細明體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新細明體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 </a:t>
            </a: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為繼續使用複製功能，指定學校級別 </a:t>
            </a: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/ </a:t>
            </a: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授課制（複製到）或會計年度應沒有預算或預算應為「草案」狀況。</a:t>
            </a:r>
            <a:r>
              <a:rPr b="0" lang="zh-CN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新細明體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新細明體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 </a:t>
            </a: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在多個學校級別 </a:t>
            </a: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/</a:t>
            </a: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授課制學校，收入帳目可以從一個學校級別 </a:t>
            </a: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/ </a:t>
            </a: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授課制複製到另一個學校級別 </a:t>
            </a: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/ </a:t>
            </a: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授課制或會計年度。在單一學校級別 </a:t>
            </a: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/ </a:t>
            </a: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授課制的學校，收入帳目只可以從一個學校級別複製到另一個會計年度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新細明體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569600" y="6593040"/>
            <a:ext cx="438156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依帳目複製</a:t>
            </a:r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2" name="Rectangle 11"/>
          <p:cNvSpPr/>
          <p:nvPr/>
        </p:nvSpPr>
        <p:spPr>
          <a:xfrm>
            <a:off x="-7920" y="-19080"/>
            <a:ext cx="1927080" cy="1432080"/>
          </a:xfrm>
          <a:prstGeom prst="rect">
            <a:avLst/>
          </a:prstGeom>
          <a:solidFill>
            <a:srgbClr val="4472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Rectangle 12"/>
          <p:cNvSpPr/>
          <p:nvPr/>
        </p:nvSpPr>
        <p:spPr>
          <a:xfrm>
            <a:off x="-7920" y="2057400"/>
            <a:ext cx="1927080" cy="4552920"/>
          </a:xfrm>
          <a:prstGeom prst="rect">
            <a:avLst/>
          </a:prstGeom>
          <a:solidFill>
            <a:srgbClr val="4472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Oval 19"/>
          <p:cNvSpPr/>
          <p:nvPr/>
        </p:nvSpPr>
        <p:spPr>
          <a:xfrm>
            <a:off x="1919160" y="531720"/>
            <a:ext cx="1143000" cy="304920"/>
          </a:xfrm>
          <a:prstGeom prst="ellipse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5" name="Group 22"/>
          <p:cNvGrpSpPr/>
          <p:nvPr/>
        </p:nvGrpSpPr>
        <p:grpSpPr>
          <a:xfrm>
            <a:off x="5807160" y="3789360"/>
            <a:ext cx="5072040" cy="2425320"/>
            <a:chOff x="5807160" y="3789360"/>
            <a:chExt cx="5072040" cy="2425320"/>
          </a:xfrm>
        </p:grpSpPr>
        <p:sp>
          <p:nvSpPr>
            <p:cNvPr id="346" name="AutoShape 23"/>
            <p:cNvSpPr/>
            <p:nvPr/>
          </p:nvSpPr>
          <p:spPr>
            <a:xfrm>
              <a:off x="6306480" y="3789360"/>
              <a:ext cx="4572360" cy="242532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Text Box 24"/>
            <p:cNvSpPr/>
            <p:nvPr/>
          </p:nvSpPr>
          <p:spPr>
            <a:xfrm>
              <a:off x="5807160" y="3789360"/>
              <a:ext cx="507204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8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第</a:t>
              </a:r>
              <a:r>
                <a:rPr b="0" lang="zh-TW" sz="18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1</a:t>
              </a:r>
              <a:r>
                <a:rPr b="0" lang="zh-TW" sz="18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步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：</a:t>
              </a:r>
              <a:r>
                <a:rPr b="0" lang="zh-TW" sz="18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從左邊項目選單上按 </a:t>
              </a:r>
              <a:r>
                <a:rPr b="1" lang="zh-TW" sz="18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[</a:t>
              </a:r>
              <a:r>
                <a:rPr b="1" lang="zh-TW" sz="18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預算</a:t>
              </a:r>
              <a:r>
                <a:rPr b="1" lang="zh-TW" sz="18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] </a:t>
              </a:r>
              <a:r>
                <a:rPr b="0" lang="en-US" sz="16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</a:t>
              </a:r>
              <a:r>
                <a:rPr b="1" lang="zh-TW" sz="18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[</a:t>
              </a:r>
              <a:r>
                <a:rPr b="1" lang="zh-TW" sz="18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收入草案</a:t>
              </a:r>
              <a:r>
                <a:rPr b="1" lang="zh-TW" sz="18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]</a:t>
              </a:r>
              <a:r>
                <a:rPr b="0" lang="zh-TW" sz="18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8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第</a:t>
              </a:r>
              <a:r>
                <a:rPr b="0" lang="zh-TW" sz="18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2</a:t>
              </a:r>
              <a:r>
                <a:rPr b="0" lang="zh-TW" sz="18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步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：</a:t>
              </a:r>
              <a:r>
                <a:rPr b="0" lang="zh-TW" sz="18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按下</a:t>
              </a:r>
              <a:r>
                <a:rPr b="1" lang="zh-TW" sz="18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[</a:t>
              </a:r>
              <a:r>
                <a:rPr b="1" lang="zh-TW" sz="18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依帳目複製</a:t>
              </a:r>
              <a:r>
                <a:rPr b="1" lang="zh-TW" sz="18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] </a:t>
              </a:r>
              <a:r>
                <a:rPr b="0" lang="zh-TW" sz="18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標示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8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第</a:t>
              </a:r>
              <a:r>
                <a:rPr b="0" lang="zh-TW" sz="18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3</a:t>
              </a:r>
              <a:r>
                <a:rPr b="0" lang="zh-TW" sz="18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步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：</a:t>
              </a:r>
              <a:r>
                <a:rPr b="0" lang="zh-TW" sz="18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選擇 </a:t>
              </a:r>
              <a:r>
                <a:rPr b="1" lang="en-US" sz="18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[</a:t>
              </a:r>
              <a:r>
                <a:rPr b="1" lang="zh-TW" sz="18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學校級別</a:t>
              </a:r>
              <a:r>
                <a:rPr b="1" lang="en-US" sz="18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/</a:t>
              </a:r>
              <a:r>
                <a:rPr b="1" lang="zh-TW" sz="18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授課制</a:t>
              </a:r>
              <a:r>
                <a:rPr b="1" lang="en-US" sz="18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] </a:t>
              </a:r>
              <a:r>
                <a:rPr b="0" lang="zh-TW" sz="18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及 </a:t>
              </a:r>
              <a:r>
                <a:rPr b="1" lang="zh-TW" sz="18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[</a:t>
              </a:r>
              <a:r>
                <a:rPr b="1" lang="zh-TW" sz="18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會計年度</a:t>
              </a:r>
              <a:r>
                <a:rPr b="1" lang="zh-TW" sz="18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]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8" name="Rectangle 25"/>
          <p:cNvSpPr/>
          <p:nvPr/>
        </p:nvSpPr>
        <p:spPr>
          <a:xfrm>
            <a:off x="8112240" y="1341360"/>
            <a:ext cx="2306520" cy="333360"/>
          </a:xfrm>
          <a:prstGeom prst="rect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Rectangle 27"/>
          <p:cNvSpPr/>
          <p:nvPr/>
        </p:nvSpPr>
        <p:spPr>
          <a:xfrm>
            <a:off x="-15840" y="-19080"/>
            <a:ext cx="236232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依帳目複製預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Rectangle 25"/>
          <p:cNvSpPr/>
          <p:nvPr/>
        </p:nvSpPr>
        <p:spPr>
          <a:xfrm>
            <a:off x="3645000" y="1328760"/>
            <a:ext cx="2306520" cy="333360"/>
          </a:xfrm>
          <a:prstGeom prst="rect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569600" y="6593040"/>
            <a:ext cx="438156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依帳目複製</a:t>
            </a:r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352" name="Group 18"/>
          <p:cNvGrpSpPr/>
          <p:nvPr/>
        </p:nvGrpSpPr>
        <p:grpSpPr>
          <a:xfrm>
            <a:off x="6711840" y="1685880"/>
            <a:ext cx="4572000" cy="2361960"/>
            <a:chOff x="6711840" y="1685880"/>
            <a:chExt cx="4572000" cy="2361960"/>
          </a:xfrm>
        </p:grpSpPr>
        <p:sp>
          <p:nvSpPr>
            <p:cNvPr id="353" name="AutoShape 19"/>
            <p:cNvSpPr/>
            <p:nvPr/>
          </p:nvSpPr>
          <p:spPr>
            <a:xfrm>
              <a:off x="6711840" y="1685880"/>
              <a:ext cx="4572000" cy="236196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Text Box 20"/>
            <p:cNvSpPr/>
            <p:nvPr/>
          </p:nvSpPr>
          <p:spPr>
            <a:xfrm>
              <a:off x="6711840" y="1685880"/>
              <a:ext cx="4572000" cy="17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第</a:t>
              </a:r>
              <a:r>
                <a:rPr b="0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4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步：選擇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 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[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帳目代碼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]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 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旁之核取方塊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第</a:t>
              </a:r>
              <a:r>
                <a:rPr b="0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5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步：按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 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[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學校級別及授課制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]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 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以及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[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會計年度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第</a:t>
              </a:r>
              <a:r>
                <a:rPr b="0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6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步：按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[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確定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] 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按鈕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5" name="Rectangle 21"/>
          <p:cNvSpPr/>
          <p:nvPr/>
        </p:nvSpPr>
        <p:spPr>
          <a:xfrm>
            <a:off x="2411280" y="2867040"/>
            <a:ext cx="304920" cy="274680"/>
          </a:xfrm>
          <a:prstGeom prst="rect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Rectangle 22"/>
          <p:cNvSpPr/>
          <p:nvPr/>
        </p:nvSpPr>
        <p:spPr>
          <a:xfrm>
            <a:off x="3573360" y="4410000"/>
            <a:ext cx="2293920" cy="457200"/>
          </a:xfrm>
          <a:prstGeom prst="rect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Oval 23"/>
          <p:cNvSpPr/>
          <p:nvPr/>
        </p:nvSpPr>
        <p:spPr>
          <a:xfrm>
            <a:off x="2090880" y="1052640"/>
            <a:ext cx="609480" cy="274680"/>
          </a:xfrm>
          <a:prstGeom prst="ellipse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8" name="Group 26"/>
          <p:cNvGrpSpPr/>
          <p:nvPr/>
        </p:nvGrpSpPr>
        <p:grpSpPr>
          <a:xfrm>
            <a:off x="10077480" y="5373720"/>
            <a:ext cx="2114280" cy="1101240"/>
            <a:chOff x="10077480" y="5373720"/>
            <a:chExt cx="2114280" cy="1101240"/>
          </a:xfrm>
        </p:grpSpPr>
        <p:sp>
          <p:nvSpPr>
            <p:cNvPr id="359" name="AutoShape 27"/>
            <p:cNvSpPr/>
            <p:nvPr/>
          </p:nvSpPr>
          <p:spPr>
            <a:xfrm flipV="1">
              <a:off x="10163160" y="5722560"/>
              <a:ext cx="1891440" cy="752400"/>
            </a:xfrm>
            <a:prstGeom prst="flowChartOffpageConnector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Text Box 28"/>
            <p:cNvSpPr/>
            <p:nvPr/>
          </p:nvSpPr>
          <p:spPr>
            <a:xfrm>
              <a:off x="10077480" y="5373720"/>
              <a:ext cx="2114280" cy="96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按退出按鈕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返回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1" name="Rectangle 11"/>
          <p:cNvSpPr/>
          <p:nvPr/>
        </p:nvSpPr>
        <p:spPr>
          <a:xfrm>
            <a:off x="-7920" y="-19080"/>
            <a:ext cx="1927080" cy="1432080"/>
          </a:xfrm>
          <a:prstGeom prst="rect">
            <a:avLst/>
          </a:prstGeom>
          <a:solidFill>
            <a:srgbClr val="4472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Rectangle 12"/>
          <p:cNvSpPr/>
          <p:nvPr/>
        </p:nvSpPr>
        <p:spPr>
          <a:xfrm>
            <a:off x="-7920" y="2057400"/>
            <a:ext cx="1927080" cy="4552920"/>
          </a:xfrm>
          <a:prstGeom prst="rect">
            <a:avLst/>
          </a:prstGeom>
          <a:solidFill>
            <a:srgbClr val="4472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Rectangle 27"/>
          <p:cNvSpPr/>
          <p:nvPr/>
        </p:nvSpPr>
        <p:spPr>
          <a:xfrm>
            <a:off x="-15840" y="-19080"/>
            <a:ext cx="236232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依帳目複製預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22"/>
          <p:cNvSpPr/>
          <p:nvPr/>
        </p:nvSpPr>
        <p:spPr>
          <a:xfrm>
            <a:off x="8115480" y="4414680"/>
            <a:ext cx="2293920" cy="457200"/>
          </a:xfrm>
          <a:prstGeom prst="rect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69600" y="6593040"/>
            <a:ext cx="438156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製作預算</a:t>
            </a:r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Rectangle 19"/>
          <p:cNvSpPr/>
          <p:nvPr/>
        </p:nvSpPr>
        <p:spPr>
          <a:xfrm>
            <a:off x="0" y="-1440"/>
            <a:ext cx="1919160" cy="141444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2100240"/>
            <a:ext cx="1919160" cy="449280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Oval 24"/>
          <p:cNvSpPr/>
          <p:nvPr/>
        </p:nvSpPr>
        <p:spPr>
          <a:xfrm>
            <a:off x="2855880" y="552600"/>
            <a:ext cx="990720" cy="304560"/>
          </a:xfrm>
          <a:prstGeom prst="ellipse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3" name="Group 29"/>
          <p:cNvGrpSpPr/>
          <p:nvPr/>
        </p:nvGrpSpPr>
        <p:grpSpPr>
          <a:xfrm>
            <a:off x="5562720" y="3581280"/>
            <a:ext cx="4854240" cy="1935000"/>
            <a:chOff x="5562720" y="3581280"/>
            <a:chExt cx="4854240" cy="1935000"/>
          </a:xfrm>
        </p:grpSpPr>
        <p:sp>
          <p:nvSpPr>
            <p:cNvPr id="154" name="AutoShape 30"/>
            <p:cNvSpPr/>
            <p:nvPr/>
          </p:nvSpPr>
          <p:spPr>
            <a:xfrm>
              <a:off x="5562720" y="3581280"/>
              <a:ext cx="4854240" cy="193500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Text Box 31"/>
            <p:cNvSpPr/>
            <p:nvPr/>
          </p:nvSpPr>
          <p:spPr>
            <a:xfrm>
              <a:off x="5562720" y="3581280"/>
              <a:ext cx="485424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第</a:t>
              </a:r>
              <a:r>
                <a:rPr b="0" lang="zh-TW" sz="16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1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步</a:t>
              </a:r>
              <a:r>
                <a:rPr b="0" lang="zh-TW" sz="16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：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從左邊項目選單上按下 </a:t>
              </a:r>
              <a:r>
                <a:rPr b="1" lang="zh-TW" sz="16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[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預算</a:t>
              </a:r>
              <a:r>
                <a:rPr b="1" lang="zh-TW" sz="16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] </a:t>
              </a:r>
              <a:r>
                <a:rPr b="1" lang="zh-TW" sz="16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</a:t>
              </a:r>
              <a:r>
                <a:rPr b="1" lang="zh-TW" sz="16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 [</a:t>
              </a:r>
              <a:r>
                <a:rPr b="1" lang="zh-TW" sz="16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收入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草案</a:t>
              </a:r>
              <a:r>
                <a:rPr b="1" lang="zh-TW" sz="16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]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依預設，系統會顯示</a:t>
              </a:r>
              <a:r>
                <a:rPr b="0" lang="zh-TW" sz="16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 </a:t>
              </a:r>
              <a:r>
                <a:rPr b="1" lang="zh-TW" sz="16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[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製作預算收入</a:t>
              </a:r>
              <a:r>
                <a:rPr b="1" lang="zh-TW" sz="16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] 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版面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第</a:t>
              </a:r>
              <a:r>
                <a:rPr b="0" lang="zh-TW" sz="16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2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步</a:t>
              </a:r>
              <a:r>
                <a:rPr b="0" lang="zh-TW" sz="16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：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選擇 </a:t>
              </a:r>
              <a:r>
                <a:rPr b="1" lang="zh-TW" sz="16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[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學校級別</a:t>
              </a:r>
              <a:r>
                <a:rPr b="1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/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授課制</a:t>
              </a:r>
              <a:r>
                <a:rPr b="1" lang="zh-TW" sz="16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]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 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及 </a:t>
              </a:r>
              <a:r>
                <a:rPr b="1" lang="zh-TW" sz="16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[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會計年度</a:t>
              </a:r>
              <a:r>
                <a:rPr b="1" lang="zh-TW" sz="16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6" name="Rectangle 32"/>
          <p:cNvSpPr/>
          <p:nvPr/>
        </p:nvSpPr>
        <p:spPr>
          <a:xfrm>
            <a:off x="8112240" y="1112760"/>
            <a:ext cx="2305080" cy="371520"/>
          </a:xfrm>
          <a:prstGeom prst="rect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35"/>
          <p:cNvSpPr/>
          <p:nvPr/>
        </p:nvSpPr>
        <p:spPr>
          <a:xfrm>
            <a:off x="0" y="-1440"/>
            <a:ext cx="2362320" cy="533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SimSun"/>
              </a:rPr>
              <a:t>製作收入草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32"/>
          <p:cNvSpPr/>
          <p:nvPr/>
        </p:nvSpPr>
        <p:spPr>
          <a:xfrm>
            <a:off x="3616200" y="1127160"/>
            <a:ext cx="679680" cy="304920"/>
          </a:xfrm>
          <a:prstGeom prst="rect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69600" y="6593040"/>
            <a:ext cx="438156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製作預算</a:t>
            </a:r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Oval 17"/>
          <p:cNvSpPr/>
          <p:nvPr/>
        </p:nvSpPr>
        <p:spPr>
          <a:xfrm>
            <a:off x="3467160" y="757080"/>
            <a:ext cx="1189080" cy="381240"/>
          </a:xfrm>
          <a:prstGeom prst="ellipse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1" name="Group 27"/>
          <p:cNvGrpSpPr/>
          <p:nvPr/>
        </p:nvGrpSpPr>
        <p:grpSpPr>
          <a:xfrm>
            <a:off x="5562720" y="4800600"/>
            <a:ext cx="4572000" cy="1219320"/>
            <a:chOff x="5562720" y="4800600"/>
            <a:chExt cx="4572000" cy="1219320"/>
          </a:xfrm>
        </p:grpSpPr>
        <p:sp>
          <p:nvSpPr>
            <p:cNvPr id="162" name="AutoShape 28"/>
            <p:cNvSpPr/>
            <p:nvPr/>
          </p:nvSpPr>
          <p:spPr>
            <a:xfrm>
              <a:off x="5562720" y="4800600"/>
              <a:ext cx="4572000" cy="121932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Text Box 29"/>
            <p:cNvSpPr/>
            <p:nvPr/>
          </p:nvSpPr>
          <p:spPr>
            <a:xfrm>
              <a:off x="5562720" y="4800600"/>
              <a:ext cx="4572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第</a:t>
              </a:r>
              <a:r>
                <a:rPr b="0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3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步</a:t>
              </a:r>
              <a:r>
                <a:rPr b="0" lang="zh-TW" sz="16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：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按下 </a:t>
              </a:r>
              <a:r>
                <a:rPr b="1" lang="zh-TW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[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新增行數</a:t>
              </a:r>
              <a:r>
                <a:rPr b="1" lang="zh-TW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] 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按鈕。系統將顯示一空白行以作輸入</a:t>
              </a:r>
              <a:r>
                <a:rPr b="0" lang="zh-CN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64" name="Picture 1" descr=""/>
          <p:cNvPicPr/>
          <p:nvPr/>
        </p:nvPicPr>
        <p:blipFill>
          <a:blip r:embed="rId2"/>
          <a:stretch/>
        </p:blipFill>
        <p:spPr>
          <a:xfrm>
            <a:off x="2743200" y="1579680"/>
            <a:ext cx="1066680" cy="3524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1" descr=""/>
          <p:cNvPicPr/>
          <p:nvPr/>
        </p:nvPicPr>
        <p:blipFill>
          <a:blip r:embed="rId3"/>
          <a:stretch/>
        </p:blipFill>
        <p:spPr>
          <a:xfrm>
            <a:off x="2743200" y="1297080"/>
            <a:ext cx="952560" cy="12384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19"/>
          <p:cNvSpPr/>
          <p:nvPr/>
        </p:nvSpPr>
        <p:spPr>
          <a:xfrm>
            <a:off x="0" y="-1440"/>
            <a:ext cx="1919160" cy="141444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ctangle 20"/>
          <p:cNvSpPr/>
          <p:nvPr/>
        </p:nvSpPr>
        <p:spPr>
          <a:xfrm>
            <a:off x="0" y="2100240"/>
            <a:ext cx="1919160" cy="449280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0" y="-1440"/>
            <a:ext cx="2362320" cy="533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SimSun"/>
              </a:rPr>
              <a:t>製作收入草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Rectangle 11"/>
          <p:cNvSpPr/>
          <p:nvPr/>
        </p:nvSpPr>
        <p:spPr>
          <a:xfrm>
            <a:off x="1992240" y="2276640"/>
            <a:ext cx="9217080" cy="622080"/>
          </a:xfrm>
          <a:prstGeom prst="rect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69600" y="6593040"/>
            <a:ext cx="438156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製作預算</a:t>
            </a:r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171" name="Group 38"/>
          <p:cNvGrpSpPr/>
          <p:nvPr/>
        </p:nvGrpSpPr>
        <p:grpSpPr>
          <a:xfrm>
            <a:off x="4640400" y="2060640"/>
            <a:ext cx="3687120" cy="1067400"/>
            <a:chOff x="4640400" y="2060640"/>
            <a:chExt cx="3687120" cy="1067400"/>
          </a:xfrm>
        </p:grpSpPr>
        <p:sp>
          <p:nvSpPr>
            <p:cNvPr id="172" name="Rectangle 39"/>
            <p:cNvSpPr/>
            <p:nvPr/>
          </p:nvSpPr>
          <p:spPr>
            <a:xfrm>
              <a:off x="4640400" y="2521080"/>
              <a:ext cx="334440" cy="304560"/>
            </a:xfrm>
            <a:prstGeom prst="rect">
              <a:avLst/>
            </a:prstGeom>
            <a:noFill/>
            <a:ln w="3816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Line 40"/>
            <p:cNvSpPr/>
            <p:nvPr/>
          </p:nvSpPr>
          <p:spPr>
            <a:xfrm flipH="1">
              <a:off x="4974840" y="2673360"/>
              <a:ext cx="85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74" name="Group 41"/>
            <p:cNvGrpSpPr/>
            <p:nvPr/>
          </p:nvGrpSpPr>
          <p:grpSpPr>
            <a:xfrm>
              <a:off x="5813280" y="2060640"/>
              <a:ext cx="2514240" cy="1067400"/>
              <a:chOff x="5813280" y="2060640"/>
              <a:chExt cx="2514240" cy="1067400"/>
            </a:xfrm>
          </p:grpSpPr>
          <p:sp>
            <p:nvSpPr>
              <p:cNvPr id="175" name="AutoShape 42"/>
              <p:cNvSpPr/>
              <p:nvPr/>
            </p:nvSpPr>
            <p:spPr>
              <a:xfrm>
                <a:off x="5813280" y="2060640"/>
                <a:ext cx="2514240" cy="914040"/>
              </a:xfrm>
              <a:prstGeom prst="flowChartDocument">
                <a:avLst/>
              </a:prstGeom>
              <a:solidFill>
                <a:srgbClr val="33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" name="Text Box 43"/>
              <p:cNvSpPr/>
              <p:nvPr/>
            </p:nvSpPr>
            <p:spPr>
              <a:xfrm>
                <a:off x="5813280" y="2060640"/>
                <a:ext cx="251424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zh-TW" sz="1600" spc="-1" strike="noStrike">
                    <a:solidFill>
                      <a:srgbClr val="ffffff"/>
                    </a:solidFill>
                    <a:latin typeface="新細明體"/>
                    <a:ea typeface="新細明體"/>
                  </a:rPr>
                  <a:t>第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新細明體"/>
                    <a:ea typeface="新細明體"/>
                  </a:rPr>
                  <a:t>4b</a:t>
                </a:r>
                <a:r>
                  <a:rPr b="0" lang="zh-TW" sz="1600" spc="-1" strike="noStrike">
                    <a:solidFill>
                      <a:srgbClr val="ffffff"/>
                    </a:solidFill>
                    <a:latin typeface="新細明體"/>
                    <a:ea typeface="新細明體"/>
                  </a:rPr>
                  <a:t>步：輸入帳目代碼：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zh-TW" sz="1600" spc="-1" strike="noStrike">
                    <a:solidFill>
                      <a:srgbClr val="ffffff"/>
                    </a:solidFill>
                    <a:latin typeface="新細明體"/>
                    <a:ea typeface="新細明體"/>
                  </a:rPr>
                  <a:t>方法</a:t>
                </a:r>
                <a:r>
                  <a:rPr b="0" lang="zh-TW" sz="1600" spc="-1" strike="noStrike">
                    <a:solidFill>
                      <a:srgbClr val="ffffff"/>
                    </a:solidFill>
                    <a:latin typeface="Arial"/>
                    <a:ea typeface="新細明體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zh-TW" sz="1600" spc="-1" strike="noStrike">
                    <a:solidFill>
                      <a:srgbClr val="ffffff"/>
                    </a:solidFill>
                    <a:latin typeface="新細明體"/>
                    <a:ea typeface="新細明體"/>
                  </a:rPr>
                  <a:t>按下搜尋圖示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77" name="Group 44"/>
          <p:cNvGrpSpPr/>
          <p:nvPr/>
        </p:nvGrpSpPr>
        <p:grpSpPr>
          <a:xfrm>
            <a:off x="2762280" y="839880"/>
            <a:ext cx="2484360" cy="1973160"/>
            <a:chOff x="2762280" y="839880"/>
            <a:chExt cx="2484360" cy="1973160"/>
          </a:xfrm>
        </p:grpSpPr>
        <p:grpSp>
          <p:nvGrpSpPr>
            <p:cNvPr id="178" name="Group 45"/>
            <p:cNvGrpSpPr/>
            <p:nvPr/>
          </p:nvGrpSpPr>
          <p:grpSpPr>
            <a:xfrm>
              <a:off x="2762280" y="839880"/>
              <a:ext cx="2484360" cy="1108080"/>
              <a:chOff x="2762280" y="839880"/>
              <a:chExt cx="2484360" cy="1108080"/>
            </a:xfrm>
          </p:grpSpPr>
          <p:sp>
            <p:nvSpPr>
              <p:cNvPr id="179" name="AutoShape 46"/>
              <p:cNvSpPr/>
              <p:nvPr/>
            </p:nvSpPr>
            <p:spPr>
              <a:xfrm>
                <a:off x="2762280" y="839880"/>
                <a:ext cx="2484360" cy="1108080"/>
              </a:xfrm>
              <a:prstGeom prst="flowChartDocument">
                <a:avLst/>
              </a:prstGeom>
              <a:solidFill>
                <a:srgbClr val="33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" name="Text Box 47"/>
              <p:cNvSpPr/>
              <p:nvPr/>
            </p:nvSpPr>
            <p:spPr>
              <a:xfrm>
                <a:off x="2762280" y="839880"/>
                <a:ext cx="248436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zh-TW" sz="1600" spc="-1" strike="noStrike">
                    <a:solidFill>
                      <a:srgbClr val="ffffff"/>
                    </a:solidFill>
                    <a:latin typeface="新細明體"/>
                    <a:ea typeface="新細明體"/>
                  </a:rPr>
                  <a:t>第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新細明體"/>
                    <a:ea typeface="新細明體"/>
                  </a:rPr>
                  <a:t>4a</a:t>
                </a:r>
                <a:r>
                  <a:rPr b="0" lang="zh-TW" sz="1600" spc="-1" strike="noStrike">
                    <a:solidFill>
                      <a:srgbClr val="ffffff"/>
                    </a:solidFill>
                    <a:latin typeface="新細明體"/>
                    <a:ea typeface="新細明體"/>
                  </a:rPr>
                  <a:t>步：輸入帳目代碼：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zh-TW" sz="1600" spc="-1" strike="noStrike">
                    <a:solidFill>
                      <a:srgbClr val="ffffff"/>
                    </a:solidFill>
                    <a:latin typeface="新細明體"/>
                    <a:ea typeface="新細明體"/>
                  </a:rPr>
                  <a:t>方法</a:t>
                </a:r>
                <a:r>
                  <a:rPr b="0" lang="zh-TW" sz="1600" spc="-1" strike="noStrike">
                    <a:solidFill>
                      <a:srgbClr val="ffffff"/>
                    </a:solidFill>
                    <a:latin typeface="Arial"/>
                    <a:ea typeface="新細明體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zh-TW" sz="1600" spc="-1" strike="noStrike">
                    <a:solidFill>
                      <a:srgbClr val="ffffff"/>
                    </a:solidFill>
                    <a:latin typeface="新細明體"/>
                    <a:ea typeface="新細明體"/>
                  </a:rPr>
                  <a:t>直接輸入帳目代碼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1" name="Rectangle 48"/>
            <p:cNvSpPr/>
            <p:nvPr/>
          </p:nvSpPr>
          <p:spPr>
            <a:xfrm>
              <a:off x="3066840" y="2535120"/>
              <a:ext cx="1573200" cy="277920"/>
            </a:xfrm>
            <a:prstGeom prst="rect">
              <a:avLst/>
            </a:prstGeom>
            <a:noFill/>
            <a:ln w="3816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Line 49"/>
            <p:cNvSpPr/>
            <p:nvPr/>
          </p:nvSpPr>
          <p:spPr>
            <a:xfrm>
              <a:off x="3295440" y="192564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83" name="Picture 1" descr=""/>
          <p:cNvPicPr/>
          <p:nvPr/>
        </p:nvPicPr>
        <p:blipFill>
          <a:blip r:embed="rId2"/>
          <a:stretch/>
        </p:blipFill>
        <p:spPr>
          <a:xfrm>
            <a:off x="1847880" y="2482920"/>
            <a:ext cx="762120" cy="17136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19"/>
          <p:cNvSpPr/>
          <p:nvPr/>
        </p:nvSpPr>
        <p:spPr>
          <a:xfrm>
            <a:off x="0" y="-1440"/>
            <a:ext cx="1919160" cy="141444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Rectangle 20"/>
          <p:cNvSpPr/>
          <p:nvPr/>
        </p:nvSpPr>
        <p:spPr>
          <a:xfrm>
            <a:off x="0" y="2100240"/>
            <a:ext cx="1919160" cy="449280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Rectangle 35"/>
          <p:cNvSpPr/>
          <p:nvPr/>
        </p:nvSpPr>
        <p:spPr>
          <a:xfrm>
            <a:off x="0" y="-1440"/>
            <a:ext cx="2362320" cy="533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SimSun"/>
              </a:rPr>
              <a:t>製作收入草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9"/>
          <p:cNvSpPr/>
          <p:nvPr/>
        </p:nvSpPr>
        <p:spPr>
          <a:xfrm>
            <a:off x="0" y="-1440"/>
            <a:ext cx="1919160" cy="141444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Rectangle 20"/>
          <p:cNvSpPr/>
          <p:nvPr/>
        </p:nvSpPr>
        <p:spPr>
          <a:xfrm>
            <a:off x="0" y="2100240"/>
            <a:ext cx="1919160" cy="449280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Rectangle 35"/>
          <p:cNvSpPr/>
          <p:nvPr/>
        </p:nvSpPr>
        <p:spPr>
          <a:xfrm>
            <a:off x="0" y="-1440"/>
            <a:ext cx="2362320" cy="533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SimSun"/>
              </a:rPr>
              <a:t>製作收入草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0" name="Group 48"/>
          <p:cNvGrpSpPr/>
          <p:nvPr/>
        </p:nvGrpSpPr>
        <p:grpSpPr>
          <a:xfrm>
            <a:off x="1992240" y="2997360"/>
            <a:ext cx="6654240" cy="2818800"/>
            <a:chOff x="1992240" y="2997360"/>
            <a:chExt cx="6654240" cy="2818800"/>
          </a:xfrm>
        </p:grpSpPr>
        <p:sp>
          <p:nvSpPr>
            <p:cNvPr id="191" name="Rectangle 24"/>
            <p:cNvSpPr/>
            <p:nvPr/>
          </p:nvSpPr>
          <p:spPr>
            <a:xfrm>
              <a:off x="4686840" y="3363840"/>
              <a:ext cx="3959640" cy="1088640"/>
            </a:xfrm>
            <a:prstGeom prst="rect">
              <a:avLst/>
            </a:prstGeom>
            <a:noFill/>
            <a:ln w="3816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92" name="Group 25"/>
            <p:cNvGrpSpPr/>
            <p:nvPr/>
          </p:nvGrpSpPr>
          <p:grpSpPr>
            <a:xfrm>
              <a:off x="1992240" y="4727520"/>
              <a:ext cx="4464000" cy="1088640"/>
              <a:chOff x="1992240" y="4727520"/>
              <a:chExt cx="4464000" cy="1088640"/>
            </a:xfrm>
          </p:grpSpPr>
          <p:sp>
            <p:nvSpPr>
              <p:cNvPr id="193" name="AutoShape 26"/>
              <p:cNvSpPr/>
              <p:nvPr/>
            </p:nvSpPr>
            <p:spPr>
              <a:xfrm>
                <a:off x="1993680" y="4727520"/>
                <a:ext cx="4462560" cy="1088640"/>
              </a:xfrm>
              <a:prstGeom prst="flowChartDocument">
                <a:avLst/>
              </a:prstGeom>
              <a:solidFill>
                <a:srgbClr val="33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Text Box 27"/>
              <p:cNvSpPr/>
              <p:nvPr/>
            </p:nvSpPr>
            <p:spPr>
              <a:xfrm>
                <a:off x="1992240" y="4727520"/>
                <a:ext cx="44629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zh-TW" sz="1600" spc="-1" strike="noStrike">
                    <a:solidFill>
                      <a:srgbClr val="ffffff"/>
                    </a:solidFill>
                    <a:latin typeface="Times New Roman"/>
                    <a:ea typeface="新細明體"/>
                  </a:rPr>
                  <a:t>選項 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Times New Roman"/>
                    <a:ea typeface="新細明體"/>
                  </a:rPr>
                  <a:t>A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Times New Roman"/>
                    <a:ea typeface="新細明體"/>
                  </a:rPr>
                  <a:t>：</a:t>
                </a:r>
                <a:r>
                  <a:rPr b="0" lang="zh-TW" sz="1600" spc="-1" strike="noStrike">
                    <a:solidFill>
                      <a:srgbClr val="ffffff"/>
                    </a:solidFill>
                    <a:latin typeface="Times New Roman"/>
                    <a:ea typeface="新細明體"/>
                  </a:rPr>
                  <a:t>從選單中選擇帳目代碼，並按 </a:t>
                </a:r>
                <a:r>
                  <a:rPr b="1" lang="zh-TW" sz="1600" spc="-1" strike="noStrike">
                    <a:solidFill>
                      <a:srgbClr val="ffffff"/>
                    </a:solidFill>
                    <a:latin typeface="Times New Roman"/>
                    <a:ea typeface="新細明體"/>
                  </a:rPr>
                  <a:t>[</a:t>
                </a:r>
                <a:r>
                  <a:rPr b="1" lang="zh-TW" sz="1600" spc="-1" strike="noStrike">
                    <a:solidFill>
                      <a:srgbClr val="ffffff"/>
                    </a:solidFill>
                    <a:latin typeface="Times New Roman"/>
                    <a:ea typeface="新細明體"/>
                  </a:rPr>
                  <a:t>選擇</a:t>
                </a:r>
                <a:r>
                  <a:rPr b="1" lang="zh-TW" sz="1600" spc="-1" strike="noStrike">
                    <a:solidFill>
                      <a:srgbClr val="ffffff"/>
                    </a:solidFill>
                    <a:latin typeface="Times New Roman"/>
                    <a:ea typeface="新細明體"/>
                  </a:rPr>
                  <a:t>] </a:t>
                </a:r>
                <a:r>
                  <a:rPr b="0" lang="zh-TW" sz="1600" spc="-1" strike="noStrike">
                    <a:solidFill>
                      <a:srgbClr val="ffffff"/>
                    </a:solidFill>
                    <a:latin typeface="Times New Roman"/>
                    <a:ea typeface="新細明體"/>
                  </a:rPr>
                  <a:t>按鈕。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5" name="Line 28"/>
            <p:cNvSpPr/>
            <p:nvPr/>
          </p:nvSpPr>
          <p:spPr>
            <a:xfrm flipV="1">
              <a:off x="4177800" y="3858840"/>
              <a:ext cx="464760" cy="86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Rectangle 29"/>
            <p:cNvSpPr/>
            <p:nvPr/>
          </p:nvSpPr>
          <p:spPr>
            <a:xfrm>
              <a:off x="1992240" y="2997360"/>
              <a:ext cx="557640" cy="304560"/>
            </a:xfrm>
            <a:prstGeom prst="rect">
              <a:avLst/>
            </a:prstGeom>
            <a:noFill/>
            <a:ln w="3816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Line 33"/>
            <p:cNvSpPr/>
            <p:nvPr/>
          </p:nvSpPr>
          <p:spPr>
            <a:xfrm flipH="1" flipV="1">
              <a:off x="2363400" y="3363480"/>
              <a:ext cx="299880" cy="136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8" name="Group 49"/>
          <p:cNvGrpSpPr/>
          <p:nvPr/>
        </p:nvGrpSpPr>
        <p:grpSpPr>
          <a:xfrm>
            <a:off x="2465280" y="689040"/>
            <a:ext cx="5059080" cy="1928520"/>
            <a:chOff x="2465280" y="689040"/>
            <a:chExt cx="5059080" cy="1928520"/>
          </a:xfrm>
        </p:grpSpPr>
        <p:sp>
          <p:nvSpPr>
            <p:cNvPr id="199" name="Line 45"/>
            <p:cNvSpPr/>
            <p:nvPr/>
          </p:nvSpPr>
          <p:spPr>
            <a:xfrm flipH="1">
              <a:off x="2465280" y="1339560"/>
              <a:ext cx="2922480" cy="89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Line 46"/>
            <p:cNvSpPr/>
            <p:nvPr/>
          </p:nvSpPr>
          <p:spPr>
            <a:xfrm flipH="1">
              <a:off x="5004000" y="1529640"/>
              <a:ext cx="383400" cy="108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01" name="Group 41"/>
            <p:cNvGrpSpPr/>
            <p:nvPr/>
          </p:nvGrpSpPr>
          <p:grpSpPr>
            <a:xfrm>
              <a:off x="5387760" y="689040"/>
              <a:ext cx="2136600" cy="1295280"/>
              <a:chOff x="5387760" y="689040"/>
              <a:chExt cx="2136600" cy="1295280"/>
            </a:xfrm>
          </p:grpSpPr>
          <p:sp>
            <p:nvSpPr>
              <p:cNvPr id="202" name="AutoShape 42"/>
              <p:cNvSpPr/>
              <p:nvPr/>
            </p:nvSpPr>
            <p:spPr>
              <a:xfrm>
                <a:off x="5387760" y="896760"/>
                <a:ext cx="2136600" cy="1087560"/>
              </a:xfrm>
              <a:prstGeom prst="flowChartDocument">
                <a:avLst/>
              </a:prstGeom>
              <a:solidFill>
                <a:srgbClr val="33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Text Box 43"/>
              <p:cNvSpPr/>
              <p:nvPr/>
            </p:nvSpPr>
            <p:spPr>
              <a:xfrm>
                <a:off x="5486760" y="689040"/>
                <a:ext cx="19195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zh-TW" sz="1600" spc="-1" strike="noStrike">
                    <a:solidFill>
                      <a:srgbClr val="ffffff"/>
                    </a:solidFill>
                    <a:latin typeface="Times New Roman"/>
                    <a:ea typeface="新細明體"/>
                  </a:rPr>
                  <a:t>選項 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Times New Roman"/>
                    <a:ea typeface="新細明體"/>
                  </a:rPr>
                  <a:t>B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Times New Roman"/>
                    <a:ea typeface="新細明體"/>
                  </a:rPr>
                  <a:t>：</a:t>
                </a:r>
                <a:r>
                  <a:rPr b="0" lang="zh-TW" sz="1600" spc="-1" strike="noStrike">
                    <a:solidFill>
                      <a:srgbClr val="ffffff"/>
                    </a:solidFill>
                    <a:latin typeface="Times New Roman"/>
                    <a:ea typeface="新細明體"/>
                  </a:rPr>
                  <a:t>從選單中選擇</a:t>
                </a:r>
                <a:r>
                  <a:rPr b="0" lang="zh-CN" sz="1600" spc="-1" strike="noStrike">
                    <a:solidFill>
                      <a:srgbClr val="ffffff"/>
                    </a:solidFill>
                    <a:latin typeface="Times New Roman"/>
                    <a:ea typeface="新細明體"/>
                  </a:rPr>
                  <a:t>常用</a:t>
                </a:r>
                <a:r>
                  <a:rPr b="0" lang="zh-TW" sz="1600" spc="-1" strike="noStrike">
                    <a:solidFill>
                      <a:srgbClr val="ffffff"/>
                    </a:solidFill>
                    <a:latin typeface="Times New Roman"/>
                    <a:ea typeface="新細明體"/>
                  </a:rPr>
                  <a:t>帳目代碼，並按 </a:t>
                </a:r>
                <a:r>
                  <a:rPr b="1" lang="zh-TW" sz="1600" spc="-1" strike="noStrike">
                    <a:solidFill>
                      <a:srgbClr val="ffffff"/>
                    </a:solidFill>
                    <a:latin typeface="Times New Roman"/>
                    <a:ea typeface="新細明體"/>
                  </a:rPr>
                  <a:t>[</a:t>
                </a:r>
                <a:r>
                  <a:rPr b="1" lang="zh-TW" sz="1600" spc="-1" strike="noStrike">
                    <a:solidFill>
                      <a:srgbClr val="ffffff"/>
                    </a:solidFill>
                    <a:latin typeface="Times New Roman"/>
                    <a:ea typeface="新細明體"/>
                  </a:rPr>
                  <a:t>複製</a:t>
                </a:r>
                <a:r>
                  <a:rPr b="1" lang="zh-TW" sz="1600" spc="-1" strike="noStrike">
                    <a:solidFill>
                      <a:srgbClr val="ffffff"/>
                    </a:solidFill>
                    <a:latin typeface="Times New Roman"/>
                    <a:ea typeface="新細明體"/>
                  </a:rPr>
                  <a:t>] </a:t>
                </a:r>
                <a:r>
                  <a:rPr b="0" lang="zh-TW" sz="1600" spc="-1" strike="noStrike">
                    <a:solidFill>
                      <a:srgbClr val="ffffff"/>
                    </a:solidFill>
                    <a:latin typeface="Times New Roman"/>
                    <a:ea typeface="新細明體"/>
                  </a:rPr>
                  <a:t>按鈕。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04" name="Group 37"/>
          <p:cNvGrpSpPr/>
          <p:nvPr/>
        </p:nvGrpSpPr>
        <p:grpSpPr>
          <a:xfrm>
            <a:off x="7624800" y="44280"/>
            <a:ext cx="3276720" cy="852480"/>
            <a:chOff x="7624800" y="44280"/>
            <a:chExt cx="3276720" cy="852480"/>
          </a:xfrm>
        </p:grpSpPr>
        <p:sp>
          <p:nvSpPr>
            <p:cNvPr id="205" name="AutoShape 38"/>
            <p:cNvSpPr/>
            <p:nvPr/>
          </p:nvSpPr>
          <p:spPr>
            <a:xfrm>
              <a:off x="7624800" y="44280"/>
              <a:ext cx="3276720" cy="85248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Text Box 39"/>
            <p:cNvSpPr/>
            <p:nvPr/>
          </p:nvSpPr>
          <p:spPr>
            <a:xfrm>
              <a:off x="7624800" y="44280"/>
              <a:ext cx="2362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第</a:t>
              </a:r>
              <a:r>
                <a:rPr b="0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4b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步：輸入帳目代碼：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方法</a:t>
              </a:r>
              <a:r>
                <a:rPr b="0" lang="zh-TW" sz="1600" spc="-1" strike="noStrike">
                  <a:solidFill>
                    <a:srgbClr val="ffffff"/>
                  </a:solidFill>
                  <a:latin typeface="Arial"/>
                  <a:ea typeface="新細明體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69600" y="6593040"/>
            <a:ext cx="438156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製作預算</a:t>
            </a:r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208" name="Group 18"/>
          <p:cNvGrpSpPr/>
          <p:nvPr/>
        </p:nvGrpSpPr>
        <p:grpSpPr>
          <a:xfrm>
            <a:off x="5715000" y="3352680"/>
            <a:ext cx="4572000" cy="1371600"/>
            <a:chOff x="5715000" y="3352680"/>
            <a:chExt cx="4572000" cy="1371600"/>
          </a:xfrm>
        </p:grpSpPr>
        <p:sp>
          <p:nvSpPr>
            <p:cNvPr id="209" name="AutoShape 19"/>
            <p:cNvSpPr/>
            <p:nvPr/>
          </p:nvSpPr>
          <p:spPr>
            <a:xfrm>
              <a:off x="5715000" y="3352680"/>
              <a:ext cx="4572000" cy="137160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Text Box 20"/>
            <p:cNvSpPr/>
            <p:nvPr/>
          </p:nvSpPr>
          <p:spPr>
            <a:xfrm>
              <a:off x="5715000" y="3352680"/>
              <a:ext cx="45720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第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5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步</a:t>
              </a:r>
              <a:r>
                <a:rPr b="0" lang="zh-TW" sz="16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：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輸入</a:t>
              </a:r>
              <a:r>
                <a:rPr b="1" lang="zh-TW" sz="16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[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帳目代碼</a:t>
              </a:r>
              <a:r>
                <a:rPr b="1" lang="zh-TW" sz="16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]</a:t>
              </a:r>
              <a:r>
                <a:rPr b="0" lang="zh-TW" sz="1600" spc="-1" strike="noStrike">
                  <a:solidFill>
                    <a:srgbClr val="ffffff"/>
                  </a:solidFill>
                  <a:latin typeface="Arial"/>
                  <a:ea typeface="新細明體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rebuchet MS"/>
                  <a:ea typeface="SimSun"/>
                </a:rPr>
                <a:t> 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若無法找到所需帳目代碼，按下 </a:t>
              </a:r>
              <a:r>
                <a:rPr b="1" lang="zh-TW" sz="16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[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帳目代碼表</a:t>
              </a:r>
              <a:r>
                <a:rPr b="1" lang="zh-TW" sz="16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]</a:t>
              </a:r>
              <a:r>
                <a:rPr b="0" lang="zh-TW" sz="16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 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按鈕以編修帳目代碼表。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1" name="Line 21"/>
          <p:cNvSpPr/>
          <p:nvPr/>
        </p:nvSpPr>
        <p:spPr>
          <a:xfrm flipV="1">
            <a:off x="6383160" y="1125000"/>
            <a:ext cx="398520" cy="222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Rectangle 22"/>
          <p:cNvSpPr/>
          <p:nvPr/>
        </p:nvSpPr>
        <p:spPr>
          <a:xfrm>
            <a:off x="6600960" y="836640"/>
            <a:ext cx="863640" cy="288720"/>
          </a:xfrm>
          <a:prstGeom prst="rect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Rectangle 19"/>
          <p:cNvSpPr/>
          <p:nvPr/>
        </p:nvSpPr>
        <p:spPr>
          <a:xfrm>
            <a:off x="0" y="-1440"/>
            <a:ext cx="1919160" cy="141444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20"/>
          <p:cNvSpPr/>
          <p:nvPr/>
        </p:nvSpPr>
        <p:spPr>
          <a:xfrm>
            <a:off x="0" y="2100240"/>
            <a:ext cx="1919160" cy="449280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ectangle 35"/>
          <p:cNvSpPr/>
          <p:nvPr/>
        </p:nvSpPr>
        <p:spPr>
          <a:xfrm>
            <a:off x="0" y="-1440"/>
            <a:ext cx="2362320" cy="533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SimSun"/>
              </a:rPr>
              <a:t>製作收入草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69600" y="6593040"/>
            <a:ext cx="438156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製作預算</a:t>
            </a:r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217" name="Group 1049"/>
          <p:cNvGrpSpPr/>
          <p:nvPr/>
        </p:nvGrpSpPr>
        <p:grpSpPr>
          <a:xfrm>
            <a:off x="1992240" y="981000"/>
            <a:ext cx="3429000" cy="3657600"/>
            <a:chOff x="1992240" y="981000"/>
            <a:chExt cx="3429000" cy="3657600"/>
          </a:xfrm>
        </p:grpSpPr>
        <p:sp>
          <p:nvSpPr>
            <p:cNvPr id="218" name="Rectangle 1050"/>
            <p:cNvSpPr/>
            <p:nvPr/>
          </p:nvSpPr>
          <p:spPr>
            <a:xfrm>
              <a:off x="2220840" y="981000"/>
              <a:ext cx="533520" cy="381240"/>
            </a:xfrm>
            <a:prstGeom prst="rect">
              <a:avLst/>
            </a:prstGeom>
            <a:noFill/>
            <a:ln w="3816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19" name="Group 1051"/>
            <p:cNvGrpSpPr/>
            <p:nvPr/>
          </p:nvGrpSpPr>
          <p:grpSpPr>
            <a:xfrm>
              <a:off x="1992240" y="3571920"/>
              <a:ext cx="3429000" cy="1066680"/>
              <a:chOff x="1992240" y="3571920"/>
              <a:chExt cx="3429000" cy="1066680"/>
            </a:xfrm>
          </p:grpSpPr>
          <p:sp>
            <p:nvSpPr>
              <p:cNvPr id="220" name="AutoShape 1052"/>
              <p:cNvSpPr/>
              <p:nvPr/>
            </p:nvSpPr>
            <p:spPr>
              <a:xfrm>
                <a:off x="1992240" y="3571920"/>
                <a:ext cx="3429000" cy="1066680"/>
              </a:xfrm>
              <a:prstGeom prst="flowChartDocument">
                <a:avLst/>
              </a:prstGeom>
              <a:solidFill>
                <a:srgbClr val="33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Text Box 1053"/>
              <p:cNvSpPr/>
              <p:nvPr/>
            </p:nvSpPr>
            <p:spPr>
              <a:xfrm>
                <a:off x="1992240" y="3571920"/>
                <a:ext cx="3429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zh-TW" sz="1600" spc="-1" strike="noStrike">
                    <a:solidFill>
                      <a:srgbClr val="ffffff"/>
                    </a:solidFill>
                    <a:latin typeface="新細明體"/>
                    <a:ea typeface="新細明體"/>
                  </a:rPr>
                  <a:t>第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Trebuchet MS"/>
                    <a:ea typeface="新細明體"/>
                  </a:rPr>
                  <a:t>6</a:t>
                </a:r>
                <a:r>
                  <a:rPr b="0" lang="zh-TW" sz="1600" spc="-1" strike="noStrike">
                    <a:solidFill>
                      <a:srgbClr val="ffffff"/>
                    </a:solidFill>
                    <a:latin typeface="新細明體"/>
                    <a:ea typeface="新細明體"/>
                  </a:rPr>
                  <a:t>步</a:t>
                </a:r>
                <a:r>
                  <a:rPr b="0" lang="zh-TW" sz="1600" spc="-1" strike="noStrike">
                    <a:solidFill>
                      <a:srgbClr val="ffffff"/>
                    </a:solidFill>
                    <a:latin typeface="Times New Roman"/>
                    <a:ea typeface="新細明體"/>
                  </a:rPr>
                  <a:t>：</a:t>
                </a:r>
                <a:r>
                  <a:rPr b="0" lang="zh-TW" sz="1600" spc="-1" strike="noStrike">
                    <a:solidFill>
                      <a:srgbClr val="ffffff"/>
                    </a:solidFill>
                    <a:latin typeface="新細明體"/>
                    <a:ea typeface="新細明體"/>
                  </a:rPr>
                  <a:t>顯示新開啟視窗。用戶可製作新帳目。</a:t>
                </a:r>
                <a:r>
                  <a:rPr b="0" lang="zh-CN" sz="1600" spc="-1" strike="noStrike">
                    <a:solidFill>
                      <a:srgbClr val="ffffff"/>
                    </a:solidFill>
                    <a:latin typeface="Trebuchet MS"/>
                    <a:ea typeface="新細明體"/>
                  </a:rPr>
                  <a:t> </a:t>
                </a:r>
                <a:r>
                  <a:rPr b="0" lang="zh-TW" sz="1600" spc="-1" strike="noStrike">
                    <a:solidFill>
                      <a:srgbClr val="ffffff"/>
                    </a:solidFill>
                    <a:latin typeface="Trebuchet MS"/>
                    <a:ea typeface="新細明體"/>
                  </a:rPr>
                  <a:t>完成後，用戶需關閉視窗。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2" name="Line 1054"/>
            <p:cNvSpPr/>
            <p:nvPr/>
          </p:nvSpPr>
          <p:spPr>
            <a:xfrm flipH="1" flipV="1">
              <a:off x="2496600" y="1362240"/>
              <a:ext cx="25740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3" name="Rectangle 19"/>
          <p:cNvSpPr/>
          <p:nvPr/>
        </p:nvSpPr>
        <p:spPr>
          <a:xfrm>
            <a:off x="0" y="-1440"/>
            <a:ext cx="1569960" cy="163008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Rectangle 20"/>
          <p:cNvSpPr/>
          <p:nvPr/>
        </p:nvSpPr>
        <p:spPr>
          <a:xfrm>
            <a:off x="0" y="2421000"/>
            <a:ext cx="1569960" cy="417204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Rectangle 35"/>
          <p:cNvSpPr/>
          <p:nvPr/>
        </p:nvSpPr>
        <p:spPr>
          <a:xfrm>
            <a:off x="0" y="-1440"/>
            <a:ext cx="2362320" cy="533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SimSun"/>
              </a:rPr>
              <a:t>製作收入草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69600" y="6593040"/>
            <a:ext cx="438156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製作預算</a:t>
            </a:r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7" name="Oval 8"/>
          <p:cNvSpPr/>
          <p:nvPr/>
        </p:nvSpPr>
        <p:spPr>
          <a:xfrm>
            <a:off x="2082960" y="800280"/>
            <a:ext cx="685800" cy="380880"/>
          </a:xfrm>
          <a:prstGeom prst="ellipse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Rectangle 10"/>
          <p:cNvSpPr/>
          <p:nvPr/>
        </p:nvSpPr>
        <p:spPr>
          <a:xfrm>
            <a:off x="9767880" y="2933640"/>
            <a:ext cx="1415880" cy="279360"/>
          </a:xfrm>
          <a:prstGeom prst="rect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9" name="Group 13"/>
          <p:cNvGrpSpPr/>
          <p:nvPr/>
        </p:nvGrpSpPr>
        <p:grpSpPr>
          <a:xfrm>
            <a:off x="5029200" y="3809880"/>
            <a:ext cx="5105160" cy="1981080"/>
            <a:chOff x="5029200" y="3809880"/>
            <a:chExt cx="5105160" cy="1981080"/>
          </a:xfrm>
        </p:grpSpPr>
        <p:sp>
          <p:nvSpPr>
            <p:cNvPr id="230" name="AutoShape 14"/>
            <p:cNvSpPr/>
            <p:nvPr/>
          </p:nvSpPr>
          <p:spPr>
            <a:xfrm>
              <a:off x="5029200" y="3809880"/>
              <a:ext cx="5105160" cy="198108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Text Box 15"/>
            <p:cNvSpPr/>
            <p:nvPr/>
          </p:nvSpPr>
          <p:spPr>
            <a:xfrm>
              <a:off x="5029200" y="3809880"/>
              <a:ext cx="510516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第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7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步</a:t>
              </a:r>
              <a:r>
                <a:rPr b="0" lang="zh-TW" sz="16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：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輸入 </a:t>
              </a:r>
              <a:r>
                <a:rPr b="1" lang="zh-TW" sz="16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[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預算金額</a:t>
              </a:r>
              <a:r>
                <a:rPr b="1" lang="zh-TW" sz="16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（用戶可按下 </a:t>
              </a:r>
              <a:r>
                <a:rPr b="1" lang="zh-TW" sz="16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[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新增行數</a:t>
              </a:r>
              <a:r>
                <a:rPr b="1" lang="zh-TW" sz="16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] 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按鈕以製作預算行）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（用戶可選擇 </a:t>
              </a:r>
              <a:r>
                <a:rPr b="1" lang="zh-TW" sz="16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[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帳目代碼</a:t>
              </a:r>
              <a:r>
                <a:rPr b="1" lang="zh-TW" sz="16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] 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旁之核取方塊以刪除預算行）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rebuchet MS"/>
                  <a:ea typeface="SimSun"/>
                </a:rPr>
                <a:t> 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第</a:t>
              </a:r>
              <a:r>
                <a:rPr b="0" lang="zh-TW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9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步</a:t>
              </a:r>
              <a:r>
                <a:rPr b="0" lang="zh-TW" sz="16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：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按下 </a:t>
              </a:r>
              <a:r>
                <a:rPr b="1" lang="zh-TW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[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儲存</a:t>
              </a:r>
              <a:r>
                <a:rPr b="1" lang="zh-TW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] 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按鈕</a:t>
              </a:r>
              <a:r>
                <a:rPr b="0" lang="zh-CN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2" name="Rectangle 19"/>
          <p:cNvSpPr/>
          <p:nvPr/>
        </p:nvSpPr>
        <p:spPr>
          <a:xfrm>
            <a:off x="0" y="-1440"/>
            <a:ext cx="1919160" cy="141444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20"/>
          <p:cNvSpPr/>
          <p:nvPr/>
        </p:nvSpPr>
        <p:spPr>
          <a:xfrm>
            <a:off x="0" y="2100240"/>
            <a:ext cx="1919160" cy="449280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35"/>
          <p:cNvSpPr/>
          <p:nvPr/>
        </p:nvSpPr>
        <p:spPr>
          <a:xfrm>
            <a:off x="0" y="-1440"/>
            <a:ext cx="2362320" cy="533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SimSun"/>
              </a:rPr>
              <a:t>製作收入草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9T07:55:27Z</dcterms:created>
  <dc:creator>Valued Sony Customer</dc:creator>
  <dc:description/>
  <dc:language>en-US</dc:language>
  <cp:lastModifiedBy>FUNG, Kam-kong Samuel</cp:lastModifiedBy>
  <dcterms:modified xsi:type="dcterms:W3CDTF">2024-10-28T04:28:01Z</dcterms:modified>
  <cp:revision>408</cp:revision>
  <dc:subject/>
  <dc:title>School Management</dc:title>
</cp:coreProperties>
</file>